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EB3C-2B97-4D27-9739-DF57CFD7A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FED2-92CF-4EC3-A896-6356E94D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39EC-EF4F-4D91-ACC7-B13DF515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8261-48E8-4E88-876A-08045F865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3925-E03F-4952-B6F2-69B8F852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B92B-B6ED-4BEB-96DE-78A78D75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DDBE-3920-4F8C-A3B0-16FFC69A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16F5-2002-48F6-AF61-141835FB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E374-3053-4CB7-AD45-0E19DE42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F829-76DC-4BCB-B47D-BF0C528B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B01B-1ACB-4173-8B9E-43FB967F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BA1F-5693-4D9F-93FD-B1D48DAB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9521-6BB7-4AEF-8260-4D84839051D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1-03-09T08:04:34Z</dcterms:modified>
  <cp:revision>22</cp:revision>
  <dc:subject/>
  <dc:title>슬라이드 1</dc:title>
</cp:coreProperties>
</file>