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5D1-BEDB-4AC8-8B62-CA0BEB7F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CF1-F420-4118-ADBA-E37C5625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1D6-B498-4D20-8B61-F08372FB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C30-47BB-41D9-A95C-9903BB09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0FD-739B-41A4-9269-D7B9FF5B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0CA-6DB3-4D4B-8224-33434CA2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020-A0F4-427B-A744-69A7BA34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902-90B1-41B1-84AF-BF78611A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F26-35E7-45ED-987C-8814BBF3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2DE-F52A-452E-91AC-742F3CE8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AA7-1CBC-4BCB-856C-55CEBDB1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DD4-B678-43A8-AF92-7BBCCCCA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0515-600F-4244-9CFB-E0928FC54C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8:04:34Z</dcterms:modified>
  <cp:revision>22</cp:revision>
  <dc:subject/>
  <dc:title>슬라이드 1</dc:title>
</cp:coreProperties>
</file>