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864-ACAD-4973-8ACC-F9F9D9EE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0BC-EDF3-41B6-BBA0-28228A1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1E8-769E-423B-84BE-285F1C29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FCE-D460-4339-A868-B34E5A3A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15F-9E0B-4A6A-987B-7D1DA8A6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5DB-1047-4F07-8589-866C0EEE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DFA-6A87-4FF5-96FD-6FBA48F4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26F-7F24-437D-87B9-5B0ABDB9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996-40F5-44A7-B281-753B90F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734-81D7-4A1B-B93D-6E80591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A43-1A75-4148-A637-C0B59D7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3E6-B991-42C9-A4A0-C28E9ED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FE114-CF0F-4CFB-98FA-E20E0B4F5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F4239-FBCC-4AF2-842F-1269F8E1044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7:29:36Z</dcterms:created>
  <dc:creator>최봉수</dc:creator>
  <dc:description/>
  <dc:language>en-US</dc:language>
  <cp:lastModifiedBy>군만두 맛있다</cp:lastModifiedBy>
  <dcterms:modified xsi:type="dcterms:W3CDTF">2023-07-12T04:08:16Z</dcterms:modified>
  <cp:revision>2</cp:revision>
  <dc:subject/>
  <dc:title>슬라이드 1</dc:title>
</cp:coreProperties>
</file>