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77A-71ED-457F-978E-C5CEA7CA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252-93E4-4A4B-840A-50D9F5E2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B53-9B1D-4E69-826D-4161D7FC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4E2-35F6-481A-BF72-62ED224D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960-C611-42CE-9960-B8EF6D63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8085-E694-46CF-BC97-9476CEA2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38B-AB62-43E9-94F0-6E3EB068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C7DD-EBC2-4548-A2FD-2FA96694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B3B-5A63-46F9-8ADD-F7BFDB3C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C67-42C2-4D13-A0EA-9389C7E2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3F9-4796-4DF4-A226-D01A1BDC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9C2-0465-4958-949D-22BF20D7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D2149-DA52-45C4-B90E-DCFB64AEF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B32ED-A7FB-4637-8816-BDC5CBBB720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7:29:36Z</dcterms:created>
  <dc:creator>최봉수</dc:creator>
  <dc:description/>
  <dc:language>en-US</dc:language>
  <cp:lastModifiedBy>군만두 맛있다</cp:lastModifiedBy>
  <dcterms:modified xsi:type="dcterms:W3CDTF">2023-07-12T04:08:16Z</dcterms:modified>
  <cp:revision>2</cp:revision>
  <dc:subject/>
  <dc:title>슬라이드 1</dc:title>
</cp:coreProperties>
</file>