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C34-5D37-485E-A204-F9FC1C1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E82-CB31-4E68-A6FD-94D8610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300-0231-49C1-8282-808D3640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C8C-CE75-4965-911A-B7191FBF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DE7-FBAE-4C15-BD5A-1ADB9F37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6AC-F10A-43BD-8451-F32E3FC8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D7A-C154-43D4-A703-2D2E96AE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8DC-9794-4DEC-9912-12B258F6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8D9-CCF4-40E8-A99B-13589C8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294-08DA-42DC-AC6F-94FEDB3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79A-3BC7-457C-B557-D1EFAD0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525-0F5E-42E4-B71E-D3DDF42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EAD08-1BDD-47D9-A72C-A742F6DAD9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1756C-A4FD-406D-9D25-B6DA82F1CEA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1:52:40Z</dcterms:created>
  <dc:creator>최봉수</dc:creator>
  <dc:description/>
  <dc:language>en-US</dc:language>
  <cp:lastModifiedBy>맛있다 군만두</cp:lastModifiedBy>
  <dcterms:modified xsi:type="dcterms:W3CDTF">2024-10-01T03:08:51Z</dcterms:modified>
  <cp:revision>3</cp:revision>
  <dc:subject/>
  <dc:title>슬라이드 1</dc:title>
</cp:coreProperties>
</file>