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586-ED18-40D4-BF88-7C31558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05-4CDB-4F3F-95F1-D0FD1BA6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29E-2DD2-406E-B22D-C90E6F02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E38-5742-416F-B1B1-C9BA3A4D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900-2ED4-4194-8061-EA4C670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876-C593-4B2F-809C-0B88C51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4B2-C213-4AFC-8D4C-4E07FE5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164-69BB-42A1-854E-FA73F20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8DB-81FD-4727-BB9E-31CB7C97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382-0B0E-460B-B5A4-40F9C910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708-DB58-4A8C-9038-4FCA00D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EB2-1858-41EB-8845-3096EB7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7ACB4-7A16-4550-8666-F866A6C0B4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2FA03-D3AD-46A9-8D6F-AB5E5CBA87F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1:52:40Z</dcterms:created>
  <dc:creator>최봉수</dc:creator>
  <dc:description/>
  <dc:language>en-US</dc:language>
  <cp:lastModifiedBy>맛있다 군만두</cp:lastModifiedBy>
  <dcterms:modified xsi:type="dcterms:W3CDTF">2024-10-01T03:08:51Z</dcterms:modified>
  <cp:revision>3</cp:revision>
  <dc:subject/>
  <dc:title>슬라이드 1</dc:title>
</cp:coreProperties>
</file>