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1F2-5DEC-4B07-BB0D-D54F3BFF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E02-60D8-4DD4-AFFF-EB73212A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562-EE46-4086-B068-5DD606AA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763-2A0E-439B-9266-8623DB48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E8A-6F81-4C11-B236-663D47B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899-81CC-4E2B-A63E-9E2CB05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F64-0247-4923-85F4-69CE0FC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75B-D963-4EFC-BE31-ABEA9F8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08-EA68-4872-99BB-1E55A97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361-A598-4878-9DC2-B2320FA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FFF-2225-4E36-9D7E-12EE45CE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777-9048-4B00-9C3D-39E8A8D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22A-7A04-4C5D-8DC9-3D783C47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1219320"/>
            <a:ext cx="64008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ngapa kita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r  -  Tefilath Hagah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ayer  Meditati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95280" y="685800"/>
          <a:ext cx="6782040" cy="4960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678204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3" descr="BS eagle raja-raja"/>
          <p:cNvPicPr/>
          <p:nvPr/>
        </p:nvPicPr>
        <p:blipFill>
          <a:blip r:embed="rId3"/>
          <a:stretch/>
        </p:blipFill>
        <p:spPr>
          <a:xfrm>
            <a:off x="990720" y="685800"/>
            <a:ext cx="2286000" cy="1717560"/>
          </a:xfrm>
          <a:prstGeom prst="rect">
            <a:avLst/>
          </a:prstGeom>
          <a:ln w="0">
            <a:noFill/>
          </a:ln>
        </p:spPr>
      </p:pic>
      <p:sp>
        <p:nvSpPr>
          <p:cNvPr id="64" name="Line 4"/>
          <p:cNvSpPr/>
          <p:nvPr/>
        </p:nvSpPr>
        <p:spPr>
          <a:xfrm>
            <a:off x="3048120" y="1295280"/>
            <a:ext cx="198108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g 7:9  and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alat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k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the best win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in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dow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for my Belo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smoothnes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flowing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softl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y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over the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l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of sleeping on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7090" r="0" b="9247"/>
          <a:stretch/>
        </p:blipFill>
        <p:spPr>
          <a:xfrm>
            <a:off x="457200" y="609480"/>
            <a:ext cx="8229600" cy="266724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133720" y="3733920"/>
            <a:ext cx="4724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d.Ag. 8 : 1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S Jantung 3"/>
          <p:cNvPicPr/>
          <p:nvPr/>
        </p:nvPicPr>
        <p:blipFill>
          <a:blip r:embed="rId1"/>
          <a:srcRect l="0" t="0" r="0" b="15000"/>
          <a:stretch/>
        </p:blipFill>
        <p:spPr>
          <a:xfrm>
            <a:off x="228600" y="1828800"/>
            <a:ext cx="480060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-------YH"/>
          <p:cNvPicPr/>
          <p:nvPr/>
        </p:nvPicPr>
        <p:blipFill>
          <a:blip r:embed="rId2"/>
          <a:stretch/>
        </p:blipFill>
        <p:spPr>
          <a:xfrm>
            <a:off x="5486400" y="380880"/>
            <a:ext cx="3171960" cy="3171960"/>
          </a:xfrm>
          <a:prstGeom prst="rect">
            <a:avLst/>
          </a:prstGeom>
          <a:ln w="0">
            <a:noFill/>
          </a:ln>
        </p:spPr>
      </p:pic>
      <p:sp>
        <p:nvSpPr>
          <p:cNvPr id="44" name="Line 4"/>
          <p:cNvSpPr/>
          <p:nvPr/>
        </p:nvSpPr>
        <p:spPr>
          <a:xfrm flipV="1">
            <a:off x="2819520" y="2590560"/>
            <a:ext cx="4038480" cy="1904760"/>
          </a:xfrm>
          <a:prstGeom prst="line">
            <a:avLst/>
          </a:prstGeom>
          <a:ln w="76320">
            <a:solidFill>
              <a:srgbClr val="cc00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457200" y="533520"/>
          <a:ext cx="8229600" cy="541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2296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ubuh Surgawi"/>
          <p:cNvPicPr/>
          <p:nvPr/>
        </p:nvPicPr>
        <p:blipFill>
          <a:blip r:embed="rId1"/>
          <a:srcRect l="10000" t="0" r="0" b="0"/>
          <a:stretch/>
        </p:blipFill>
        <p:spPr>
          <a:xfrm>
            <a:off x="990720" y="1397160"/>
            <a:ext cx="6629400" cy="406368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1600200" y="762120"/>
            <a:ext cx="137160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5638680" y="1600200"/>
            <a:ext cx="2362320" cy="1523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tbh surgawi - Jantung Rohani"/>
          <p:cNvPicPr/>
          <p:nvPr/>
        </p:nvPicPr>
        <p:blipFill>
          <a:blip r:embed="rId1"/>
          <a:srcRect l="1197" t="0" r="2551" b="0"/>
          <a:stretch/>
        </p:blipFill>
        <p:spPr>
          <a:xfrm>
            <a:off x="1596960" y="1371600"/>
            <a:ext cx="58676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S YH adlh Pusatnya"/>
          <p:cNvPicPr/>
          <p:nvPr/>
        </p:nvPicPr>
        <p:blipFill>
          <a:blip r:embed="rId1"/>
          <a:stretch/>
        </p:blipFill>
        <p:spPr>
          <a:xfrm>
            <a:off x="2286000" y="990720"/>
            <a:ext cx="4967280" cy="4600440"/>
          </a:xfrm>
          <a:prstGeom prst="rect">
            <a:avLst/>
          </a:prstGeom>
          <a:ln w="0">
            <a:noFill/>
          </a:ln>
        </p:spPr>
      </p:pic>
      <p:sp>
        <p:nvSpPr>
          <p:cNvPr id="53" name="Line 3"/>
          <p:cNvSpPr/>
          <p:nvPr/>
        </p:nvSpPr>
        <p:spPr>
          <a:xfrm>
            <a:off x="2971800" y="609480"/>
            <a:ext cx="1447920" cy="1295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447920" y="2514600"/>
            <a:ext cx="2286000" cy="2133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447920" y="2514600"/>
            <a:ext cx="160020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gat   1Kor. 15 : 45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’akharoon LeRuakh Me’khay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ubuh jasmani tubuh rohani"/>
          <p:cNvPicPr/>
          <p:nvPr/>
        </p:nvPicPr>
        <p:blipFill>
          <a:blip r:embed="rId1"/>
          <a:srcRect l="2551" t="0" r="1197" b="0"/>
          <a:stretch/>
        </p:blipFill>
        <p:spPr>
          <a:xfrm>
            <a:off x="2057400" y="1523880"/>
            <a:ext cx="4873680" cy="3375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1066680" y="5029200"/>
            <a:ext cx="6629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.. roh pemberi Kehidupan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mani Kesembuh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762120" y="990720"/>
            <a:ext cx="7848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2013 = ?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apa isi Agenda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Abba YAHVEH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untuk hidup ku ?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S eagle raja-raja"/>
          <p:cNvPicPr/>
          <p:nvPr/>
        </p:nvPicPr>
        <p:blipFill>
          <a:blip r:embed="rId1"/>
          <a:stretch/>
        </p:blipFill>
        <p:spPr>
          <a:xfrm>
            <a:off x="1523880" y="762120"/>
            <a:ext cx="62485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21:41:48Z</dcterms:created>
  <dc:creator>Personal</dc:creator>
  <dc:description/>
  <dc:language>en-US</dc:language>
  <cp:lastModifiedBy>Grace Wijaya</cp:lastModifiedBy>
  <dcterms:modified xsi:type="dcterms:W3CDTF">2013-01-13T17:01:40Z</dcterms:modified>
  <cp:revision>32</cp:revision>
  <dc:subject/>
  <dc:title>MIDA  k’neged  mida</dc:title>
</cp:coreProperties>
</file>