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52D-0175-4129-80D9-6CBA127EE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F2DE-AA8F-4538-A04D-7FF9F791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D42-E408-4E4B-8F6D-E7F11E7E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31D-6D0A-416C-ABB4-6B47CA3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375-931E-4EC9-9E96-7767990B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097-7878-401D-9BCE-9D04459E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B03-96A0-43C8-86DB-15397CC0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D93-6D84-4409-88DB-FF34293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ED4-E80C-45F9-9621-B082FC58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8B2-AB03-49B6-B01F-46AF6A90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C408-995D-4F3F-A668-0A98EE1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50B-73B5-4B71-A8B8-F85A7553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DD8D-7589-4526-BBFA-C3180FE52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00200" y="1219320"/>
            <a:ext cx="640080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engapa kita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er  -  Tefilath Hagah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rayer  Meditatio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95280" y="685800"/>
          <a:ext cx="6782040" cy="49608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85800"/>
                    <a:ext cx="6782040" cy="49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3" descr="BS eagle raja-raja"/>
          <p:cNvPicPr/>
          <p:nvPr/>
        </p:nvPicPr>
        <p:blipFill>
          <a:blip r:embed="rId3"/>
          <a:stretch/>
        </p:blipFill>
        <p:spPr>
          <a:xfrm>
            <a:off x="990720" y="685800"/>
            <a:ext cx="2286000" cy="1717560"/>
          </a:xfrm>
          <a:prstGeom prst="rect">
            <a:avLst/>
          </a:prstGeom>
          <a:ln w="0">
            <a:noFill/>
          </a:ln>
        </p:spPr>
      </p:pic>
      <p:sp>
        <p:nvSpPr>
          <p:cNvPr id="64" name="Line 4"/>
          <p:cNvSpPr/>
          <p:nvPr/>
        </p:nvSpPr>
        <p:spPr>
          <a:xfrm>
            <a:off x="3048120" y="1295280"/>
            <a:ext cx="1981080" cy="762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380880"/>
            <a:ext cx="8458200" cy="464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g 7:9  and 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 Black"/>
              </a:rPr>
              <a:t>alat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ke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 Black"/>
              </a:rPr>
              <a:t>the best win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oin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 Black"/>
              </a:rPr>
              <a:t>dow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for my Belov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i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smoothnes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flowing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 Black"/>
              </a:rPr>
              <a:t>softl</a:t>
            </a: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y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 Black"/>
              </a:rPr>
              <a:t>over the</a:t>
            </a: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 li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 Black"/>
              </a:rPr>
              <a:t>of sleeping one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0" t="7090" r="0" b="9247"/>
          <a:stretch/>
        </p:blipFill>
        <p:spPr>
          <a:xfrm>
            <a:off x="457200" y="609480"/>
            <a:ext cx="8229600" cy="266724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133720" y="3733920"/>
            <a:ext cx="4724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id.Ag. 8 : 1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BS Jantung 3"/>
          <p:cNvPicPr/>
          <p:nvPr/>
        </p:nvPicPr>
        <p:blipFill>
          <a:blip r:embed="rId1"/>
          <a:srcRect l="0" t="0" r="0" b="15000"/>
          <a:stretch/>
        </p:blipFill>
        <p:spPr>
          <a:xfrm>
            <a:off x="228600" y="1828800"/>
            <a:ext cx="480060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-------YH"/>
          <p:cNvPicPr/>
          <p:nvPr/>
        </p:nvPicPr>
        <p:blipFill>
          <a:blip r:embed="rId2"/>
          <a:stretch/>
        </p:blipFill>
        <p:spPr>
          <a:xfrm>
            <a:off x="5486400" y="380880"/>
            <a:ext cx="3171960" cy="3171960"/>
          </a:xfrm>
          <a:prstGeom prst="rect">
            <a:avLst/>
          </a:prstGeom>
          <a:ln w="0">
            <a:noFill/>
          </a:ln>
        </p:spPr>
      </p:pic>
      <p:sp>
        <p:nvSpPr>
          <p:cNvPr id="44" name="Line 4"/>
          <p:cNvSpPr/>
          <p:nvPr/>
        </p:nvSpPr>
        <p:spPr>
          <a:xfrm flipV="1">
            <a:off x="2819520" y="2590560"/>
            <a:ext cx="4038480" cy="1904760"/>
          </a:xfrm>
          <a:prstGeom prst="line">
            <a:avLst/>
          </a:prstGeom>
          <a:ln w="76320">
            <a:solidFill>
              <a:srgbClr val="cc00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457200" y="533520"/>
          <a:ext cx="8229600" cy="541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2296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ubuh Surgawi"/>
          <p:cNvPicPr/>
          <p:nvPr/>
        </p:nvPicPr>
        <p:blipFill>
          <a:blip r:embed="rId1"/>
          <a:srcRect l="10000" t="0" r="0" b="0"/>
          <a:stretch/>
        </p:blipFill>
        <p:spPr>
          <a:xfrm>
            <a:off x="990720" y="1397160"/>
            <a:ext cx="6629400" cy="406368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1600200" y="762120"/>
            <a:ext cx="137160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5638680" y="1600200"/>
            <a:ext cx="2362320" cy="1523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tbh surgawi - Jantung Rohani"/>
          <p:cNvPicPr/>
          <p:nvPr/>
        </p:nvPicPr>
        <p:blipFill>
          <a:blip r:embed="rId1"/>
          <a:srcRect l="1197" t="0" r="2551" b="0"/>
          <a:stretch/>
        </p:blipFill>
        <p:spPr>
          <a:xfrm>
            <a:off x="1596960" y="1371600"/>
            <a:ext cx="58676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BS YH adlh Pusatnya"/>
          <p:cNvPicPr/>
          <p:nvPr/>
        </p:nvPicPr>
        <p:blipFill>
          <a:blip r:embed="rId1"/>
          <a:stretch/>
        </p:blipFill>
        <p:spPr>
          <a:xfrm>
            <a:off x="2286000" y="990720"/>
            <a:ext cx="4967280" cy="4600440"/>
          </a:xfrm>
          <a:prstGeom prst="rect">
            <a:avLst/>
          </a:prstGeom>
          <a:ln w="0">
            <a:noFill/>
          </a:ln>
        </p:spPr>
      </p:pic>
      <p:sp>
        <p:nvSpPr>
          <p:cNvPr id="53" name="Line 3"/>
          <p:cNvSpPr/>
          <p:nvPr/>
        </p:nvSpPr>
        <p:spPr>
          <a:xfrm>
            <a:off x="2971800" y="609480"/>
            <a:ext cx="1447920" cy="12956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447920" y="2514600"/>
            <a:ext cx="2286000" cy="2133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447920" y="2514600"/>
            <a:ext cx="160020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gat   1Kor. 15 : 45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’akharoon LeRuakh Me’khay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tubuh jasmani tubuh rohani"/>
          <p:cNvPicPr/>
          <p:nvPr/>
        </p:nvPicPr>
        <p:blipFill>
          <a:blip r:embed="rId1"/>
          <a:srcRect l="2551" t="0" r="1197" b="0"/>
          <a:stretch/>
        </p:blipFill>
        <p:spPr>
          <a:xfrm>
            <a:off x="2057400" y="1523880"/>
            <a:ext cx="4873680" cy="3375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4"/>
          <p:cNvSpPr txBox="1"/>
          <p:nvPr/>
        </p:nvSpPr>
        <p:spPr>
          <a:xfrm>
            <a:off x="1066680" y="5029200"/>
            <a:ext cx="6629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.. roh pemberi Kehidupan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mani Kesembuh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762120" y="990720"/>
            <a:ext cx="7848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2013 = ?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apa isi Agenda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Abba YAHVEH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untuk hidup ku ?</a:t>
            </a:r>
            <a:endParaRPr b="1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BS eagle raja-raja"/>
          <p:cNvPicPr/>
          <p:nvPr/>
        </p:nvPicPr>
        <p:blipFill>
          <a:blip r:embed="rId1"/>
          <a:stretch/>
        </p:blipFill>
        <p:spPr>
          <a:xfrm>
            <a:off x="1523880" y="762120"/>
            <a:ext cx="624852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21:41:48Z</dcterms:created>
  <dc:creator>Personal</dc:creator>
  <dc:description/>
  <dc:language>en-US</dc:language>
  <cp:lastModifiedBy>Grace Wijaya</cp:lastModifiedBy>
  <dcterms:modified xsi:type="dcterms:W3CDTF">2013-01-13T17:01:40Z</dcterms:modified>
  <cp:revision>32</cp:revision>
  <dc:subject/>
  <dc:title>MIDA  k’neged  mida</dc:title>
</cp:coreProperties>
</file>