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70B-304A-45D3-AFF2-52E77FD1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6B4-BE67-4AB7-8BE6-C8D4354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A7D-3A6B-4E26-AD5A-503F4392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938-D93B-4542-BAF6-7612FE62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BE5-B506-4316-92D6-C206F4E6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F4B-CDD8-4E8E-AE61-0B5372DE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322-F048-48F7-B9D1-4FCF9DF9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965-9F1C-4FA2-887F-EEF253C2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9EB-738A-445E-B0B5-6BBBA48A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3AB-9C91-4B86-96CF-0BE463AE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CB6-516D-4BF8-9CE6-96CC087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C5B-AA08-4E0E-97F9-2AEFE370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DAEF9-07FF-4DEF-81DD-F9C68D38D0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8E69F-37F9-408B-A6F2-6C69A114FF6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5:48:05Z</dcterms:created>
  <dc:creator>최봉수</dc:creator>
  <dc:description/>
  <dc:language>en-US</dc:language>
  <cp:lastModifiedBy>맛있다 군만두</cp:lastModifiedBy>
  <dcterms:modified xsi:type="dcterms:W3CDTF">2024-10-01T02:44:31Z</dcterms:modified>
  <cp:revision>3</cp:revision>
  <dc:subject/>
  <dc:title>슬라이드 1</dc:title>
</cp:coreProperties>
</file>