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75F-4E10-4E18-B956-6624F297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DBF-35A9-4E12-A416-E5980258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17F-5932-4578-A016-F69A41B4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BE9-577D-41B3-B330-C2678CC0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678-F474-4DC6-AC57-72A498DD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9E3-B1D8-4D01-80FE-9C2E78A7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E70-C38D-498D-95ED-A2690323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CBB-CD83-4BA8-8DB6-1E04A047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430-C8C7-446D-B112-F2EB64B6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00C-0DF1-4AF1-B729-F9237E02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25A-8E72-45D1-A520-EF1E1611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DB4-AFB3-4764-8400-E7082FFA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C7EB5-3E26-4AFF-86DD-7F4541D372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A9AFC-B61E-4FE9-86CA-E8F5DB6E9EC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5:48:05Z</dcterms:created>
  <dc:creator>최봉수</dc:creator>
  <dc:description/>
  <dc:language>en-US</dc:language>
  <cp:lastModifiedBy>맛있다 군만두</cp:lastModifiedBy>
  <dcterms:modified xsi:type="dcterms:W3CDTF">2024-10-01T02:44:31Z</dcterms:modified>
  <cp:revision>3</cp:revision>
  <dc:subject/>
  <dc:title>슬라이드 1</dc:title>
</cp:coreProperties>
</file>