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1C8-077D-48C4-AE5E-08ADF222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16F-A96A-4A20-8530-A847D78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4B0-2645-4D36-9561-530C526D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F1A-FC70-41FF-ABE7-A1BC6675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8579D-F5ED-4698-8F8A-4465B42D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08EB-62BA-4056-9F25-32E448D7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B641A-8338-4575-AE50-8D75031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2AB9A-71A0-4FB4-9089-8A25016F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4224-5197-4D8F-92AC-F2FAFDF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3245C-D109-46FF-8E88-4E542D6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A78BE-12C5-4857-A587-C996475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E7F-BAD2-4F38-B36B-55BDC3A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63217-0045-48AB-AC59-74960699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4C23E-D495-4551-A927-996A5BE1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04BF6-5947-4875-AB10-A033C97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FB4A2-C353-40BA-A491-FA326652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C581-DA13-4756-9DC9-39C81A0A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272-5B8A-4BED-8AF0-56837AB3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88E-7BCA-4F14-A4C6-0C18777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321-7EC7-44DC-AFED-3101817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D80-47E4-4728-96C2-C91B1F3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2E0-EEE6-4FD3-B1ED-9CC03F3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3E3-6E9D-4048-A51B-49D9A9E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A58-5E75-486C-AE24-E242C61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BC5-C5DF-499E-92A0-5FED7A7B9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5AC-0BDE-424C-A824-DEDCF182C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b3.msu.ac.th/patroninfo~S0*thx/0/redirect=/search~S0*thx?/t%7B717%7D%7B722%7D%7B715%7D%7B722%7D%7B707%7D/t%7Ccdd2cbd2c3/1%2C496%2C587%2CB/frameset&amp;FF=t%7Ccdd2cbd2c3+%26+cad8a2c0d2be&amp;1%2C1%2C" TargetMode="External"/><Relationship Id="rId2" Type="http://schemas.openxmlformats.org/officeDocument/2006/relationships/hyperlink" Target="http://lib3.msu.ac.th/search~S0*thx?/t%7B717%7D%7B722%7D%7B715%7D%7B722%7D%7B707%7D/t%7Ccdd2cbd2c3/1%2C496%2C587%2CB/bibimage&amp;FF=t%7Ccdd2cbd2c3+%26+cad8a2c0d2be&amp;1%2C1%2C" TargetMode="External"/><Relationship Id="rId3" Type="http://schemas.openxmlformats.org/officeDocument/2006/relationships/hyperlink" Target="http://lib3.msu.ac.th/search~S0*thx?/c641.302+&#3629;63&#3629;/c641.302+cd63cd/-3,-1,,E/browse" TargetMode="External"/><Relationship Id="rId4" Type="http://schemas.openxmlformats.org/officeDocument/2006/relationships/hyperlink" Target="http://lib3.msu.ac.th/search~S0*thx?/c641.302+&#3629;63&#3629;/c641.302+cd63cd/-3,-1,,E/browse" TargetMode="External"/><Relationship Id="rId5" Type="http://schemas.openxmlformats.org/officeDocument/2006/relationships/hyperlink" Target="http://lib3.msu.ac.th/search~S0*thx?/c641.302+&#3629;63&#3629;/c641.302+cd63cd/-3,-1,,E/browse" TargetMode="External"/><Relationship Id="rId6" Type="http://schemas.openxmlformats.org/officeDocument/2006/relationships/hyperlink" Target="http://lib3.msu.ac.th/search~S0*thx?/c641.302+&#3629;63&#3629;/c641.302+cd63cd/-3,-1,,E/browse" TargetMode="External"/><Relationship Id="rId7" Type="http://schemas.openxmlformats.org/officeDocument/2006/relationships/hyperlink" Target="http://lib3.msu.ac.th/search~S0*thx/d%7B717%7D%7B722%7D%7B715%7D%7B722%7D%7B707%7D%7B736%7D%7B702%7D%7B727%7D%7B744%7D%7B717%7D/d%7Ccdd2cbd2c3bee0d7e8cdcad8a2c0d2be/-3,-1,0,B/browse" TargetMode="External"/><Relationship Id="rId8" Type="http://schemas.openxmlformats.org/officeDocument/2006/relationships/hyperlink" Target="http://lib3.msu.ac.th/search~S0*thx/d%7B738%7D%7B704%7D%7B682%7D%7B697%7D%7B722%7D%7B673%7D%7B722%7D%7B707%7D/d%7Cc0e2aab9d2a1d2c3/-3,-1,0,B/browse" TargetMode="External"/><Relationship Id="rId9" Type="http://schemas.openxmlformats.org/officeDocument/2006/relationships/hyperlink" Target="http://lib3.msu.ac.th/search~S0*thx/d%7B714%7D%7B728%7D%7B674%7D%7B704%7D%7B722%7D%7B702%7D+--+%7B737%7D%7B679%7D%7B744%7D/d%7Ccad8a2c0d2be+a7e1e8c0e2aab9d2a1d2c3/-3,-1,0,B/browse" TargetMode="External"/><Relationship Id="rId10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1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2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3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4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5" Type="http://schemas.openxmlformats.org/officeDocument/2006/relationships/hyperlink" Target="http://lib3.msu.ac.th/search~S0*thx/a%7B682%7D%7B697%7D%7B724%7D%7B692%7D%7B722%7D+%7B699%7D%7B738%7D%7B682%7D%7B693%7D/a%7Caab9d4b4d2+bbaae2b5d4a1d2c3/-3,-1,0,B/browse" TargetMode="External"/><Relationship Id="rId16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7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8" Type="http://schemas.openxmlformats.org/officeDocument/2006/relationships/hyperlink" Target="http://lib3.msu.ac.th/search~S0*thx/a%7B712%7D%7B721%7D%7B709%7D%7B706%7D%7B722%7D+%7B676%7D%7B679%7D%7B714%7D%7B705%7D/a%7Cc8d1c5c2d2+a4a7cac1bad9c3b3ecc7e0aa/-3,-1,0,B/browse" TargetMode="External"/><Relationship Id="rId19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0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1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2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3" Type="http://schemas.openxmlformats.org/officeDocument/2006/relationships/hyperlink" Target="http://lib3.msu.ac.th/search~S0*thx/a%7B717%7D%7B704%7D%7B724%7D%7B714%7D%7B724%7D%7B695%7D%7B696%7D%7B724%7D%7B748%7D+/a%7Ccdc0d4cad4b7b8d4ec+a9d1b5c3b7b9d2b9b9b7ec/-3,-1,0,B/browse" TargetMode="External"/><Relationship Id="rId2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702%7D%7B707%7D%7B702%7D%7B707%7D%7B707%7D%7B691%7D+%7B736%7D%7B717%7D%7B673%7D/a%7Cbec3bec3c3b3+cde0a1bce0e8d2bed1b9b8d8ec/-3,-1,0,B/browse" TargetMode="External"/><Relationship Id="rId2" Type="http://schemas.openxmlformats.org/officeDocument/2006/relationships/hyperlink" Target="http://lib3.msu.ac.th/patroninfo~S0*thx/0/redirect=/search~S0*thx?/t%7B698%7D%7B721%7D%7B685%7D%7B682%7D%7B725%7D/t%7Cbad1adaad5/1%2C28%2C32%2CB/frameset&amp;FF=t%7Cbad1adaad5a1cda7b7d8b9&amp;1%2C1%2C/indexsort=-" TargetMode="External"/><Relationship Id="rId3" Type="http://schemas.openxmlformats.org/officeDocument/2006/relationships/hyperlink" Target="http://lib3.msu.ac.th/search~S0*thx?/t%7B698%7D%7B721%7D%7B685%7D%7B682%7D%7B725%7D/t%7Cbad1adaad5/1%2C28%2C32%2CB/bibimage&amp;FF=t%7Cbad1adaad5a1cda7b7d8b9&amp;1%2C1%2C/indexsort=-" TargetMode="External"/><Relationship Id="rId4" Type="http://schemas.openxmlformats.org/officeDocument/2006/relationships/hyperlink" Target="http://lib3.msu.ac.th/search~S0*thx?/c657+&#3614;44&#3610;/c657+be44ba/-3,-1,,E/browse" TargetMode="External"/><Relationship Id="rId5" Type="http://schemas.openxmlformats.org/officeDocument/2006/relationships/hyperlink" Target="http://lib3.msu.ac.th/search~S0*thx?/c657+&#3614;44&#3610;/c657+be44ba/-3,-1,,E/browse" TargetMode="External"/><Relationship Id="rId6" Type="http://schemas.openxmlformats.org/officeDocument/2006/relationships/hyperlink" Target="http://lib3.msu.ac.th/search~S0*thx?/c657+&#3614;44&#3610;/c657+be44ba/-3,-1,,E/browse" TargetMode="External"/><Relationship Id="rId7" Type="http://schemas.openxmlformats.org/officeDocument/2006/relationships/hyperlink" Target="http://lib3.msu.ac.th/search~S0*thx?/c657+&#3614;44&#3610;/c657+be44ba/-3,-1,,E/browse" TargetMode="External"/><Relationship Id="rId8" Type="http://schemas.openxmlformats.org/officeDocument/2006/relationships/hyperlink" Target="http://lib3.msu.ac.th/search~S0*thx?/c657+&#3614;44&#3610;/c657+be44ba/-3,-1,,E/browse" TargetMode="External"/><Relationship Id="rId9" Type="http://schemas.openxmlformats.org/officeDocument/2006/relationships/hyperlink" Target="http://lib3.msu.ac.th/search~S0*thx?/c657+&#3614;44&#3610;/c657+be44ba/-3,-1,,E/browse" TargetMode="External"/><Relationship Id="rId10" Type="http://schemas.openxmlformats.org/officeDocument/2006/relationships/hyperlink" Target="http://lib3.msu.ac.th/search~S0*thx?/c657+&#3614;44&#3610;/c657+be44ba/-3,-1,,E/browse" TargetMode="External"/><Relationship Id="rId11" Type="http://schemas.openxmlformats.org/officeDocument/2006/relationships/hyperlink" Target="http://lib3.msu.ac.th/search~S0*thx?/c657+&#3614;44&#3610;/c657+be44ba/-3,-1,,E/browse" TargetMode="External"/><Relationship Id="rId12" Type="http://schemas.openxmlformats.org/officeDocument/2006/relationships/hyperlink" Target="http://lib3.msu.ac.th/search~S0*thx?/c657+&#3614;44&#3610;/c657+be44ba/-3,-1,,E/browse" TargetMode="External"/><Relationship Id="rId13" Type="http://schemas.openxmlformats.org/officeDocument/2006/relationships/hyperlink" Target="http://lib3.msu.ac.th/search~S0*thx?/c657+&#3614;44&#3610;/c657+be44ba/-3,-1,,E/browse" TargetMode="External"/><Relationship Id="rId14" Type="http://schemas.openxmlformats.org/officeDocument/2006/relationships/hyperlink" Target="http://lib3.msu.ac.th/search~S0*thx?/c657+&#3614;44&#3610;/c657+be44ba/-3,-1,,E/browse" TargetMode="External"/><Relationship Id="rId15" Type="http://schemas.openxmlformats.org/officeDocument/2006/relationships/hyperlink" Target="http://lib3.msu.ac.th/search~S0*thx?/c657+&#3614;44&#3610;/c657+be44ba/-3,-1,,E/browse" TargetMode="External"/><Relationship Id="rId16" Type="http://schemas.openxmlformats.org/officeDocument/2006/relationships/hyperlink" Target="http://lib3.msu.ac.th/search~S0*thx?/c657+&#3614;44&#3610;/c657+be44ba/-3,-1,,E/browse" TargetMode="External"/><Relationship Id="rId17" Type="http://schemas.openxmlformats.org/officeDocument/2006/relationships/hyperlink" Target="http://lib3.msu.ac.th/search~S0*thx?/c657+&#3614;44&#3610;/c657+be44ba/-3,-1,,E/browse" TargetMode="External"/><Relationship Id="rId18" Type="http://schemas.openxmlformats.org/officeDocument/2006/relationships/hyperlink" Target="http://lib3.msu.ac.th/search~S0*thx?/c657+&#3614;44&#3610;/c657+be44ba/-3,-1,,E/browse" TargetMode="External"/><Relationship Id="rId19" Type="http://schemas.openxmlformats.org/officeDocument/2006/relationships/hyperlink" Target="http://lib3.msu.ac.th/search~S0*thx?/c657+&#3614;44&#3610;/c657+be44ba/-3,-1,,E/browse" TargetMode="External"/><Relationship Id="rId20" Type="http://schemas.openxmlformats.org/officeDocument/2006/relationships/hyperlink" Target="http://lib3.msu.ac.th/search~S0*thx/d%7B673%7D%7B722%7D%7B707%7D%7B698%7D%7B721%7D%7B685%7D%7B682%7D%7B725%7D/d%7Ca1d2c3bad1adaad5/-3,-1,0,B/browse" TargetMode="External"/><Relationship Id="rId21" Type="http://schemas.openxmlformats.org/officeDocument/2006/relationships/hyperlink" Target="http://lib3.msu.ac.th/search~S0*thx/d%7B679%7D%7B698%7D%7B699%7D%7B707%7D%7B720%7D%7B705%7D%7B722%7D%7B691%7D/d%7Ca7babbc3d0c1d2b3/-3,-1,0,B/browse" TargetMode="External"/><Relationship Id="rId2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736%7D%7B712%7D%7B707%7D%7B713%7D%7B688%7D%7B714%7D%7B706%7D%7B722%7D%7B705%7D/a%7Cc8e0c3c9b0cac2d2c1/-3,-1,0,B/browse" TargetMode="External"/><Relationship Id="rId2" Type="http://schemas.openxmlformats.org/officeDocument/2006/relationships/hyperlink" Target="http://lib3.msu.ac.th/search~S0*thx/a%7B736%7D%7B712%7D%7B707%7D%7B713%7D%7B688%7D%7B714%7D%7B706%7D%7B722%7D%7B705%7D/a%7Cc8e0c3c9b0cac2d2c1/-3,-1,0,B/browse" TargetMode="External"/><Relationship Id="rId3" Type="http://schemas.openxmlformats.org/officeDocument/2006/relationships/hyperlink" Target="http://lib3.msu.ac.th/patroninfo~S0*thx/0/redirect=/search~S0*thx?/t%7B736%7D%7B712%7D%7B707%7D%7B713%7D%7B688%7D%7B712%7D%7B722%7D%7B714%7D%7B693%7D%7B707%7D%7B748%7D/t%7Cc8e0c3c9b0c8d2cab5c3ec/1%2C211%2C324%2CB/frameset&amp;FF=t%7Cc8e0c3c9b0c8d2cab5c3ec+a1d2c3c1e0d7cda7+cdd1b9b4d1bab7d5e8++++2&amp;1%2C1%2C/indexsort=-" TargetMode="External"/><Relationship Id="rId4" Type="http://schemas.openxmlformats.org/officeDocument/2006/relationships/hyperlink" Target="http://lib3.msu.ac.th/search~S0*thx?/c330.9593+&#3624;84&#3619;/c330.9593+c884c3/-3,-1,,E/browse" TargetMode="External"/><Relationship Id="rId5" Type="http://schemas.openxmlformats.org/officeDocument/2006/relationships/hyperlink" Target="http://lib3.msu.ac.th/search~S0*thx?/c330.9593+&#3624;84&#3619;/c330.9593+c884c3/-3,-1,,E/browse" TargetMode="External"/><Relationship Id="rId6" Type="http://schemas.openxmlformats.org/officeDocument/2006/relationships/hyperlink" Target="http://lib3.msu.ac.th/search~S0*thx?/c330.9593+&#3624;84&#3619;/c330.9593+c884c3/-3,-1,,E/browse" TargetMode="External"/><Relationship Id="rId7" Type="http://schemas.openxmlformats.org/officeDocument/2006/relationships/hyperlink" Target="http://lib3.msu.ac.th/search~S0*thx?/c330.9593+&#3624;84&#3619;/c330.9593+c884c3/-3,-1,,E/browse" TargetMode="External"/><Relationship Id="rId8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9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0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1" Type="http://schemas.openxmlformats.org/officeDocument/2006/relationships/hyperlink" Target="http://lib3.msu.ac.th/search~S0*thx/t%7B736%7D%7B712%7D%7B707%7D%7B713%7D%7B688%7D%7B712%7D%7B722%7D%7B714%7D%7B693%7D%7B707%7D/t%7Cc8e0c3c9b0c8d2cab5c3ec+a1d2c3c1e0d7cda7+cdd1b9b4d1bab7d5e8++++2/-3,-1,0,B/browse" TargetMode="External"/><Relationship Id="rId12" Type="http://schemas.openxmlformats.org/officeDocument/2006/relationships/hyperlink" Target="http://lib3.msu.ac.th/search~S0*thx/d%7B740%7D%7B695%7D%7B706%7D+--+%7B704%7D%7B722%7D%7B711%7D%7B720%7D%7B736%7D%7B712%7D/d%7Cb7e4c2+c0d2c7d0c8e0c3c9b0a1d4a8/-3,-1,0,B/browse" TargetMode="External"/><Relationship Id="rId13" Type="http://schemas.openxmlformats.org/officeDocument/2006/relationships/hyperlink" Target="http://lib3.msu.ac.th/search~S0*thx/d%7B682%7D%7B722%7D%7B711%7D%7B697%7D%7B722%7D+--+%7B704%7D%7B722%7D%7B711%7D%7B720%7D/d%7Caad2c7b9d2+c0d2c7d0c8e0c3c9b0a1d4a8/-3,-1,0,B/browse" TargetMode="External"/><Relationship Id="rId14" Type="http://schemas.openxmlformats.org/officeDocument/2006/relationships/hyperlink" Target="http://lib3.msu.ac.th/search~S0*thx/d%7B737%7D%7B707%7D%7B679%7D%7B679%7D%7B722%7D%7B697%7D+--+%7B704%7D%7B722%7D%7B711%7D/d%7Cc3e1a7a7d2b9+c0d2c7d0c8e0c3c9b0a1d4a8/-3,-1,0,B/browse" TargetMode="External"/><Relationship Id="rId15" Type="http://schemas.openxmlformats.org/officeDocument/2006/relationships/hyperlink" Target="http://lib3.msu.ac.th/search~S0*thx/d%7B673%7D%7B707%7D%7B707%7D%7B705%7D%7B673%7D%7B707%7D+--+%7B704%7D%7B722%7D%7B711%7D/d%7Ca1c3c3c1a1c3+c0d2c7d0c8e0c3c9b0a1d4a8/-3,-1,0,B/browse" TargetMode="External"/><Relationship Id="rId16" Type="http://schemas.openxmlformats.org/officeDocument/2006/relationships/hyperlink" Target="http://lib3.msu.ac.th/search~S0*thx/t%7B711%7D%7B744%7D%7B722%7D%7B692%7D%7B745%7D%7B711%7D%7B706%7D%7B736%7D%7B712%7D%7B707%7D/t%7Cc7e8d2b4e9c7c2c8e0c3c9b0a1d4a8+aad2c7b9d2a1c3c3c1a1c3+c3e2a7a7d2b9+bae9d2b9b9d2/-3,-1,0,B/browse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3.msu.ac.th/search~S0*thx/a%7B693%7D%7B709%7D%7B722%7D%7B692%7D%7B715%7D%7B709%7D%7B721%7D%7B673%7D%7B695%7D%7B707%7D/a%7Cb5c5d2b4cbc5d1a1b7c3d1bec2eccbe1e8a7bbc3d0b7e0c8b7e4c2/-3,-1,0,B/browse" TargetMode="External"/><Relationship Id="rId2" Type="http://schemas.openxmlformats.org/officeDocument/2006/relationships/hyperlink" Target="http://lib3.msu.ac.th/patroninfo~S0*thx/0/redirect=/search~S0*thx?/t%7B736%7D%7B712%7D%7B707%7D%7B713%7D%7B688%7D%7B712%7D%7B722%7D%7B714%7D%7B693%7D%7B707%7D%7B748%7D/t%7Cc8e0c3c9b0c8d2cab5c3ec/1%2C211%2C324%2CB/frameset&amp;FF=t%7Cc8e0c3c9b0c8d2cab5c3ec+economics&amp;1%2C1%2C/indexsort=-" TargetMode="External"/><Relationship Id="rId3" Type="http://schemas.openxmlformats.org/officeDocument/2006/relationships/hyperlink" Target="http://lib3.msu.ac.th/search~S0*thx?/t%7B736%7D%7B712%7D%7B707%7D%7B713%7D%7B688%7D%7B712%7D%7B722%7D%7B714%7D%7B693%7D%7B707%7D%7B748%7D/t%7Cc8e0c3c9b0c8d2cab5c3ec/1%2C211%2C324%2CB/bibimage&amp;FF=t%7Cc8e0c3c9b0c8d2cab5c3ec+economics&amp;1%2C1%2C/indexsort=-" TargetMode="External"/><Relationship Id="rId4" Type="http://schemas.openxmlformats.org/officeDocument/2006/relationships/hyperlink" Target="http://lib3.msu.ac.th/search~S0*thx?/c330+&#3605;46&#3624;/c330+b546c8/-3,-1,,E/browse" TargetMode="External"/><Relationship Id="rId5" Type="http://schemas.openxmlformats.org/officeDocument/2006/relationships/hyperlink" Target="http://lib3.msu.ac.th/search~S0*thx?/c330+&#3605;46&#3624;/c330+b546c8/-3,-1,,E/browse" TargetMode="External"/><Relationship Id="rId6" Type="http://schemas.openxmlformats.org/officeDocument/2006/relationships/hyperlink" Target="http://lib3.msu.ac.th/search~S0*thx?/c330+&#3605;46&#3624;/c330+b546c8/-3,-1,,E/browse" TargetMode="External"/><Relationship Id="rId7" Type="http://schemas.openxmlformats.org/officeDocument/2006/relationships/hyperlink" Target="http://lib3.msu.ac.th/search~S0*thx?/c330+&#3605;46&#3624;/c330+b546c8/-3,-1,,E/browse" TargetMode="External"/><Relationship Id="rId8" Type="http://schemas.openxmlformats.org/officeDocument/2006/relationships/hyperlink" Target="http://lib3.msu.ac.th/search~S0*thx?/c330+&#3605;46&#3624;/c330+b546c8/-3,-1,,E/browse" TargetMode="External"/><Relationship Id="rId9" Type="http://schemas.openxmlformats.org/officeDocument/2006/relationships/hyperlink" Target="http://lib3.msu.ac.th/search~S0*thx?/c330+&#3605;46&#3624;/c330+b546c8/-3,-1,,E/browse" TargetMode="External"/><Relationship Id="rId10" Type="http://schemas.openxmlformats.org/officeDocument/2006/relationships/hyperlink" Target="http://lib3.msu.ac.th/search~S0*thx?/c330+&#3605;46&#3624;/c330+b546c8/-3,-1,,E/browse" TargetMode="External"/><Relationship Id="rId11" Type="http://schemas.openxmlformats.org/officeDocument/2006/relationships/hyperlink" Target="http://lib3.msu.ac.th/search~S0*thx?/c330+&#3605;46&#3624;/c330+b546c8/-3,-1,,E/browse" TargetMode="External"/><Relationship Id="rId12" Type="http://schemas.openxmlformats.org/officeDocument/2006/relationships/hyperlink" Target="http://lib3.msu.ac.th/search~S0*thx?/c330+&#3605;46&#3624;/c330+b546c8/-3,-1,,E/browse" TargetMode="External"/><Relationship Id="rId13" Type="http://schemas.openxmlformats.org/officeDocument/2006/relationships/hyperlink" Target="http://lib3.msu.ac.th/search~S0*thx?/c330+&#3605;46&#3624;/c330+b546c8/-3,-1,,E/browse" TargetMode="External"/><Relationship Id="rId14" Type="http://schemas.openxmlformats.org/officeDocument/2006/relationships/hyperlink" Target="http://lib3.msu.ac.th/search~S0*thx?/c330+&#3605;46&#3624;/c330+b546c8/-3,-1,,E/browse" TargetMode="External"/><Relationship Id="rId15" Type="http://schemas.openxmlformats.org/officeDocument/2006/relationships/hyperlink" Target="http://lib3.msu.ac.th/search~S0*thx?/c330+&#3605;46&#3624;/c330+b546c8/-3,-1,,E/browse" TargetMode="External"/><Relationship Id="rId16" Type="http://schemas.openxmlformats.org/officeDocument/2006/relationships/hyperlink" Target="http://lib3.msu.ac.th/search~S0*thx?/c330+&#3605;46&#3624;/c330+b546c8/-3,-1,,E/browse" TargetMode="External"/><Relationship Id="rId17" Type="http://schemas.openxmlformats.org/officeDocument/2006/relationships/hyperlink" Target="http://lib3.msu.ac.th/search~S0*thx?/c330+&#3605;46&#3624;/c330+b546c8/-3,-1,,E/browse" TargetMode="External"/><Relationship Id="rId18" Type="http://schemas.openxmlformats.org/officeDocument/2006/relationships/hyperlink" Target="http://lib3.msu.ac.th/search~S0*thx?/c330+&#3605;46&#3624;/c330+b546c8/-3,-1,,E/browse" TargetMode="External"/><Relationship Id="rId19" Type="http://schemas.openxmlformats.org/officeDocument/2006/relationships/hyperlink" Target="http://lib3.msu.ac.th/search~S0*thx?/c330+&#3605;46&#3624;/c330+b546c8/-3,-1,,E/browse" TargetMode="External"/><Relationship Id="rId20" Type="http://schemas.openxmlformats.org/officeDocument/2006/relationships/hyperlink" Target="http://lib3.msu.ac.th/search~S0*thx?/c330+&#3605;46&#3624;/c330+b546c8/-3,-1,,E/browse" TargetMode="External"/><Relationship Id="rId21" Type="http://schemas.openxmlformats.org/officeDocument/2006/relationships/hyperlink" Target="http://lib3.msu.ac.th/search~S0*thx?/c330+&#3605;46&#3624;/c330+b546c8/-3,-1,,E/browse" TargetMode="External"/><Relationship Id="rId22" Type="http://schemas.openxmlformats.org/officeDocument/2006/relationships/hyperlink" Target="http://lib3.msu.ac.th/search~S0*thx?/c330+&#3605;46&#3624;/c330+b546c8/-3,-1,,E/browse" TargetMode="External"/><Relationship Id="rId23" Type="http://schemas.openxmlformats.org/officeDocument/2006/relationships/hyperlink" Target="http://lib3.msu.ac.th/search~S0*thx?/c330+&#3605;46&#3624;/c330+b546c8/-3,-1,,E/browse" TargetMode="External"/><Relationship Id="rId24" Type="http://schemas.openxmlformats.org/officeDocument/2006/relationships/hyperlink" Target="http://lib3.msu.ac.th/search~S0*thx?/c330+&#3605;46&#3624;/c330+b546c8/-3,-1,,E/browse" TargetMode="External"/><Relationship Id="rId25" Type="http://schemas.openxmlformats.org/officeDocument/2006/relationships/hyperlink" Target="http://lib3.msu.ac.th/search~S0*thx?/c330+&#3605;46&#3624;/c330+b546c8/-3,-1,,E/browse" TargetMode="External"/><Relationship Id="rId26" Type="http://schemas.openxmlformats.org/officeDocument/2006/relationships/hyperlink" Target="http://lib3.msu.ac.th/search~S0*thx?/c330+&#3605;46&#3624;/c330+b546c8/-3,-1,,E/browse" TargetMode="External"/><Relationship Id="rId27" Type="http://schemas.openxmlformats.org/officeDocument/2006/relationships/hyperlink" Target="http://lib3.msu.ac.th/search~S0*thx?/c330+&#3605;46&#3624;/c330+b546c8/-3,-1,,E/browse" TargetMode="External"/><Relationship Id="rId28" Type="http://schemas.openxmlformats.org/officeDocument/2006/relationships/hyperlink" Target="http://lib3.msu.ac.th/search~S0*thx?/c330+&#3605;46&#3624;/c330+b546c8/-3,-1,,E/browse" TargetMode="External"/><Relationship Id="rId29" Type="http://schemas.openxmlformats.org/officeDocument/2006/relationships/hyperlink" Target="http://lib3.msu.ac.th/search~S0*thx?/c330+&#3605;46&#3624;/c330+b546c8/-3,-1,,E/browse" TargetMode="External"/><Relationship Id="rId30" Type="http://schemas.openxmlformats.org/officeDocument/2006/relationships/hyperlink" Target="http://lib3.msu.ac.th/search~S0*thx?/c330+&#3605;46&#3624;/c330+b546c8/-3,-1,,E/browse" TargetMode="External"/><Relationship Id="rId31" Type="http://schemas.openxmlformats.org/officeDocument/2006/relationships/hyperlink" Target="http://lib3.msu.ac.th/search~S0*thx?/c330+&#3605;46&#3624;/c330+b546c8/-3,-1,,E/browse" TargetMode="External"/><Relationship Id="rId32" Type="http://schemas.openxmlformats.org/officeDocument/2006/relationships/hyperlink" Target="http://lib3.msu.ac.th/search~S0*thx?/c330+&#3605;46&#3624;/c330+b546c8/-3,-1,,E/browse" TargetMode="External"/><Relationship Id="rId33" Type="http://schemas.openxmlformats.org/officeDocument/2006/relationships/hyperlink" Target="http://lib3.msu.ac.th/search~S0*thx?/c330+&#3605;46&#3624;/c330+b546c8/-3,-1,,E/browse" TargetMode="External"/><Relationship Id="rId34" Type="http://schemas.openxmlformats.org/officeDocument/2006/relationships/hyperlink" Target="http://lib3.msu.ac.th/search~S0*thx?/c330+&#3605;46&#3624;/c330+b546c8/-3,-1,,E/browse" TargetMode="External"/><Relationship Id="rId35" Type="http://schemas.openxmlformats.org/officeDocument/2006/relationships/hyperlink" Target="http://lib3.msu.ac.th/search~S0*thx?/c330+&#3605;46&#3624;/c330+b546c8/-3,-1,,E/browse" TargetMode="External"/><Relationship Id="rId36" Type="http://schemas.openxmlformats.org/officeDocument/2006/relationships/hyperlink" Target="http://lib3.msu.ac.th/search~S0*thx?/c330+&#3605;46&#3624;/c330+b546c8/-3,-1,,E/browse" TargetMode="External"/><Relationship Id="rId37" Type="http://schemas.openxmlformats.org/officeDocument/2006/relationships/hyperlink" Target="http://lib3.msu.ac.th/search~S0*thx?/c330+&#3605;46&#3624;/c330+b546c8/-3,-1,,E/browse" TargetMode="External"/><Relationship Id="rId38" Type="http://schemas.openxmlformats.org/officeDocument/2006/relationships/hyperlink" Target="http://lib3.msu.ac.th/search~S0*thx?/c330+&#3605;46&#3624;/c330+b546c8/-3,-1,,E/browse" TargetMode="External"/><Relationship Id="rId39" Type="http://schemas.openxmlformats.org/officeDocument/2006/relationships/hyperlink" Target="http://lib3.msu.ac.th/search~S0*thx?/c330+&#3605;46&#3624;/c330+b546c8/-3,-1,,E/browse" TargetMode="External"/><Relationship Id="rId40" Type="http://schemas.openxmlformats.org/officeDocument/2006/relationships/hyperlink" Target="http://lib3.msu.ac.th/search~S0*thx?/c330+&#3605;46&#3624;/c330+b546c8/-3,-1,,E/browse" TargetMode="External"/><Relationship Id="rId41" Type="http://schemas.openxmlformats.org/officeDocument/2006/relationships/hyperlink" Target="http://lib3.msu.ac.th/search~S0*thx?/c330+&#3605;46&#3624;/c330+b546c8/-3,-1,,E/browse" TargetMode="External"/><Relationship Id="rId42" Type="http://schemas.openxmlformats.org/officeDocument/2006/relationships/hyperlink" Target="http://lib3.msu.ac.th/search~S0*thx?/c330+&#3605;46&#3624;/c330+b546c8/-3,-1,,E/browse" TargetMode="External"/><Relationship Id="rId43" Type="http://schemas.openxmlformats.org/officeDocument/2006/relationships/hyperlink" Target="http://lib3.msu.ac.th/search~S0*thx?/c330+&#3605;46&#3624;/c330+b546c8/-3,-1,,E/browse" TargetMode="External"/><Relationship Id="rId4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e3e3ff"/>
                </a:solidFill>
                <a:latin typeface="Arial"/>
              </a:rPr>
              <a:t>สืบค้น 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eb opac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สน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าจารย์ เหมราช  ธนปัทม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ู้จัดท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นางสาววิราวรรณ  ประเสริฐสังข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หัส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510109141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คณะการบัญชีและการจัดการ มหาวิทยาลัยมหาสารค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31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อาหาร และสุขภาพ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อาหาร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ุขภาพ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บรรณาธิการโดย ชนิดา ปโชติกา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ศัลยา คงสมบูรณ์เวช และ อภิสิทธิ์ ฉัตรทนานนท์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สริมมิต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550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ครั้งที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พิมพ์ครั้งที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ALL NUMBER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641.302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 อ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63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อ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   บนช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ภาพประกอ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5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9749305183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อาหารเพื่อสุขภาพ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โภชนา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สุขภาพ -- แง่โภชนา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ผู้แต่งร่วม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ชนิ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ดา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ปโช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ติการ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,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ศัลยา คงสมบูรณ์เวช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,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อภิสิทธิ์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ฉัตรทนา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นนท์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2"/>
              </a:rPr>
              <a:t>,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23"/>
              </a:rPr>
              <a:t>บรรณาธิกา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อาหารและสุข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228240"/>
            <a:ext cx="81471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บัญชีกองทุ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พรพรรณ เอกเผ่าพันธุ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บัญชีกองทุน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พรพรรณ เอกเผ่าพันธุ์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ฟิสิกส์เซ็นเตอร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53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LL NUMBER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 65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 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657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 พ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44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บ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 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2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9747421267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ThaiLIS2 Union Catalog</a:t>
            </a:r>
            <a:r>
              <a:rPr b="0" i="1" lang="th-TH" sz="24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4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การบัญช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งบประมาณ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2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ศรษฐศาสตร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เศรษฐ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สยา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โรงงาน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บ้านนา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ศรษฐสยาม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ึกษิตสยา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52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CALL NUMBER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สถานภาพ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 330.959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4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บนชั้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ศรีสวัสดิ์ 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330.9593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ศ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84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9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8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ื่อชุด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เศรษฐศาสตร์-การเมือง 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;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อันดับที่ </a:t>
            </a:r>
            <a:r>
              <a:rPr b="0" i="1" lang="en-US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ชื่อหน้าปกนอ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ว่าด้วย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ชาวนา กรรมกร โรงง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บ้านนา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haiLIS Union Catalog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ไทย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ชาวนา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แรงงาน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กรรมกร -- ภาวะเศรษฐกิจ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8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i="1" lang="th-TH" sz="28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ว่าด้วยเศรษฐกิจ...ชาวนากรรมกร โรงงาน-บ้านนา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ล่มที่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4 </a:t>
            </a: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เศรษฐศาสตร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ผู้แต่ง</a:t>
            </a:r>
            <a:r>
              <a:rPr b="0" i="1" lang="th-TH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ตลาดหลักทรัพย์แห่งประเทศไทย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ชื่อเรื่อง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เศรษฐศาสตร์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สถาบันพัฒนาความรู้ตลาดทุน ตลาดหลักทรัพย์แห่งประเทศไทย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พิมพลักษณ์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กรุงเทพฯ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ตลาดหลักทรัพย์แห่งประเทศไท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548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Rating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LOCATION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CALL NUMBER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สถานภาพ   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     บนชั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5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6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7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8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19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0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1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2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3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4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5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6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7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28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29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0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1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2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3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4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5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หนังสือทั่วไป ชั้น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6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7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38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39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SET Corner Floor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0"/>
              </a:rPr>
              <a:t>330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41"/>
              </a:rPr>
              <a:t> ต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42"/>
              </a:rPr>
              <a:t>46</a:t>
            </a:r>
            <a:r>
              <a:rPr b="0" lang="th-TH" sz="2000" spc="-1" strike="noStrike" u="sng">
                <a:solidFill>
                  <a:srgbClr val="00ffcc"/>
                </a:solidFill>
                <a:uFillTx/>
                <a:latin typeface="Arial"/>
                <a:hlinkClick r:id="rId43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 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บนชั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ขนา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88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หน้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26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ซม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เลขมาตรฐาน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9749308964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ThaiLIS Union Catalog 101006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หัวเรื่อง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เศรษฐศาสตร์ 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ช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th-TH" sz="2000" spc="-1" strike="noStrike">
                <a:solidFill>
                  <a:srgbClr val="ffffff"/>
                </a:solidFill>
                <a:latin typeface="Arial"/>
              </a:rPr>
              <a:t>เพิ่ม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Econom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1:56:47Z</dcterms:created>
  <dc:creator>CasperX</dc:creator>
  <dc:description/>
  <dc:language>en-US</dc:language>
  <cp:lastModifiedBy>CasperX</cp:lastModifiedBy>
  <dcterms:modified xsi:type="dcterms:W3CDTF">2010-09-13T02:38:05Z</dcterms:modified>
  <cp:revision>3</cp:revision>
  <dc:subject/>
  <dc:title>สืบค้น web opac</dc:title>
</cp:coreProperties>
</file>