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8F8-33A5-4014-88F4-F8C00D5B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DE3-B50F-4B43-9B29-7B142047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FCB-7103-411C-9BA0-DCD57F61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ADCF-7AA2-4D98-98DC-1A0478C4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37B0B-5760-4BE7-A413-4CDAA77F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86EDC-D874-4CAB-BAEA-062F98ED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E1D0C-BBB3-40C7-A44A-1CD2FECB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851ED-3292-4358-8FA8-50D98B35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72B9C-249B-42ED-93D1-BCAA68FD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EAC56-0DF5-42FA-96DE-05CAF68F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7FF1C-E38F-4BB3-8C3F-26CFDDD1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A5C-BEDD-4949-B193-C9FE45C4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E740F-00E0-480D-9927-2DE2534F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F1372-2834-45EA-B251-E0256A1E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5C272-97FB-429C-86B5-7F703101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0B118-BE43-4815-9D70-1743A3BC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92774-E9DF-455D-B11C-1113AB97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6987-4CB7-4B68-8FA1-3EEE8ADB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31C-A004-4AC2-A89C-014690E2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A13-0C2E-4640-86A0-0401F647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BD3-434F-46B5-8B82-18152D93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608-3730-4760-BAEB-F309C82E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441F-439F-4E66-AD20-D99938D2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A9A-668B-42EC-981A-812A87EF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902D-C0EA-42CD-B653-9827754B5D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CB17-0FD1-435C-9DE7-BF9FEC96F7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lib3.msu.ac.th/patroninfo~S0*thx/0/redirect=/search~S0*thx?/t%7B717%7D%7B722%7D%7B715%7D%7B722%7D%7B707%7D/t%7Ccdd2cbd2c3/1%2C496%2C587%2CB/frameset&amp;FF=t%7Ccdd2cbd2c3+%26+cad8a2c0d2be&amp;1%2C1%2C" TargetMode="External"/><Relationship Id="rId2" Type="http://schemas.openxmlformats.org/officeDocument/2006/relationships/hyperlink" Target="http://lib3.msu.ac.th/search~S0*thx?/t%7B717%7D%7B722%7D%7B715%7D%7B722%7D%7B707%7D/t%7Ccdd2cbd2c3/1%2C496%2C587%2CB/bibimage&amp;FF=t%7Ccdd2cbd2c3+%26+cad8a2c0d2be&amp;1%2C1%2C" TargetMode="External"/><Relationship Id="rId3" Type="http://schemas.openxmlformats.org/officeDocument/2006/relationships/hyperlink" Target="http://lib3.msu.ac.th/search~S0*thx?/c641.302+&#3629;63&#3629;/c641.302+cd63cd/-3,-1,,E/browse" TargetMode="External"/><Relationship Id="rId4" Type="http://schemas.openxmlformats.org/officeDocument/2006/relationships/hyperlink" Target="http://lib3.msu.ac.th/search~S0*thx?/c641.302+&#3629;63&#3629;/c641.302+cd63cd/-3,-1,,E/browse" TargetMode="External"/><Relationship Id="rId5" Type="http://schemas.openxmlformats.org/officeDocument/2006/relationships/hyperlink" Target="http://lib3.msu.ac.th/search~S0*thx?/c641.302+&#3629;63&#3629;/c641.302+cd63cd/-3,-1,,E/browse" TargetMode="External"/><Relationship Id="rId6" Type="http://schemas.openxmlformats.org/officeDocument/2006/relationships/hyperlink" Target="http://lib3.msu.ac.th/search~S0*thx?/c641.302+&#3629;63&#3629;/c641.302+cd63cd/-3,-1,,E/browse" TargetMode="External"/><Relationship Id="rId7" Type="http://schemas.openxmlformats.org/officeDocument/2006/relationships/hyperlink" Target="http://lib3.msu.ac.th/search~S0*thx/d%7B717%7D%7B722%7D%7B715%7D%7B722%7D%7B707%7D%7B736%7D%7B702%7D%7B727%7D%7B744%7D%7B717%7D/d%7Ccdd2cbd2c3bee0d7e8cdcad8a2c0d2be/-3,-1,0,B/browse" TargetMode="External"/><Relationship Id="rId8" Type="http://schemas.openxmlformats.org/officeDocument/2006/relationships/hyperlink" Target="http://lib3.msu.ac.th/search~S0*thx/d%7B738%7D%7B704%7D%7B682%7D%7B697%7D%7B722%7D%7B673%7D%7B722%7D%7B707%7D/d%7Cc0e2aab9d2a1d2c3/-3,-1,0,B/browse" TargetMode="External"/><Relationship Id="rId9" Type="http://schemas.openxmlformats.org/officeDocument/2006/relationships/hyperlink" Target="http://lib3.msu.ac.th/search~S0*thx/d%7B714%7D%7B728%7D%7B674%7D%7B704%7D%7B722%7D%7B702%7D+--+%7B737%7D%7B679%7D%7B744%7D/d%7Ccad8a2c0d2be+a7e1e8c0e2aab9d2a1d2c3/-3,-1,0,B/browse" TargetMode="External"/><Relationship Id="rId10" Type="http://schemas.openxmlformats.org/officeDocument/2006/relationships/hyperlink" Target="http://lib3.msu.ac.th/search~S0*thx/a%7B682%7D%7B697%7D%7B724%7D%7B692%7D%7B722%7D+%7B699%7D%7B738%7D%7B682%7D%7B693%7D/a%7Caab9d4b4d2+bbaae2b5d4a1d2c3/-3,-1,0,B/browse" TargetMode="External"/><Relationship Id="rId11" Type="http://schemas.openxmlformats.org/officeDocument/2006/relationships/hyperlink" Target="http://lib3.msu.ac.th/search~S0*thx/a%7B682%7D%7B697%7D%7B724%7D%7B692%7D%7B722%7D+%7B699%7D%7B738%7D%7B682%7D%7B693%7D/a%7Caab9d4b4d2+bbaae2b5d4a1d2c3/-3,-1,0,B/browse" TargetMode="External"/><Relationship Id="rId12" Type="http://schemas.openxmlformats.org/officeDocument/2006/relationships/hyperlink" Target="http://lib3.msu.ac.th/search~S0*thx/a%7B682%7D%7B697%7D%7B724%7D%7B692%7D%7B722%7D+%7B699%7D%7B738%7D%7B682%7D%7B693%7D/a%7Caab9d4b4d2+bbaae2b5d4a1d2c3/-3,-1,0,B/browse" TargetMode="External"/><Relationship Id="rId13" Type="http://schemas.openxmlformats.org/officeDocument/2006/relationships/hyperlink" Target="http://lib3.msu.ac.th/search~S0*thx/a%7B682%7D%7B697%7D%7B724%7D%7B692%7D%7B722%7D+%7B699%7D%7B738%7D%7B682%7D%7B693%7D/a%7Caab9d4b4d2+bbaae2b5d4a1d2c3/-3,-1,0,B/browse" TargetMode="External"/><Relationship Id="rId14" Type="http://schemas.openxmlformats.org/officeDocument/2006/relationships/hyperlink" Target="http://lib3.msu.ac.th/search~S0*thx/a%7B682%7D%7B697%7D%7B724%7D%7B692%7D%7B722%7D+%7B699%7D%7B738%7D%7B682%7D%7B693%7D/a%7Caab9d4b4d2+bbaae2b5d4a1d2c3/-3,-1,0,B/browse" TargetMode="External"/><Relationship Id="rId15" Type="http://schemas.openxmlformats.org/officeDocument/2006/relationships/hyperlink" Target="http://lib3.msu.ac.th/search~S0*thx/a%7B682%7D%7B697%7D%7B724%7D%7B692%7D%7B722%7D+%7B699%7D%7B738%7D%7B682%7D%7B693%7D/a%7Caab9d4b4d2+bbaae2b5d4a1d2c3/-3,-1,0,B/browse" TargetMode="External"/><Relationship Id="rId16" Type="http://schemas.openxmlformats.org/officeDocument/2006/relationships/hyperlink" Target="http://lib3.msu.ac.th/search~S0*thx/a%7B712%7D%7B721%7D%7B709%7D%7B706%7D%7B722%7D+%7B676%7D%7B679%7D%7B714%7D%7B705%7D/a%7Cc8d1c5c2d2+a4a7cac1bad9c3b3ecc7e0aa/-3,-1,0,B/browse" TargetMode="External"/><Relationship Id="rId17" Type="http://schemas.openxmlformats.org/officeDocument/2006/relationships/hyperlink" Target="http://lib3.msu.ac.th/search~S0*thx/a%7B712%7D%7B721%7D%7B709%7D%7B706%7D%7B722%7D+%7B676%7D%7B679%7D%7B714%7D%7B705%7D/a%7Cc8d1c5c2d2+a4a7cac1bad9c3b3ecc7e0aa/-3,-1,0,B/browse" TargetMode="External"/><Relationship Id="rId18" Type="http://schemas.openxmlformats.org/officeDocument/2006/relationships/hyperlink" Target="http://lib3.msu.ac.th/search~S0*thx/a%7B712%7D%7B721%7D%7B709%7D%7B706%7D%7B722%7D+%7B676%7D%7B679%7D%7B714%7D%7B705%7D/a%7Cc8d1c5c2d2+a4a7cac1bad9c3b3ecc7e0aa/-3,-1,0,B/browse" TargetMode="External"/><Relationship Id="rId19" Type="http://schemas.openxmlformats.org/officeDocument/2006/relationships/hyperlink" Target="http://lib3.msu.ac.th/search~S0*thx/a%7B717%7D%7B704%7D%7B724%7D%7B714%7D%7B724%7D%7B695%7D%7B696%7D%7B724%7D%7B748%7D+/a%7Ccdc0d4cad4b7b8d4ec+a9d1b5c3b7b9d2b9b9b7ec/-3,-1,0,B/browse" TargetMode="External"/><Relationship Id="rId20" Type="http://schemas.openxmlformats.org/officeDocument/2006/relationships/hyperlink" Target="http://lib3.msu.ac.th/search~S0*thx/a%7B717%7D%7B704%7D%7B724%7D%7B714%7D%7B724%7D%7B695%7D%7B696%7D%7B724%7D%7B748%7D+/a%7Ccdc0d4cad4b7b8d4ec+a9d1b5c3b7b9d2b9b9b7ec/-3,-1,0,B/browse" TargetMode="External"/><Relationship Id="rId21" Type="http://schemas.openxmlformats.org/officeDocument/2006/relationships/hyperlink" Target="http://lib3.msu.ac.th/search~S0*thx/a%7B717%7D%7B704%7D%7B724%7D%7B714%7D%7B724%7D%7B695%7D%7B696%7D%7B724%7D%7B748%7D+/a%7Ccdc0d4cad4b7b8d4ec+a9d1b5c3b7b9d2b9b9b7ec/-3,-1,0,B/browse" TargetMode="External"/><Relationship Id="rId22" Type="http://schemas.openxmlformats.org/officeDocument/2006/relationships/hyperlink" Target="http://lib3.msu.ac.th/search~S0*thx/a%7B717%7D%7B704%7D%7B724%7D%7B714%7D%7B724%7D%7B695%7D%7B696%7D%7B724%7D%7B748%7D+/a%7Ccdc0d4cad4b7b8d4ec+a9d1b5c3b7b9d2b9b9b7ec/-3,-1,0,B/browse" TargetMode="External"/><Relationship Id="rId23" Type="http://schemas.openxmlformats.org/officeDocument/2006/relationships/hyperlink" Target="http://lib3.msu.ac.th/search~S0*thx/a%7B717%7D%7B704%7D%7B724%7D%7B714%7D%7B724%7D%7B695%7D%7B696%7D%7B724%7D%7B748%7D+/a%7Ccdc0d4cad4b7b8d4ec+a9d1b5c3b7b9d2b9b9b7ec/-3,-1,0,B/browse" TargetMode="External"/><Relationship Id="rId2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ib3.msu.ac.th/search~S0*thx/a%7B702%7D%7B707%7D%7B702%7D%7B707%7D%7B707%7D%7B691%7D+%7B736%7D%7B717%7D%7B673%7D/a%7Cbec3bec3c3b3+cde0a1bce0e8d2bed1b9b8d8ec/-3,-1,0,B/browse" TargetMode="External"/><Relationship Id="rId2" Type="http://schemas.openxmlformats.org/officeDocument/2006/relationships/hyperlink" Target="http://lib3.msu.ac.th/patroninfo~S0*thx/0/redirect=/search~S0*thx?/t%7B698%7D%7B721%7D%7B685%7D%7B682%7D%7B725%7D/t%7Cbad1adaad5/1%2C28%2C32%2CB/frameset&amp;FF=t%7Cbad1adaad5a1cda7b7d8b9&amp;1%2C1%2C/indexsort=-" TargetMode="External"/><Relationship Id="rId3" Type="http://schemas.openxmlformats.org/officeDocument/2006/relationships/hyperlink" Target="http://lib3.msu.ac.th/search~S0*thx?/t%7B698%7D%7B721%7D%7B685%7D%7B682%7D%7B725%7D/t%7Cbad1adaad5/1%2C28%2C32%2CB/bibimage&amp;FF=t%7Cbad1adaad5a1cda7b7d8b9&amp;1%2C1%2C/indexsort=-" TargetMode="External"/><Relationship Id="rId4" Type="http://schemas.openxmlformats.org/officeDocument/2006/relationships/hyperlink" Target="http://lib3.msu.ac.th/search~S0*thx?/c657+&#3614;44&#3610;/c657+be44ba/-3,-1,,E/browse" TargetMode="External"/><Relationship Id="rId5" Type="http://schemas.openxmlformats.org/officeDocument/2006/relationships/hyperlink" Target="http://lib3.msu.ac.th/search~S0*thx?/c657+&#3614;44&#3610;/c657+be44ba/-3,-1,,E/browse" TargetMode="External"/><Relationship Id="rId6" Type="http://schemas.openxmlformats.org/officeDocument/2006/relationships/hyperlink" Target="http://lib3.msu.ac.th/search~S0*thx?/c657+&#3614;44&#3610;/c657+be44ba/-3,-1,,E/browse" TargetMode="External"/><Relationship Id="rId7" Type="http://schemas.openxmlformats.org/officeDocument/2006/relationships/hyperlink" Target="http://lib3.msu.ac.th/search~S0*thx?/c657+&#3614;44&#3610;/c657+be44ba/-3,-1,,E/browse" TargetMode="External"/><Relationship Id="rId8" Type="http://schemas.openxmlformats.org/officeDocument/2006/relationships/hyperlink" Target="http://lib3.msu.ac.th/search~S0*thx?/c657+&#3614;44&#3610;/c657+be44ba/-3,-1,,E/browse" TargetMode="External"/><Relationship Id="rId9" Type="http://schemas.openxmlformats.org/officeDocument/2006/relationships/hyperlink" Target="http://lib3.msu.ac.th/search~S0*thx?/c657+&#3614;44&#3610;/c657+be44ba/-3,-1,,E/browse" TargetMode="External"/><Relationship Id="rId10" Type="http://schemas.openxmlformats.org/officeDocument/2006/relationships/hyperlink" Target="http://lib3.msu.ac.th/search~S0*thx?/c657+&#3614;44&#3610;/c657+be44ba/-3,-1,,E/browse" TargetMode="External"/><Relationship Id="rId11" Type="http://schemas.openxmlformats.org/officeDocument/2006/relationships/hyperlink" Target="http://lib3.msu.ac.th/search~S0*thx?/c657+&#3614;44&#3610;/c657+be44ba/-3,-1,,E/browse" TargetMode="External"/><Relationship Id="rId12" Type="http://schemas.openxmlformats.org/officeDocument/2006/relationships/hyperlink" Target="http://lib3.msu.ac.th/search~S0*thx?/c657+&#3614;44&#3610;/c657+be44ba/-3,-1,,E/browse" TargetMode="External"/><Relationship Id="rId13" Type="http://schemas.openxmlformats.org/officeDocument/2006/relationships/hyperlink" Target="http://lib3.msu.ac.th/search~S0*thx?/c657+&#3614;44&#3610;/c657+be44ba/-3,-1,,E/browse" TargetMode="External"/><Relationship Id="rId14" Type="http://schemas.openxmlformats.org/officeDocument/2006/relationships/hyperlink" Target="http://lib3.msu.ac.th/search~S0*thx?/c657+&#3614;44&#3610;/c657+be44ba/-3,-1,,E/browse" TargetMode="External"/><Relationship Id="rId15" Type="http://schemas.openxmlformats.org/officeDocument/2006/relationships/hyperlink" Target="http://lib3.msu.ac.th/search~S0*thx?/c657+&#3614;44&#3610;/c657+be44ba/-3,-1,,E/browse" TargetMode="External"/><Relationship Id="rId16" Type="http://schemas.openxmlformats.org/officeDocument/2006/relationships/hyperlink" Target="http://lib3.msu.ac.th/search~S0*thx?/c657+&#3614;44&#3610;/c657+be44ba/-3,-1,,E/browse" TargetMode="External"/><Relationship Id="rId17" Type="http://schemas.openxmlformats.org/officeDocument/2006/relationships/hyperlink" Target="http://lib3.msu.ac.th/search~S0*thx?/c657+&#3614;44&#3610;/c657+be44ba/-3,-1,,E/browse" TargetMode="External"/><Relationship Id="rId18" Type="http://schemas.openxmlformats.org/officeDocument/2006/relationships/hyperlink" Target="http://lib3.msu.ac.th/search~S0*thx?/c657+&#3614;44&#3610;/c657+be44ba/-3,-1,,E/browse" TargetMode="External"/><Relationship Id="rId19" Type="http://schemas.openxmlformats.org/officeDocument/2006/relationships/hyperlink" Target="http://lib3.msu.ac.th/search~S0*thx?/c657+&#3614;44&#3610;/c657+be44ba/-3,-1,,E/browse" TargetMode="External"/><Relationship Id="rId20" Type="http://schemas.openxmlformats.org/officeDocument/2006/relationships/hyperlink" Target="http://lib3.msu.ac.th/search~S0*thx/d%7B673%7D%7B722%7D%7B707%7D%7B698%7D%7B721%7D%7B685%7D%7B682%7D%7B725%7D/d%7Ca1d2c3bad1adaad5/-3,-1,0,B/browse" TargetMode="External"/><Relationship Id="rId21" Type="http://schemas.openxmlformats.org/officeDocument/2006/relationships/hyperlink" Target="http://lib3.msu.ac.th/search~S0*thx/d%7B679%7D%7B698%7D%7B699%7D%7B707%7D%7B720%7D%7B705%7D%7B722%7D%7B691%7D/d%7Ca7babbc3d0c1d2b3/-3,-1,0,B/browse" TargetMode="External"/><Relationship Id="rId2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lib3.msu.ac.th/search~S0*thx/a%7B736%7D%7B712%7D%7B707%7D%7B713%7D%7B688%7D%7B714%7D%7B706%7D%7B722%7D%7B705%7D/a%7Cc8e0c3c9b0cac2d2c1/-3,-1,0,B/browse" TargetMode="External"/><Relationship Id="rId2" Type="http://schemas.openxmlformats.org/officeDocument/2006/relationships/hyperlink" Target="http://lib3.msu.ac.th/search~S0*thx/a%7B736%7D%7B712%7D%7B707%7D%7B713%7D%7B688%7D%7B714%7D%7B706%7D%7B722%7D%7B705%7D/a%7Cc8e0c3c9b0cac2d2c1/-3,-1,0,B/browse" TargetMode="External"/><Relationship Id="rId3" Type="http://schemas.openxmlformats.org/officeDocument/2006/relationships/hyperlink" Target="http://lib3.msu.ac.th/patroninfo~S0*thx/0/redirect=/search~S0*thx?/t%7B736%7D%7B712%7D%7B707%7D%7B713%7D%7B688%7D%7B712%7D%7B722%7D%7B714%7D%7B693%7D%7B707%7D%7B748%7D/t%7Cc8e0c3c9b0c8d2cab5c3ec/1%2C211%2C324%2CB/frameset&amp;FF=t%7Cc8e0c3c9b0c8d2cab5c3ec+a1d2c3c1e0d7cda7+cdd1b9b4d1bab7d5e8++++2&amp;1%2C1%2C/indexsort=-" TargetMode="External"/><Relationship Id="rId4" Type="http://schemas.openxmlformats.org/officeDocument/2006/relationships/hyperlink" Target="http://lib3.msu.ac.th/search~S0*thx?/c330.9593+&#3624;84&#3619;/c330.9593+c884c3/-3,-1,,E/browse" TargetMode="External"/><Relationship Id="rId5" Type="http://schemas.openxmlformats.org/officeDocument/2006/relationships/hyperlink" Target="http://lib3.msu.ac.th/search~S0*thx?/c330.9593+&#3624;84&#3619;/c330.9593+c884c3/-3,-1,,E/browse" TargetMode="External"/><Relationship Id="rId6" Type="http://schemas.openxmlformats.org/officeDocument/2006/relationships/hyperlink" Target="http://lib3.msu.ac.th/search~S0*thx?/c330.9593+&#3624;84&#3619;/c330.9593+c884c3/-3,-1,,E/browse" TargetMode="External"/><Relationship Id="rId7" Type="http://schemas.openxmlformats.org/officeDocument/2006/relationships/hyperlink" Target="http://lib3.msu.ac.th/search~S0*thx?/c330.9593+&#3624;84&#3619;/c330.9593+c884c3/-3,-1,,E/browse" TargetMode="External"/><Relationship Id="rId8" Type="http://schemas.openxmlformats.org/officeDocument/2006/relationships/hyperlink" Target="http://lib3.msu.ac.th/search~S0*thx/t%7B736%7D%7B712%7D%7B707%7D%7B713%7D%7B688%7D%7B712%7D%7B722%7D%7B714%7D%7B693%7D%7B707%7D/t%7Cc8e0c3c9b0c8d2cab5c3ec+a1d2c3c1e0d7cda7+cdd1b9b4d1bab7d5e8++++2/-3,-1,0,B/browse" TargetMode="External"/><Relationship Id="rId9" Type="http://schemas.openxmlformats.org/officeDocument/2006/relationships/hyperlink" Target="http://lib3.msu.ac.th/search~S0*thx/t%7B736%7D%7B712%7D%7B707%7D%7B713%7D%7B688%7D%7B712%7D%7B722%7D%7B714%7D%7B693%7D%7B707%7D/t%7Cc8e0c3c9b0c8d2cab5c3ec+a1d2c3c1e0d7cda7+cdd1b9b4d1bab7d5e8++++2/-3,-1,0,B/browse" TargetMode="External"/><Relationship Id="rId10" Type="http://schemas.openxmlformats.org/officeDocument/2006/relationships/hyperlink" Target="http://lib3.msu.ac.th/search~S0*thx/t%7B736%7D%7B712%7D%7B707%7D%7B713%7D%7B688%7D%7B712%7D%7B722%7D%7B714%7D%7B693%7D%7B707%7D/t%7Cc8e0c3c9b0c8d2cab5c3ec+a1d2c3c1e0d7cda7+cdd1b9b4d1bab7d5e8++++2/-3,-1,0,B/browse" TargetMode="External"/><Relationship Id="rId11" Type="http://schemas.openxmlformats.org/officeDocument/2006/relationships/hyperlink" Target="http://lib3.msu.ac.th/search~S0*thx/t%7B736%7D%7B712%7D%7B707%7D%7B713%7D%7B688%7D%7B712%7D%7B722%7D%7B714%7D%7B693%7D%7B707%7D/t%7Cc8e0c3c9b0c8d2cab5c3ec+a1d2c3c1e0d7cda7+cdd1b9b4d1bab7d5e8++++2/-3,-1,0,B/browse" TargetMode="External"/><Relationship Id="rId12" Type="http://schemas.openxmlformats.org/officeDocument/2006/relationships/hyperlink" Target="http://lib3.msu.ac.th/search~S0*thx/d%7B740%7D%7B695%7D%7B706%7D+--+%7B704%7D%7B722%7D%7B711%7D%7B720%7D%7B736%7D%7B712%7D/d%7Cb7e4c2+c0d2c7d0c8e0c3c9b0a1d4a8/-3,-1,0,B/browse" TargetMode="External"/><Relationship Id="rId13" Type="http://schemas.openxmlformats.org/officeDocument/2006/relationships/hyperlink" Target="http://lib3.msu.ac.th/search~S0*thx/d%7B682%7D%7B722%7D%7B711%7D%7B697%7D%7B722%7D+--+%7B704%7D%7B722%7D%7B711%7D%7B720%7D/d%7Caad2c7b9d2+c0d2c7d0c8e0c3c9b0a1d4a8/-3,-1,0,B/browse" TargetMode="External"/><Relationship Id="rId14" Type="http://schemas.openxmlformats.org/officeDocument/2006/relationships/hyperlink" Target="http://lib3.msu.ac.th/search~S0*thx/d%7B737%7D%7B707%7D%7B679%7D%7B679%7D%7B722%7D%7B697%7D+--+%7B704%7D%7B722%7D%7B711%7D/d%7Cc3e1a7a7d2b9+c0d2c7d0c8e0c3c9b0a1d4a8/-3,-1,0,B/browse" TargetMode="External"/><Relationship Id="rId15" Type="http://schemas.openxmlformats.org/officeDocument/2006/relationships/hyperlink" Target="http://lib3.msu.ac.th/search~S0*thx/d%7B673%7D%7B707%7D%7B707%7D%7B705%7D%7B673%7D%7B707%7D+--+%7B704%7D%7B722%7D%7B711%7D/d%7Ca1c3c3c1a1c3+c0d2c7d0c8e0c3c9b0a1d4a8/-3,-1,0,B/browse" TargetMode="External"/><Relationship Id="rId16" Type="http://schemas.openxmlformats.org/officeDocument/2006/relationships/hyperlink" Target="http://lib3.msu.ac.th/search~S0*thx/t%7B711%7D%7B744%7D%7B722%7D%7B692%7D%7B745%7D%7B711%7D%7B706%7D%7B736%7D%7B712%7D%7B707%7D/t%7Cc7e8d2b4e9c7c2c8e0c3c9b0a1d4a8+aad2c7b9d2a1c3c3c1a1c3+c3e2a7a7d2b9+bae9d2b9b9d2/-3,-1,0,B/browse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b3.msu.ac.th/search~S0*thx/a%7B693%7D%7B709%7D%7B722%7D%7B692%7D%7B715%7D%7B709%7D%7B721%7D%7B673%7D%7B695%7D%7B707%7D/a%7Cb5c5d2b4cbc5d1a1b7c3d1bec2eccbe1e8a7bbc3d0b7e0c8b7e4c2/-3,-1,0,B/browse" TargetMode="External"/><Relationship Id="rId2" Type="http://schemas.openxmlformats.org/officeDocument/2006/relationships/hyperlink" Target="http://lib3.msu.ac.th/patroninfo~S0*thx/0/redirect=/search~S0*thx?/t%7B736%7D%7B712%7D%7B707%7D%7B713%7D%7B688%7D%7B712%7D%7B722%7D%7B714%7D%7B693%7D%7B707%7D%7B748%7D/t%7Cc8e0c3c9b0c8d2cab5c3ec/1%2C211%2C324%2CB/frameset&amp;FF=t%7Cc8e0c3c9b0c8d2cab5c3ec+economics&amp;1%2C1%2C/indexsort=-" TargetMode="External"/><Relationship Id="rId3" Type="http://schemas.openxmlformats.org/officeDocument/2006/relationships/hyperlink" Target="http://lib3.msu.ac.th/search~S0*thx?/t%7B736%7D%7B712%7D%7B707%7D%7B713%7D%7B688%7D%7B712%7D%7B722%7D%7B714%7D%7B693%7D%7B707%7D%7B748%7D/t%7Cc8e0c3c9b0c8d2cab5c3ec/1%2C211%2C324%2CB/bibimage&amp;FF=t%7Cc8e0c3c9b0c8d2cab5c3ec+economics&amp;1%2C1%2C/indexsort=-" TargetMode="External"/><Relationship Id="rId4" Type="http://schemas.openxmlformats.org/officeDocument/2006/relationships/hyperlink" Target="http://lib3.msu.ac.th/search~S0*thx?/c330+&#3605;46&#3624;/c330+b546c8/-3,-1,,E/browse" TargetMode="External"/><Relationship Id="rId5" Type="http://schemas.openxmlformats.org/officeDocument/2006/relationships/hyperlink" Target="http://lib3.msu.ac.th/search~S0*thx?/c330+&#3605;46&#3624;/c330+b546c8/-3,-1,,E/browse" TargetMode="External"/><Relationship Id="rId6" Type="http://schemas.openxmlformats.org/officeDocument/2006/relationships/hyperlink" Target="http://lib3.msu.ac.th/search~S0*thx?/c330+&#3605;46&#3624;/c330+b546c8/-3,-1,,E/browse" TargetMode="External"/><Relationship Id="rId7" Type="http://schemas.openxmlformats.org/officeDocument/2006/relationships/hyperlink" Target="http://lib3.msu.ac.th/search~S0*thx?/c330+&#3605;46&#3624;/c330+b546c8/-3,-1,,E/browse" TargetMode="External"/><Relationship Id="rId8" Type="http://schemas.openxmlformats.org/officeDocument/2006/relationships/hyperlink" Target="http://lib3.msu.ac.th/search~S0*thx?/c330+&#3605;46&#3624;/c330+b546c8/-3,-1,,E/browse" TargetMode="External"/><Relationship Id="rId9" Type="http://schemas.openxmlformats.org/officeDocument/2006/relationships/hyperlink" Target="http://lib3.msu.ac.th/search~S0*thx?/c330+&#3605;46&#3624;/c330+b546c8/-3,-1,,E/browse" TargetMode="External"/><Relationship Id="rId10" Type="http://schemas.openxmlformats.org/officeDocument/2006/relationships/hyperlink" Target="http://lib3.msu.ac.th/search~S0*thx?/c330+&#3605;46&#3624;/c330+b546c8/-3,-1,,E/browse" TargetMode="External"/><Relationship Id="rId11" Type="http://schemas.openxmlformats.org/officeDocument/2006/relationships/hyperlink" Target="http://lib3.msu.ac.th/search~S0*thx?/c330+&#3605;46&#3624;/c330+b546c8/-3,-1,,E/browse" TargetMode="External"/><Relationship Id="rId12" Type="http://schemas.openxmlformats.org/officeDocument/2006/relationships/hyperlink" Target="http://lib3.msu.ac.th/search~S0*thx?/c330+&#3605;46&#3624;/c330+b546c8/-3,-1,,E/browse" TargetMode="External"/><Relationship Id="rId13" Type="http://schemas.openxmlformats.org/officeDocument/2006/relationships/hyperlink" Target="http://lib3.msu.ac.th/search~S0*thx?/c330+&#3605;46&#3624;/c330+b546c8/-3,-1,,E/browse" TargetMode="External"/><Relationship Id="rId14" Type="http://schemas.openxmlformats.org/officeDocument/2006/relationships/hyperlink" Target="http://lib3.msu.ac.th/search~S0*thx?/c330+&#3605;46&#3624;/c330+b546c8/-3,-1,,E/browse" TargetMode="External"/><Relationship Id="rId15" Type="http://schemas.openxmlformats.org/officeDocument/2006/relationships/hyperlink" Target="http://lib3.msu.ac.th/search~S0*thx?/c330+&#3605;46&#3624;/c330+b546c8/-3,-1,,E/browse" TargetMode="External"/><Relationship Id="rId16" Type="http://schemas.openxmlformats.org/officeDocument/2006/relationships/hyperlink" Target="http://lib3.msu.ac.th/search~S0*thx?/c330+&#3605;46&#3624;/c330+b546c8/-3,-1,,E/browse" TargetMode="External"/><Relationship Id="rId17" Type="http://schemas.openxmlformats.org/officeDocument/2006/relationships/hyperlink" Target="http://lib3.msu.ac.th/search~S0*thx?/c330+&#3605;46&#3624;/c330+b546c8/-3,-1,,E/browse" TargetMode="External"/><Relationship Id="rId18" Type="http://schemas.openxmlformats.org/officeDocument/2006/relationships/hyperlink" Target="http://lib3.msu.ac.th/search~S0*thx?/c330+&#3605;46&#3624;/c330+b546c8/-3,-1,,E/browse" TargetMode="External"/><Relationship Id="rId19" Type="http://schemas.openxmlformats.org/officeDocument/2006/relationships/hyperlink" Target="http://lib3.msu.ac.th/search~S0*thx?/c330+&#3605;46&#3624;/c330+b546c8/-3,-1,,E/browse" TargetMode="External"/><Relationship Id="rId20" Type="http://schemas.openxmlformats.org/officeDocument/2006/relationships/hyperlink" Target="http://lib3.msu.ac.th/search~S0*thx?/c330+&#3605;46&#3624;/c330+b546c8/-3,-1,,E/browse" TargetMode="External"/><Relationship Id="rId21" Type="http://schemas.openxmlformats.org/officeDocument/2006/relationships/hyperlink" Target="http://lib3.msu.ac.th/search~S0*thx?/c330+&#3605;46&#3624;/c330+b546c8/-3,-1,,E/browse" TargetMode="External"/><Relationship Id="rId22" Type="http://schemas.openxmlformats.org/officeDocument/2006/relationships/hyperlink" Target="http://lib3.msu.ac.th/search~S0*thx?/c330+&#3605;46&#3624;/c330+b546c8/-3,-1,,E/browse" TargetMode="External"/><Relationship Id="rId23" Type="http://schemas.openxmlformats.org/officeDocument/2006/relationships/hyperlink" Target="http://lib3.msu.ac.th/search~S0*thx?/c330+&#3605;46&#3624;/c330+b546c8/-3,-1,,E/browse" TargetMode="External"/><Relationship Id="rId24" Type="http://schemas.openxmlformats.org/officeDocument/2006/relationships/hyperlink" Target="http://lib3.msu.ac.th/search~S0*thx?/c330+&#3605;46&#3624;/c330+b546c8/-3,-1,,E/browse" TargetMode="External"/><Relationship Id="rId25" Type="http://schemas.openxmlformats.org/officeDocument/2006/relationships/hyperlink" Target="http://lib3.msu.ac.th/search~S0*thx?/c330+&#3605;46&#3624;/c330+b546c8/-3,-1,,E/browse" TargetMode="External"/><Relationship Id="rId26" Type="http://schemas.openxmlformats.org/officeDocument/2006/relationships/hyperlink" Target="http://lib3.msu.ac.th/search~S0*thx?/c330+&#3605;46&#3624;/c330+b546c8/-3,-1,,E/browse" TargetMode="External"/><Relationship Id="rId27" Type="http://schemas.openxmlformats.org/officeDocument/2006/relationships/hyperlink" Target="http://lib3.msu.ac.th/search~S0*thx?/c330+&#3605;46&#3624;/c330+b546c8/-3,-1,,E/browse" TargetMode="External"/><Relationship Id="rId28" Type="http://schemas.openxmlformats.org/officeDocument/2006/relationships/hyperlink" Target="http://lib3.msu.ac.th/search~S0*thx?/c330+&#3605;46&#3624;/c330+b546c8/-3,-1,,E/browse" TargetMode="External"/><Relationship Id="rId29" Type="http://schemas.openxmlformats.org/officeDocument/2006/relationships/hyperlink" Target="http://lib3.msu.ac.th/search~S0*thx?/c330+&#3605;46&#3624;/c330+b546c8/-3,-1,,E/browse" TargetMode="External"/><Relationship Id="rId30" Type="http://schemas.openxmlformats.org/officeDocument/2006/relationships/hyperlink" Target="http://lib3.msu.ac.th/search~S0*thx?/c330+&#3605;46&#3624;/c330+b546c8/-3,-1,,E/browse" TargetMode="External"/><Relationship Id="rId31" Type="http://schemas.openxmlformats.org/officeDocument/2006/relationships/hyperlink" Target="http://lib3.msu.ac.th/search~S0*thx?/c330+&#3605;46&#3624;/c330+b546c8/-3,-1,,E/browse" TargetMode="External"/><Relationship Id="rId32" Type="http://schemas.openxmlformats.org/officeDocument/2006/relationships/hyperlink" Target="http://lib3.msu.ac.th/search~S0*thx?/c330+&#3605;46&#3624;/c330+b546c8/-3,-1,,E/browse" TargetMode="External"/><Relationship Id="rId33" Type="http://schemas.openxmlformats.org/officeDocument/2006/relationships/hyperlink" Target="http://lib3.msu.ac.th/search~S0*thx?/c330+&#3605;46&#3624;/c330+b546c8/-3,-1,,E/browse" TargetMode="External"/><Relationship Id="rId34" Type="http://schemas.openxmlformats.org/officeDocument/2006/relationships/hyperlink" Target="http://lib3.msu.ac.th/search~S0*thx?/c330+&#3605;46&#3624;/c330+b546c8/-3,-1,,E/browse" TargetMode="External"/><Relationship Id="rId35" Type="http://schemas.openxmlformats.org/officeDocument/2006/relationships/hyperlink" Target="http://lib3.msu.ac.th/search~S0*thx?/c330+&#3605;46&#3624;/c330+b546c8/-3,-1,,E/browse" TargetMode="External"/><Relationship Id="rId36" Type="http://schemas.openxmlformats.org/officeDocument/2006/relationships/hyperlink" Target="http://lib3.msu.ac.th/search~S0*thx?/c330+&#3605;46&#3624;/c330+b546c8/-3,-1,,E/browse" TargetMode="External"/><Relationship Id="rId37" Type="http://schemas.openxmlformats.org/officeDocument/2006/relationships/hyperlink" Target="http://lib3.msu.ac.th/search~S0*thx?/c330+&#3605;46&#3624;/c330+b546c8/-3,-1,,E/browse" TargetMode="External"/><Relationship Id="rId38" Type="http://schemas.openxmlformats.org/officeDocument/2006/relationships/hyperlink" Target="http://lib3.msu.ac.th/search~S0*thx?/c330+&#3605;46&#3624;/c330+b546c8/-3,-1,,E/browse" TargetMode="External"/><Relationship Id="rId39" Type="http://schemas.openxmlformats.org/officeDocument/2006/relationships/hyperlink" Target="http://lib3.msu.ac.th/search~S0*thx?/c330+&#3605;46&#3624;/c330+b546c8/-3,-1,,E/browse" TargetMode="External"/><Relationship Id="rId40" Type="http://schemas.openxmlformats.org/officeDocument/2006/relationships/hyperlink" Target="http://lib3.msu.ac.th/search~S0*thx?/c330+&#3605;46&#3624;/c330+b546c8/-3,-1,,E/browse" TargetMode="External"/><Relationship Id="rId41" Type="http://schemas.openxmlformats.org/officeDocument/2006/relationships/hyperlink" Target="http://lib3.msu.ac.th/search~S0*thx?/c330+&#3605;46&#3624;/c330+b546c8/-3,-1,,E/browse" TargetMode="External"/><Relationship Id="rId42" Type="http://schemas.openxmlformats.org/officeDocument/2006/relationships/hyperlink" Target="http://lib3.msu.ac.th/search~S0*thx?/c330+&#3605;46&#3624;/c330+b546c8/-3,-1,,E/browse" TargetMode="External"/><Relationship Id="rId43" Type="http://schemas.openxmlformats.org/officeDocument/2006/relationships/hyperlink" Target="http://lib3.msu.ac.th/search~S0*thx?/c330+&#3605;46&#3624;/c330+b546c8/-3,-1,,E/browse" TargetMode="External"/><Relationship Id="rId4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056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e3e3ff"/>
                </a:solidFill>
                <a:latin typeface="Arial"/>
              </a:rPr>
              <a:t>สืบค้น 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web opac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268280"/>
            <a:ext cx="8496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เสน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อาจารย์ เหมราช  ธนปัทม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ผู้จัดท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นางสาววิราวรรณ  ประเสริฐสังข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รหัส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510109141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คณะการบัญชีและการจัดการ มหาวิทยาลัยมหาสารค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31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เล่มที่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 </a:t>
            </a: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อาหาร และสุขภาพ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ชื่อเรื่อง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อาหาร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สุขภาพ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บรรณาธิการโดย ชนิดา ปโชติกา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ศัลยา คงสมบูรณ์เวช และ อภิสิทธิ์ ฉัตรทนานนท์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พิมพลักษณ์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กรุงเทพฯ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เสริมมิตร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2550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ครั้งที่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พิมพ์ครั้งที่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Rating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LOCA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CALL NUMBER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สถานภาพ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หนังสือทั่วไป ชั้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641.302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 อ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63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อ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  บนชั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ขนาด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1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หน้า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ภาพประกอ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25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ซ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เลขมาตรฐาน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9749305183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หัวเรื่อง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อาหารเพื่อสุขภาพ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โภชนาการ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สุขภาพ -- แง่โภชนาการ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ผู้แต่งร่วม 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10"/>
              </a:rPr>
              <a:t>ชนิ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11"/>
              </a:rPr>
              <a:t>ดา 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12"/>
              </a:rPr>
              <a:t>ปโช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13"/>
              </a:rPr>
              <a:t>ติการ</a:t>
            </a:r>
            <a:r>
              <a:rPr b="0" i="1" lang="en-US" sz="2800" spc="-1" strike="noStrike" u="sng">
                <a:solidFill>
                  <a:srgbClr val="00ffcc"/>
                </a:solidFill>
                <a:uFillTx/>
                <a:latin typeface="Arial"/>
                <a:hlinkClick r:id="rId14"/>
              </a:rPr>
              <a:t>, 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15"/>
              </a:rPr>
              <a:t>บรรณาธิการ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16"/>
              </a:rPr>
              <a:t>ศัลยา คงสมบูรณ์เวช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7"/>
              </a:rPr>
              <a:t>, 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18"/>
              </a:rPr>
              <a:t>บรรณาธิการ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19"/>
              </a:rPr>
              <a:t>อภิสิทธิ์ 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20"/>
              </a:rPr>
              <a:t>ฉัตรทนา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21"/>
              </a:rPr>
              <a:t>นนท์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22"/>
              </a:rPr>
              <a:t>, 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23"/>
              </a:rPr>
              <a:t>บรรณาธิการ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ช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เพิ่ม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อาหารและสุขภา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228240"/>
            <a:ext cx="81471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เล่มที่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 </a:t>
            </a: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บัญชีกองทุน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ffffff"/>
                </a:solidFill>
                <a:latin typeface="Arial"/>
              </a:rPr>
              <a:t>ผู้แต่ง</a:t>
            </a:r>
            <a:r>
              <a:rPr b="0" i="1" lang="th-TH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พรพรรณ เอกเผ่าพันธุ์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th-TH" sz="2400" spc="-1" strike="noStrike">
                <a:solidFill>
                  <a:srgbClr val="ffffff"/>
                </a:solidFill>
                <a:latin typeface="Arial"/>
              </a:rPr>
              <a:t>ชื่อเรื่อง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บัญชีกองทุน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พรพรรณ เอกเผ่าพันธุ์</a:t>
            </a:r>
            <a:r>
              <a:rPr b="0" i="1" lang="th-TH" sz="2400" spc="-1" strike="noStrike">
                <a:solidFill>
                  <a:srgbClr val="ffffff"/>
                </a:solidFill>
                <a:latin typeface="Arial"/>
              </a:rPr>
              <a:t>พิมพลักษณ์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กรุงเทพฯ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ฟิสิกส์เซ็นเตอร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2536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Rating</a:t>
            </a: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LOC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ALL NUMBER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สถานภาพ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หนังสือทั่วไป ชั้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 657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บ บนชั้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ศรีสวัสดิ์ 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657</a:t>
            </a: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 พ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44</a:t>
            </a: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บ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 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บนชั้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ศรีสวัสดิ์ 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657</a:t>
            </a: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 พ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0"/>
              </a:rPr>
              <a:t>44</a:t>
            </a: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11"/>
              </a:rPr>
              <a:t>บ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 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บนชั้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ศรีสวัสดิ์ 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2"/>
              </a:rPr>
              <a:t>657</a:t>
            </a: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13"/>
              </a:rPr>
              <a:t> พ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4"/>
              </a:rPr>
              <a:t>44</a:t>
            </a: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15"/>
              </a:rPr>
              <a:t>บ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 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บนชั้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หนังสือทั่วไป ชั้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6"/>
              </a:rPr>
              <a:t>657</a:t>
            </a: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17"/>
              </a:rPr>
              <a:t> พ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8"/>
              </a:rPr>
              <a:t>44</a:t>
            </a: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19"/>
              </a:rPr>
              <a:t>บ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 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บนช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ffffff"/>
                </a:solidFill>
                <a:latin typeface="Arial"/>
              </a:rPr>
              <a:t>ขนา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4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หน้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26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ซ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th-TH" sz="2400" spc="-1" strike="noStrike">
                <a:solidFill>
                  <a:srgbClr val="ffffff"/>
                </a:solidFill>
                <a:latin typeface="Arial"/>
              </a:rPr>
              <a:t>เลขมาตรฐาน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9747421267</a:t>
            </a:r>
            <a:r>
              <a:rPr b="0" i="1" lang="th-TH" sz="2400" spc="-1" strike="noStrike">
                <a:solidFill>
                  <a:srgbClr val="ffffff"/>
                </a:solidFill>
                <a:latin typeface="Arial"/>
              </a:rPr>
              <a:t>หมายเหตุ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ThaiLIS2 Union Catalog</a:t>
            </a:r>
            <a:r>
              <a:rPr b="0" i="1" lang="th-TH" sz="2400" spc="-1" strike="noStrike">
                <a:solidFill>
                  <a:srgbClr val="ffffff"/>
                </a:solidFill>
                <a:latin typeface="Arial"/>
              </a:rPr>
              <a:t>หัวเรื่อง</a:t>
            </a:r>
            <a:r>
              <a:rPr b="0" i="1" lang="th-TH" sz="2400" spc="-1" strike="noStrike" u="sng">
                <a:solidFill>
                  <a:srgbClr val="00ffcc"/>
                </a:solidFill>
                <a:uFillTx/>
                <a:latin typeface="Arial"/>
                <a:hlinkClick r:id="rId20"/>
              </a:rPr>
              <a:t>การบัญชี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21"/>
              </a:rPr>
              <a:t>งบประมาณ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24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เล่มที่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 </a:t>
            </a: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เศรษฐศาสตร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ผู้แต่ง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เศรษฐ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สยา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ชื่อเรื่อง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โรงงาน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บ้านนา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เศรษฐสยาม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พิมพลักษณ์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กรุงเทพฯ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ศึกษิตสยา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2523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Rating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LOCA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CALL NUMBER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สถานภาพ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หนังสือทั่วไป ชั้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 330.9593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4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ร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 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บนชั้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ศรีสวัสดิ์ 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330.9593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 ศ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84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ร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 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บนชั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ขนาด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9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หน้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18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ซ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ชื่อชุด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เศรษฐศาสตร์-การเมือง </a:t>
            </a:r>
            <a:r>
              <a:rPr b="0" i="1" lang="en-US" sz="28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; 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10"/>
              </a:rPr>
              <a:t>อันดับที่ </a:t>
            </a:r>
            <a:r>
              <a:rPr b="0" i="1" lang="en-US" sz="2800" spc="-1" strike="noStrike" u="sng">
                <a:solidFill>
                  <a:srgbClr val="00ffcc"/>
                </a:solidFill>
                <a:uFillTx/>
                <a:latin typeface="Arial"/>
                <a:hlinkClick r:id="rId11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หมายเหตุ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ชื่อหน้าปกนอก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ว่าด้วยเศรษฐกิจ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ชาวนา กรรมกร โรงงาน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บ้านนา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ThaiLIS Union Catalog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หัวเรื่อง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12"/>
              </a:rPr>
              <a:t>ไทย -- ภาวะเศรษฐกิจ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13"/>
              </a:rPr>
              <a:t>ชาวนา -- ภาวะเศรษฐกิจ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14"/>
              </a:rPr>
              <a:t>แรงงาน -- ภาวะเศรษฐกิจ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15"/>
              </a:rPr>
              <a:t>กรรมกร -- ภาวะเศรษฐกิจ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ช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เพิ่ม 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16"/>
              </a:rPr>
              <a:t>ว่าด้วยเศรษฐกิจ...ชาวนากรรมกร โรงงาน-บ้านนา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เล่มที่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4 </a:t>
            </a: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เศรษฐศาสตร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000" spc="-1" strike="noStrike">
                <a:solidFill>
                  <a:srgbClr val="ffffff"/>
                </a:solidFill>
                <a:latin typeface="Arial"/>
              </a:rPr>
              <a:t>ผู้แต่ง</a:t>
            </a:r>
            <a:r>
              <a:rPr b="0" i="1" lang="th-TH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ตลาดหลักทรัพย์แห่งประเทศไทย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th-TH" sz="2000" spc="-1" strike="noStrike">
                <a:solidFill>
                  <a:srgbClr val="ffffff"/>
                </a:solidFill>
                <a:latin typeface="Arial"/>
              </a:rPr>
              <a:t>ชื่อเรื่อง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เศรษฐศาสตร์ 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nomics 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สถาบันพัฒนาความรู้ตลาดทุน ตลาดหลักทรัพย์แห่งประเทศไทย</a:t>
            </a:r>
            <a:r>
              <a:rPr b="0" i="1" lang="th-TH" sz="2000" spc="-1" strike="noStrike">
                <a:solidFill>
                  <a:srgbClr val="ffffff"/>
                </a:solidFill>
                <a:latin typeface="Arial"/>
              </a:rPr>
              <a:t>พิมพลักษณ์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กรุงเทพฯ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ตลาดหลักทรัพย์แห่งประเทศไท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2548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Rating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LOCATION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CALL NUMBER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สถานภาพ   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SET Corner Floor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 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330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 ต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46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     บนชั้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SET Corner Floor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  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330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 ต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0"/>
              </a:rPr>
              <a:t>46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11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บนชั้น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SET Corner Floor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 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2"/>
              </a:rPr>
              <a:t>330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13"/>
              </a:rPr>
              <a:t> ต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4"/>
              </a:rPr>
              <a:t>46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15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บนชั้น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SET Corner Floor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   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6"/>
              </a:rPr>
              <a:t>330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17"/>
              </a:rPr>
              <a:t> ต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8"/>
              </a:rPr>
              <a:t>46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19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บนชั้น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SET Corner Floor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   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20"/>
              </a:rPr>
              <a:t>330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21"/>
              </a:rPr>
              <a:t> ต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22"/>
              </a:rPr>
              <a:t>46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23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บนชั้น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SET Corner Floor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 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24"/>
              </a:rPr>
              <a:t>330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25"/>
              </a:rPr>
              <a:t> ต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26"/>
              </a:rPr>
              <a:t>46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27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บนชั้น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SET Corner Floor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   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28"/>
              </a:rPr>
              <a:t>330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29"/>
              </a:rPr>
              <a:t> ต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30"/>
              </a:rPr>
              <a:t>46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31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บนชั้น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SET Corner Floor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   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32"/>
              </a:rPr>
              <a:t>330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33"/>
              </a:rPr>
              <a:t> ต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34"/>
              </a:rPr>
              <a:t>46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35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บนชั้น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หนังสือทั่วไป ชั้น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36"/>
              </a:rPr>
              <a:t>330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37"/>
              </a:rPr>
              <a:t> ต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38"/>
              </a:rPr>
              <a:t>46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39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บนชั้น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SET Corner Floor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   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40"/>
              </a:rPr>
              <a:t>330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41"/>
              </a:rPr>
              <a:t> ต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42"/>
              </a:rPr>
              <a:t>46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43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บนชั้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000" spc="-1" strike="noStrike">
                <a:solidFill>
                  <a:srgbClr val="ffffff"/>
                </a:solidFill>
                <a:latin typeface="Arial"/>
              </a:rPr>
              <a:t>ขนาด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88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หน้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26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ซม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th-TH" sz="2000" spc="-1" strike="noStrike">
                <a:solidFill>
                  <a:srgbClr val="ffffff"/>
                </a:solidFill>
                <a:latin typeface="Arial"/>
              </a:rPr>
              <a:t>เลขมาตรฐาน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9749308964</a:t>
            </a:r>
            <a:r>
              <a:rPr b="0" i="1" lang="th-TH" sz="2000" spc="-1" strike="noStrike">
                <a:solidFill>
                  <a:srgbClr val="ffffff"/>
                </a:solidFill>
                <a:latin typeface="Arial"/>
              </a:rPr>
              <a:t>หมายเหตุ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ThaiLIS Union Catalog 101006</a:t>
            </a:r>
            <a:r>
              <a:rPr b="0" i="1" lang="th-TH" sz="2000" spc="-1" strike="noStrike">
                <a:solidFill>
                  <a:srgbClr val="ffffff"/>
                </a:solidFill>
                <a:latin typeface="Arial"/>
              </a:rPr>
              <a:t>หัวเรื่อง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เศรษฐศาสตร์ </a:t>
            </a:r>
            <a:r>
              <a:rPr b="0" i="1" lang="th-TH" sz="2000" spc="-1" strike="noStrike">
                <a:solidFill>
                  <a:srgbClr val="ffffff"/>
                </a:solidFill>
                <a:latin typeface="Arial"/>
              </a:rPr>
              <a:t>ช</a:t>
            </a:r>
            <a:r>
              <a:rPr b="0" i="1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th-TH" sz="2000" spc="-1" strike="noStrike">
                <a:solidFill>
                  <a:srgbClr val="ffffff"/>
                </a:solidFill>
                <a:latin typeface="Arial"/>
              </a:rPr>
              <a:t>เพิ่ม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Economic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1:56:47Z</dcterms:created>
  <dc:creator>CasperX</dc:creator>
  <dc:description/>
  <dc:language>en-US</dc:language>
  <cp:lastModifiedBy>CasperX</cp:lastModifiedBy>
  <dcterms:modified xsi:type="dcterms:W3CDTF">2010-09-13T02:38:05Z</dcterms:modified>
  <cp:revision>3</cp:revision>
  <dc:subject/>
  <dc:title>สืบค้น web opac</dc:title>
</cp:coreProperties>
</file>