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6DDA3-7D9E-4B69-ACDA-614D9D7AE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5480" y="533160"/>
            <a:ext cx="8337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25480" y="1905120"/>
            <a:ext cx="8337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825480" y="4014360"/>
            <a:ext cx="8337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38590-1838-4C13-9109-998227F4B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25480" y="533160"/>
            <a:ext cx="8337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25480" y="1905120"/>
            <a:ext cx="406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97960" y="1905120"/>
            <a:ext cx="406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25480" y="4014360"/>
            <a:ext cx="406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97960" y="4014360"/>
            <a:ext cx="406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75A60-20BE-4929-896E-5A8BF2782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825480" y="533160"/>
            <a:ext cx="8337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25480" y="1905120"/>
            <a:ext cx="2684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644640" y="1905120"/>
            <a:ext cx="2684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463800" y="1905120"/>
            <a:ext cx="2684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825480" y="4014360"/>
            <a:ext cx="2684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644640" y="4014360"/>
            <a:ext cx="2684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463800" y="4014360"/>
            <a:ext cx="2684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2608A-C267-4018-8633-419359456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0532D-1F26-428D-8EDB-2E5E7C953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25480" y="533160"/>
            <a:ext cx="8337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825480" y="1905120"/>
            <a:ext cx="83376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8E68D-86B0-4ABC-B91B-00BC0C09E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25480" y="533160"/>
            <a:ext cx="8337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25480" y="1905120"/>
            <a:ext cx="8337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AACEB-2483-4BAC-85AF-C23E10CAB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25480" y="533160"/>
            <a:ext cx="8337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25480" y="1905120"/>
            <a:ext cx="406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97960" y="1905120"/>
            <a:ext cx="406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F31F4-F49C-4A8C-9066-D4C88B68D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25480" y="533160"/>
            <a:ext cx="8337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47ED7-ECA9-4227-B285-5C70F77C4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825480" y="533160"/>
            <a:ext cx="8337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919B1-0146-4AB0-945C-452C3581C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25480" y="533160"/>
            <a:ext cx="8337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25480" y="1905120"/>
            <a:ext cx="406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97960" y="1905120"/>
            <a:ext cx="406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825480" y="4014360"/>
            <a:ext cx="406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88FE9-86D4-4D32-A739-28982BD0B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25480" y="533160"/>
            <a:ext cx="8337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825480" y="1905120"/>
            <a:ext cx="83376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920A0-5487-4F4D-8DDF-ACEF890B0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25480" y="533160"/>
            <a:ext cx="8337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25480" y="1905120"/>
            <a:ext cx="406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97960" y="1905120"/>
            <a:ext cx="406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97960" y="4014360"/>
            <a:ext cx="406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88AD4-C10B-4018-B3A7-81A29455B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25480" y="533160"/>
            <a:ext cx="8337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25480" y="1905120"/>
            <a:ext cx="406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97960" y="1905120"/>
            <a:ext cx="406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25480" y="4014360"/>
            <a:ext cx="8337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C5360-08F0-499F-B146-037431957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25480" y="533160"/>
            <a:ext cx="8337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25480" y="1905120"/>
            <a:ext cx="8337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825480" y="4014360"/>
            <a:ext cx="8337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00ACD-19EC-47CB-B668-33B5C98BD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25480" y="533160"/>
            <a:ext cx="8337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25480" y="1905120"/>
            <a:ext cx="406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97960" y="1905120"/>
            <a:ext cx="406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25480" y="4014360"/>
            <a:ext cx="406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97960" y="4014360"/>
            <a:ext cx="406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BFD37-8529-4F72-BFE6-C20091169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25480" y="533160"/>
            <a:ext cx="8337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25480" y="1905120"/>
            <a:ext cx="2684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644640" y="1905120"/>
            <a:ext cx="2684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463800" y="1905120"/>
            <a:ext cx="2684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825480" y="4014360"/>
            <a:ext cx="2684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644640" y="4014360"/>
            <a:ext cx="2684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463800" y="4014360"/>
            <a:ext cx="2684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FD25D-9808-44BD-B9AA-3D9DF3B13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25480" y="533160"/>
            <a:ext cx="8337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25480" y="1905120"/>
            <a:ext cx="8337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8A333-5057-4D8A-948C-16964C800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5480" y="533160"/>
            <a:ext cx="8337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25480" y="1905120"/>
            <a:ext cx="406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97960" y="1905120"/>
            <a:ext cx="406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B5C12-EFE5-41F5-B03F-B1A72C12D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25480" y="533160"/>
            <a:ext cx="8337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C003A-0DB2-478D-BAA1-565A75DF7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825480" y="533160"/>
            <a:ext cx="8337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79431-DE38-4F00-92BF-FF65B00E5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25480" y="533160"/>
            <a:ext cx="8337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25480" y="1905120"/>
            <a:ext cx="406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97960" y="1905120"/>
            <a:ext cx="406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825480" y="4014360"/>
            <a:ext cx="406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9A70C-A4FF-4629-9EB8-F3ACC35AE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25480" y="533160"/>
            <a:ext cx="8337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25480" y="1905120"/>
            <a:ext cx="406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97960" y="1905120"/>
            <a:ext cx="406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97960" y="4014360"/>
            <a:ext cx="406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E5790-B6EF-4248-9DDA-AD756E495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25480" y="533160"/>
            <a:ext cx="8337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25480" y="1905120"/>
            <a:ext cx="406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97960" y="1905120"/>
            <a:ext cx="406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825480" y="4014360"/>
            <a:ext cx="8337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7B664-AF49-4D61-B2AD-FAADFF02F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25480" y="533160"/>
            <a:ext cx="8337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25480" y="1905120"/>
            <a:ext cx="8337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25120" y="6391440"/>
            <a:ext cx="2228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632040" y="6404040"/>
            <a:ext cx="3137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429320" y="6400800"/>
            <a:ext cx="1733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63530-ED15-49B9-9134-40FAEF6789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82520" y="228600"/>
            <a:ext cx="9558000" cy="6095880"/>
            <a:chOff x="182520" y="228600"/>
            <a:chExt cx="9558000" cy="6095880"/>
          </a:xfrm>
        </p:grpSpPr>
        <p:sp>
          <p:nvSpPr>
            <p:cNvPr id="6" name=""/>
            <p:cNvSpPr/>
            <p:nvPr/>
          </p:nvSpPr>
          <p:spPr>
            <a:xfrm>
              <a:off x="182520" y="228600"/>
              <a:ext cx="9558000" cy="6095880"/>
            </a:xfrm>
            <a:prstGeom prst="roundRect">
              <a:avLst>
                <a:gd name="adj" fmla="val 11046"/>
              </a:avLst>
            </a:prstGeom>
            <a:noFill/>
            <a:ln w="2844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825840" y="1709640"/>
              <a:ext cx="8336880" cy="0"/>
            </a:xfrm>
            <a:prstGeom prst="line">
              <a:avLst/>
            </a:prstGeom>
            <a:ln w="381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47680" y="380880"/>
            <a:ext cx="9410760" cy="5639040"/>
          </a:xfrm>
          <a:prstGeom prst="roundRect">
            <a:avLst>
              <a:gd name="adj" fmla="val 7912"/>
            </a:avLst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53880" y="488880"/>
            <a:ext cx="9139320" cy="4768920"/>
          </a:xfrm>
          <a:prstGeom prst="roundRect">
            <a:avLst>
              <a:gd name="adj" fmla="val 731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486080" y="3338640"/>
            <a:ext cx="6933960" cy="228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42680" y="856800"/>
            <a:ext cx="84200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1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i="1" lang="en-US" sz="41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825120" y="6391440"/>
            <a:ext cx="2228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632040" y="6391440"/>
            <a:ext cx="3137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7429320" y="6391440"/>
            <a:ext cx="1733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0ED11-600E-4063-8538-2C5A42026A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380880"/>
            <a:ext cx="9906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KOMPLESI, WORKOVER da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STIMULAS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0" y="3314880"/>
            <a:ext cx="990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r.-Ing. Ir. Rudi Rubiandini R.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5315040"/>
            <a:ext cx="9906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Multi Petro Resour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25480" y="533160"/>
            <a:ext cx="8337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WORKOVER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57320" y="2007720"/>
            <a:ext cx="7873920" cy="366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wabbing : proses pengeluaran fluida yang terakumulasi didasar sumur yang disebabkan berhentinya sumur mengalir secara ala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nd control 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avel Pack : penempatan gravel dalam lubang sumur untuk mencegah terproduksinya pas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nd consolidation : injeksi resin ke dalam formasi untuk mengikat butiran pasir forma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in Coated Gravel pack : injeksi resin pembungkus gravel untuk membentuk jaringan batu pasir sintesis yang permeab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25480" y="533160"/>
            <a:ext cx="8337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WORKOVER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1752120"/>
            <a:ext cx="833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rrosion Removal : penggunaan cathodic protection atau inhibitor dalam menganggulangi korosi material logam dalam sum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cale Removal : pembersihan endapan atau scale dalam lubang perforasi, sepanjang tubing atau flowline yang menurunkan produks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raffin Removal : secara mekanik, kimia atau pan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25480" y="533160"/>
            <a:ext cx="8337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WORKOVER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8080" y="1752120"/>
            <a:ext cx="8337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ugging Back : penutupan zone produksi terbawah sehingga tidak terjadi proses aliran antar zone atau persiapan untuk side tracking (Gbr. 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illing Deeper : pemboran lebih dalam dibawah zone produksi terbawah sumur (Gbr. 7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de tracking : untuk menghindari zone yang berbahaya, atau relokasi lubang bor untuk mencapai daerah pengurasan yang lebih baik (Gbr. 8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762120" y="838080"/>
            <a:ext cx="8686800" cy="522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457200" y="609480"/>
            <a:ext cx="9067680" cy="541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609480" y="762120"/>
            <a:ext cx="876312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25480" y="533160"/>
            <a:ext cx="8337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WORKOVER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25480" y="1905120"/>
            <a:ext cx="8337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teksi kebocoran  dengan menggunakan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inuous Flowmeter (Gbr. 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cker flowmeter (Gbr. 1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solasi : plugging back suatu sumur untuk mengisolasi zone produksi (Gbr. 1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toda Plugging back 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chani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trievable Bridge Plu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914400" y="609480"/>
            <a:ext cx="8001000" cy="541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838080" y="380880"/>
            <a:ext cx="830592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58840" y="990720"/>
            <a:ext cx="9383760" cy="487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25480" y="533160"/>
            <a:ext cx="8337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OBJECTIVE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25480" y="1905120"/>
            <a:ext cx="8337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Mengenali faktor yang mempengaruhi dilakukannya komplesi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Mengenali jenis-jenis komplesi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Memahami operasi well service dan workover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Mengenali jenis-jenis operasi stimulasi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25480" y="533160"/>
            <a:ext cx="8337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STIMULASI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25480" y="1905120"/>
            <a:ext cx="8337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idizing : proses injeksi asam ke dalam formasi untuk membersihkan daerah sekitar lubang bor dari penyumbatan lubang formas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idizing Fracturing : hampir sama dengan acidizing namun injeksi asam dilakukan dengan tekanan tingg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acturing : proses perekahan fluida cair ke dalam formasi dengan tekanan tinggi untuk merekahkan formasi di sekitar lubang b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25480" y="533160"/>
            <a:ext cx="8337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KOMPLESI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825480" y="1905120"/>
            <a:ext cx="8337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Jenis Komplesi tergantung pada faktor :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64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iay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64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iperlukannya well stimul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64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eberapa masalah produksi khusus seperti sand  control atau artificial lif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64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Jenis pendorong reservoi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64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Lokasi batas gas-minyak dan air-minya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64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kemungkinan dilakukannya secondary recovery di masa yang akan data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25480" y="533160"/>
            <a:ext cx="8337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KOMPLESI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3250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oda Well completion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ttom Hole Comple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n Hole completion (Gbr.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sed Hole Completion (Casing Perforat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ubing Comple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ngle Completion (Gbr. 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ingle completion (Gbr. 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ple completion (Gbr. 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er Comple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reen Liner Completion (Gbr. 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ated Liner Comple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vel pack Comple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nd Consolid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33520" y="380880"/>
            <a:ext cx="8610480" cy="576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33520" y="384120"/>
            <a:ext cx="8839080" cy="578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444600" y="1066680"/>
            <a:ext cx="901836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838080" y="838080"/>
            <a:ext cx="830592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762120" y="614520"/>
            <a:ext cx="8458200" cy="54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14T01:44:47Z</dcterms:created>
  <dc:creator>Rudi, Rafi &amp; Berin</dc:creator>
  <dc:description/>
  <dc:language>en-US</dc:language>
  <cp:lastModifiedBy>Andika Rizky</cp:lastModifiedBy>
  <dcterms:modified xsi:type="dcterms:W3CDTF">2005-04-29T15:45:51Z</dcterms:modified>
  <cp:revision>12</cp:revision>
  <dc:subject/>
  <dc:title>No Slide Title</dc:title>
</cp:coreProperties>
</file>