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7B88-1DAA-458B-93CC-9E482B38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8337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5480" y="4014360"/>
            <a:ext cx="8337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EFB3-F415-4B5A-AA15-D3B652A7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97960" y="190512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5480" y="401436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97960" y="401436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AFFC-438C-4348-A7C8-EF386A0A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2684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4640" y="1905120"/>
            <a:ext cx="2684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63800" y="1905120"/>
            <a:ext cx="2684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5480" y="4014360"/>
            <a:ext cx="2684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4640" y="4014360"/>
            <a:ext cx="2684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63800" y="4014360"/>
            <a:ext cx="2684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4F92-2402-4569-BDCB-68C115C4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ED19-8840-4F7E-A42D-089886F8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5480" y="1905120"/>
            <a:ext cx="8337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F55D-EDD3-4B0C-A466-50BB9A0F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8337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4E01-A24F-451F-89B0-41F3B73C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406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7960" y="1905120"/>
            <a:ext cx="406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72AD-C538-4577-8C05-AA0FB1DF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3F42-8E41-4F88-B826-DA6EAC5B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5480" y="533160"/>
            <a:ext cx="8337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88DC-1CA3-423D-9B96-D755B097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7960" y="1905120"/>
            <a:ext cx="406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5480" y="401436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4300-FF02-4B3F-96AC-F578E1A5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5480" y="1905120"/>
            <a:ext cx="8337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65F0-26C1-42FE-96F1-91B74550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406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7960" y="190512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97960" y="401436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C12A-CAA3-41FE-9810-B199830A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7960" y="190512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5480" y="4014360"/>
            <a:ext cx="8337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314F-70CF-4BCE-9DC8-1FA19FC9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8337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5480" y="4014360"/>
            <a:ext cx="8337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6981-2DD7-47BC-AC0B-EA777781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97960" y="190512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5480" y="401436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97960" y="401436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33C5-FE3C-48DD-B39F-122C2475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2684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4640" y="1905120"/>
            <a:ext cx="2684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63800" y="1905120"/>
            <a:ext cx="2684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5480" y="4014360"/>
            <a:ext cx="2684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4640" y="4014360"/>
            <a:ext cx="2684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63800" y="4014360"/>
            <a:ext cx="2684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6D26-37C1-44BE-BD3A-D4148C52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8337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A5C4-2660-473C-A423-CAB0F28D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406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7960" y="1905120"/>
            <a:ext cx="406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688-14B8-4BB2-98A1-AEEBC686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B9A3-E12C-43EC-949D-F5965437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5480" y="533160"/>
            <a:ext cx="8337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72A-A715-4F00-AEAA-E971CA66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7960" y="1905120"/>
            <a:ext cx="406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5480" y="401436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64C1-A782-4E9E-ABA8-862D9C1A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406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7960" y="190512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97960" y="401436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CC9C-4729-4D91-A7CC-6EA23D8B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97960" y="1905120"/>
            <a:ext cx="406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5480" y="4014360"/>
            <a:ext cx="8337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800-AD2C-48F7-BCF9-15E508CB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5480" y="1905120"/>
            <a:ext cx="8337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5120" y="6391440"/>
            <a:ext cx="22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2040" y="640404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29320" y="6400800"/>
            <a:ext cx="173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8913-2812-4F33-AAEA-2C3891CAF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82520" y="228600"/>
            <a:ext cx="9558000" cy="6095880"/>
            <a:chOff x="182520" y="228600"/>
            <a:chExt cx="9558000" cy="6095880"/>
          </a:xfrm>
        </p:grpSpPr>
        <p:sp>
          <p:nvSpPr>
            <p:cNvPr id="6" name=""/>
            <p:cNvSpPr/>
            <p:nvPr/>
          </p:nvSpPr>
          <p:spPr>
            <a:xfrm>
              <a:off x="182520" y="228600"/>
              <a:ext cx="95580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25840" y="1709640"/>
              <a:ext cx="83368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47680" y="380880"/>
            <a:ext cx="941076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3880" y="488880"/>
            <a:ext cx="913932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86080" y="3338640"/>
            <a:ext cx="693396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856800"/>
            <a:ext cx="8420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25120" y="6391440"/>
            <a:ext cx="22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632040" y="639144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429320" y="6391440"/>
            <a:ext cx="173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10B8-4EAF-4ED8-A497-97B6AAB0A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380880"/>
            <a:ext cx="990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KOMPLESI, WORKOVER d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TIMULA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31488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r.-Ing. Ir. Rudi Rubiandini R.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315040"/>
            <a:ext cx="990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ulti Petro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ORKOV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57320" y="2007720"/>
            <a:ext cx="7873920" cy="36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abbing : proses pengeluaran fluida yang terakumulasi didasar sumur yang disebabkan berhentinya sumur mengalir secara al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d control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el Pack : penempatan gravel dalam lubang sumur untuk mencegah terproduksinya pas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d consolidation : injeksi resin ke dalam formasi untuk mengikat butiran pasir form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n Coated Gravel pack : injeksi resin pembungkus gravel untuk membentuk jaringan batu pasir sintesis yang permea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ORKOV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833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osion Removal : penggunaan cathodic protection atau inhibitor dalam menganggulangi korosi material logam dalam su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le Removal : pembersihan endapan atau scale dalam lubang perforasi, sepanjang tubing atau flowline yang menurunkan produ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ffin Removal : secara mekanik, kimia atau p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ORKOV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8337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ging Back : penutupan zone produksi terbawah sehingga tidak terjadi proses aliran antar zone atau persiapan untuk side tracking (Gbr.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lling Deeper : pemboran lebih dalam dibawah zone produksi terbawah sumur (Gbr.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de tracking : untuk menghindari zone yang berbahaya, atau relokasi lubang bor untuk mencapai daerah pengurasan yang lebih baik (Gbr.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868680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90676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7631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ORKOV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8337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ksi kebocoran  dengan menggunaka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 Flowmeter (Gbr.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r flowmeter (Gbr.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lasi : plugging back suatu sumur untuk mengisolasi zone produksi (Gbr. 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oda Plugging back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rievable Bridge Pl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80010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83059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8840" y="990720"/>
            <a:ext cx="93837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OBJECTIV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8337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engenali faktor yang mempengaruhi dilakukannya komples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engenali jenis-jenis komples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emahami operasi well service dan workov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engenali jenis-jenis operasi stimulas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TIMULASI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8337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izing : proses injeksi asam ke dalam formasi untuk membersihkan daerah sekitar lubang bor dari penyumbatan lubang form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izing Fracturing : hampir sama dengan acidizing namun injeksi asam dilakukan dengan tekanan ting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uring : proses perekahan fluida cair ke dalam formasi dengan tekanan tinggi untuk merekahkan formasi di sekitar lubang 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KOMPLESI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5480" y="1905120"/>
            <a:ext cx="8337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Jenis Komplesi tergantung pada faktor 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ia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perlukannya well sti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berapa masalah produksi khusus seperti sand  control atau artificial li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enis pendorong reservo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kasi batas gas-minyak dan air-minya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mungkinan dilakukannya secondary recovery di masa yang akan data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5480" y="53316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KOMPLESI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325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oda Well comple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 Hole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Hole completion (Gbr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d Hole Completion (Casing Perfor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bing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Completion (Gbr.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ngle completion (Gbr.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completion (Gbr.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r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Liner Completion (Gbr.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ated Liner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el pack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d Conso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61048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384120"/>
            <a:ext cx="883908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44600" y="1066680"/>
            <a:ext cx="90183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83059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614520"/>
            <a:ext cx="8458200" cy="54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4T01:44:47Z</dcterms:created>
  <dc:creator>Rudi, Rafi &amp; Berin</dc:creator>
  <dc:description/>
  <dc:language>en-US</dc:language>
  <cp:lastModifiedBy>Andika Rizky</cp:lastModifiedBy>
  <dcterms:modified xsi:type="dcterms:W3CDTF">2005-04-29T15:45:51Z</dcterms:modified>
  <cp:revision>12</cp:revision>
  <dc:subject/>
  <dc:title>No Slide Title</dc:title>
</cp:coreProperties>
</file>