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29DC8-3F7A-4B61-B43E-57DE70D675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B4F9E-11D5-4EAD-BC34-A46563FB2D35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B8ABA8-BF02-4E16-BAE8-72F7D3DE1E7E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90E3537-260F-4B06-A76E-85A2F64017E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ubTitle"/>
          </p:nvPr>
        </p:nvSpPr>
        <p:spPr>
          <a:xfrm>
            <a:off x="595080" y="364680"/>
            <a:ext cx="1100124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17E301-A114-428D-A39A-36A7C6D52B9D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431BFC-D805-4544-BBC9-827E72918B2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FB5124-2FD4-4B06-AC36-C6D005ABAAF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5DCFA1-848E-4C94-8757-9433E95302C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8FE556-12C4-4112-B152-83E96E4FA88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EFA496-15C8-4AF8-918B-09BC4C16BBFB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3106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02620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5954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/>
          </p:nvPr>
        </p:nvSpPr>
        <p:spPr>
          <a:xfrm>
            <a:off x="43106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7"/>
          <p:cNvSpPr>
            <a:spLocks noGrp="1"/>
          </p:cNvSpPr>
          <p:nvPr>
            <p:ph/>
          </p:nvPr>
        </p:nvSpPr>
        <p:spPr>
          <a:xfrm>
            <a:off x="802620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10A5F6F-ED5A-4BD5-B120-2D87D537208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0E204D-3D80-4FFF-AE07-FBED48AA8E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7A039-0379-47A8-B489-C81E3445019B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9C9B4E-B3DC-498A-A6FE-D71E5DD8D9AB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E14745F-2890-4741-B77C-C4626944F44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0CEACA-82C3-43DF-AEB6-31D9005E952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CE45E6-07A8-4930-9C0B-2FF7B7F2ABC7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595080" y="364680"/>
            <a:ext cx="1100124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819D0A-F494-4552-9A9C-65D407E073E3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081BED-66B4-43C2-BFBD-ECD11B6330BB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465C5E-5571-4C29-A177-33FC27B1AAE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6C3778B-4225-426D-9754-E813355A7FF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07E5A82-CD11-4CEE-B8EF-63C5697C91F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514ABF-3FEA-4E60-BD3A-8F5C75CEDB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06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620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54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06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620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A2C09-E593-45AA-8048-2DE92CC497F1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3106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02620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5954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43106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802620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FF4D8D-BDAF-4523-84B3-E93355F0D1A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37AC3-F3BF-44F6-9958-121DF6A2259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C663F-1A81-417F-97F2-B47B2A9D451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D64E9-7FE9-46AA-8CFC-140A9CA8351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EA3F13-7C87-48BD-AB22-62A2C47EE5B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255E8-D85A-4BD8-BD66-2B33C60185F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595080" y="364680"/>
            <a:ext cx="1100124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4449C1-5846-4D1C-9FE1-616840EC774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53412D-CB9A-44D0-ADB4-68B5CE31F1C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1010AA-7DC8-429A-86B1-17B103F8D46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5B5175-E417-46E3-8D7B-C3AEBD65B4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A06FD-3710-4139-BF94-D0C9B9725A0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14CC67-CDEF-4433-9966-D0EB79B97FEE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3106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802620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5954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43106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802620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425760-FBA1-4DB9-96DD-53B8F0B000B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595080" y="364680"/>
            <a:ext cx="1100124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3106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802620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5954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43106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802620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327E9B-9870-4114-B191-DF40B33A3D54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BC1501E-6F1A-4DD7-93D7-690E1E74078F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2C890E3-E5A0-474C-8C42-070C6D24FD1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C007832-A23D-4C74-BC3E-AD349860D8C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2B0D00-1A2C-4CEC-B73E-45074DA0C16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595080" y="364680"/>
            <a:ext cx="1100124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136B4B6-D32B-4BFA-9F86-4023320382E1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2111B3-EADC-49C0-959E-62A78B002B78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35431C-2F92-46F9-BCA7-0E0CA10C160E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EEC187-A98C-4DA2-AD9A-C0AA3F586576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D89303-2CE0-4CCD-AC7D-3A53D396E750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782FA65-A216-4042-BF73-CAEF4E2B732A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3106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802620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5954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43106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802620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6D9294-5722-4700-8C36-4EEBA94BC81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95080" y="364680"/>
            <a:ext cx="1100124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BAC577-46CF-4CCF-AECB-617D42E8F2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3106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02620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54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43106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802620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A2B4-807E-4694-8C7E-1632CBCD933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ABA1-4518-47C0-8839-1C2310ED3CC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E3D4-926D-4509-A6EF-08005DA4D1C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9DCC-E350-4FE4-9FF9-E492BD16687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4F0E-E4B6-4050-918F-3B560DD02C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08D36-1200-4CD5-B032-041F2FBD37C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595080" y="364680"/>
            <a:ext cx="1100124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82CE-4720-438D-9BC6-7E55F5B1459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A671-5729-4F76-B545-DC54065B553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C325-5C08-46D7-8D08-CE6EB453C53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DC713-4CBA-46F6-947E-F73BDD661CF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AA06-18FA-413E-9331-2BBC1F51894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265B-58AA-49ED-B074-890C1E3E491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106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02620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954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43106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802620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A72A-9B3C-4A17-96E1-81934DED1AD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D7F096-59D6-4765-BE76-1FD61BD6D58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45FB73-FE1F-46B1-9DF2-15763F60641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4286D-E9B0-4D63-AE2F-EFC57A07A8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E40412-53B9-46B0-BBD1-DFD2461CEC2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721934-A237-40B3-AA52-163C14BF985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234101-D2D6-43C6-B0D3-F2432A0FAC2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5080" y="364680"/>
            <a:ext cx="1100124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5068C-1F1F-4CD7-B14D-C74DD672FDF0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5E4DB2-E1F8-47E6-946F-DE39CFFA6C4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A214E2-46E1-4D56-A77D-061AB84EEE2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E99C25-46AC-486B-99CA-CC751F2D846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973593-EF02-4B50-B380-694FAEF7D57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4A3398-38DD-43C8-BBAA-986531D76C3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106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02620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54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106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802620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C281EF-F8E6-471B-AAC4-75E0CA4638E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DAD348-2246-4100-A1C4-68297B3EB6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61E2F-97D6-49B9-BF33-A499BD8D8E8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60F3A-F6F6-4DC2-AF86-2A34562624F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ABD6D-91F3-4940-AA30-9F43C5944B4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77893C-C831-4B03-9722-3EC92A9CAFB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B60F87-4404-44DD-B339-6579809D4A3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595080" y="364680"/>
            <a:ext cx="1100124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9826F6-A859-4DBE-8FFB-62DF1298344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113DA-8203-4642-8D40-16FC13DBC29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D0830-FE9F-4FCB-8F1D-F4213681AB8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FCEF0B-FE02-40B1-A12C-61D16E6457A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367EA2-76FD-4AD7-ABC1-D42AA496124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3D36C-27A9-4524-9392-0764459E27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5080" y="364680"/>
            <a:ext cx="1100124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55F6F-2B25-4F7C-8CDE-86C4C2E4230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3106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02620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5954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43106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802620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88760D-AD2C-47E1-A5A4-41F87AB47FD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595080" y="364680"/>
            <a:ext cx="1100124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DF6EE1-3AD2-489B-BD47-265EFF95486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3106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02620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954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43106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802620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B36D2E-0B94-471D-BB8B-A6C4CF4C015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36CE83-913F-4207-AE6B-6257B9927D9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388D83-9FDC-488D-9BDD-774F6633493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26B625-E2A9-4EA7-8925-8E65B498F8E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14CC7E-457C-4AD6-BFF2-6A9F8F96062E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595080" y="364680"/>
            <a:ext cx="1100124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BC1846-A0CF-42CA-85E6-9487F1D8E80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EBA34A7-5CDF-4CA4-8F58-C59F240006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3E0E8-8E0E-4DFA-8DE6-D0DC7002303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346CE0-255A-48E4-9A8F-446610BEF31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11CCDD-753F-4F6C-954B-47792C79D28B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949474-AAFF-4B50-AB36-D002535C6E76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96C297C-E9E1-467A-B07D-F59B72DCE42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106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802620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5954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43106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802620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3B02C48-F861-42C5-A5EC-0ABEFD14DA17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3933E-3556-4DBD-A830-A36D5EF9009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A80F3D-0838-4E89-8672-038A5FE7C45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B4DE7-5CE1-4B53-B15A-9E39AF406BA9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8D56C-E664-46B6-AFEB-A36D3B16DA57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F6AD1-654A-49FE-A167-C18F17178B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DF5F3-953E-4E90-8960-98D253C31921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595080" y="364680"/>
            <a:ext cx="11001240" cy="38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4CC850-494C-47F3-B1F5-06B1F5014BD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6BAB6-5F42-4861-A5F3-8EF9130BEC4F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9EA461-4FEB-4E4B-ADD5-E5C371F6535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06E7D-87CF-4293-B841-C0C0F392E272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95440" y="3878640"/>
            <a:ext cx="109886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D05B85-B315-4EE3-BFFE-9B4359CD50E6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226200" y="136512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9544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6226200" y="3878640"/>
            <a:ext cx="5362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8CFEA-A04C-436A-8F39-E171D0E0E6D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31064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8026200" y="136512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954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431064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8026200" y="3878640"/>
            <a:ext cx="353808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509B91-3C75-48D3-8D0E-6B1DC8B91951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4A0ADD-BEAE-4EDF-9A81-8E88A34CAB8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66A174-BD5A-4948-A843-F5C186F7245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77DD536-47A1-439C-8FF6-4D0E3E58A4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dd a foo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11549160" y="6469200"/>
            <a:ext cx="44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F98F9-818A-41E9-B9A0-C829155CE58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Shape 61"/>
          <p:cNvSpPr/>
          <p:nvPr/>
        </p:nvSpPr>
        <p:spPr>
          <a:xfrm>
            <a:off x="10182600" y="6415200"/>
            <a:ext cx="14043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19080" bIns="19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153"/>
                </a:solidFill>
                <a:latin typeface="Calibri"/>
              </a:rPr>
              <a:t>FAB</a:t>
            </a:r>
            <a:r>
              <a:rPr b="1" lang="en-US" sz="2400" spc="-1" strike="noStrike">
                <a:solidFill>
                  <a:srgbClr val="a53f52"/>
                </a:solidFill>
                <a:latin typeface="Calibri"/>
              </a:rPr>
              <a:t>RIK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Shape 61"/>
          <p:cNvSpPr/>
          <p:nvPr/>
        </p:nvSpPr>
        <p:spPr>
          <a:xfrm>
            <a:off x="10182600" y="6415200"/>
            <a:ext cx="14043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19080" bIns="19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153"/>
                </a:solidFill>
                <a:latin typeface="Calibri"/>
              </a:rPr>
              <a:t>FAB</a:t>
            </a:r>
            <a:r>
              <a:rPr b="1" lang="en-US" sz="2400" spc="-1" strike="noStrike">
                <a:solidFill>
                  <a:srgbClr val="a53f52"/>
                </a:solidFill>
                <a:latin typeface="Calibri"/>
              </a:rPr>
              <a:t>RIK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9" name="Rectangle 6"/>
          <p:cNvGrpSpPr/>
          <p:nvPr/>
        </p:nvGrpSpPr>
        <p:grpSpPr>
          <a:xfrm>
            <a:off x="0" y="0"/>
            <a:ext cx="5035680" cy="6858000"/>
            <a:chOff x="0" y="0"/>
            <a:chExt cx="5035680" cy="6858000"/>
          </a:xfrm>
        </p:grpSpPr>
        <p:pic>
          <p:nvPicPr>
            <p:cNvPr id="380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50356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1" name=""/>
            <p:cNvSpPr/>
            <p:nvPr/>
          </p:nvSpPr>
          <p:spPr>
            <a:xfrm>
              <a:off x="0" y="0"/>
              <a:ext cx="50324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2" name="Shape 61"/>
          <p:cNvSpPr/>
          <p:nvPr/>
        </p:nvSpPr>
        <p:spPr>
          <a:xfrm>
            <a:off x="10182600" y="6415200"/>
            <a:ext cx="14043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19080" bIns="19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FABRIK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ftr" idx="1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dd a foo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sldNum" idx="13"/>
          </p:nvPr>
        </p:nvSpPr>
        <p:spPr>
          <a:xfrm>
            <a:off x="11549160" y="6469200"/>
            <a:ext cx="44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2E8B2-7DC9-49BD-916C-666170B2883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Shape 61"/>
          <p:cNvSpPr/>
          <p:nvPr/>
        </p:nvSpPr>
        <p:spPr>
          <a:xfrm>
            <a:off x="10182600" y="6415200"/>
            <a:ext cx="14043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19080" bIns="19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153"/>
                </a:solidFill>
                <a:latin typeface="Calibri"/>
              </a:rPr>
              <a:t>FAB</a:t>
            </a:r>
            <a:r>
              <a:rPr b="1" lang="en-US" sz="2400" spc="-1" strike="noStrike">
                <a:solidFill>
                  <a:srgbClr val="a53f52"/>
                </a:solidFill>
                <a:latin typeface="Calibri"/>
              </a:rPr>
              <a:t>RIK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4" name="Rectangle 6"/>
          <p:cNvGrpSpPr/>
          <p:nvPr/>
        </p:nvGrpSpPr>
        <p:grpSpPr>
          <a:xfrm>
            <a:off x="0" y="0"/>
            <a:ext cx="5035680" cy="6858000"/>
            <a:chOff x="0" y="0"/>
            <a:chExt cx="5035680" cy="6858000"/>
          </a:xfrm>
        </p:grpSpPr>
        <p:pic>
          <p:nvPicPr>
            <p:cNvPr id="425" name="Rectangle 6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50356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0" y="0"/>
              <a:ext cx="503244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7" name="Shape 61"/>
          <p:cNvSpPr/>
          <p:nvPr/>
        </p:nvSpPr>
        <p:spPr>
          <a:xfrm>
            <a:off x="10182600" y="6415200"/>
            <a:ext cx="14043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19080" bIns="19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FABRIK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dd a foo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sldNum" idx="15"/>
          </p:nvPr>
        </p:nvSpPr>
        <p:spPr>
          <a:xfrm>
            <a:off x="11549160" y="6469200"/>
            <a:ext cx="44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E7261-729E-42AF-B220-0697E3CB25B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Shape 61"/>
          <p:cNvSpPr/>
          <p:nvPr/>
        </p:nvSpPr>
        <p:spPr>
          <a:xfrm>
            <a:off x="10182600" y="6415200"/>
            <a:ext cx="14043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19080" bIns="19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153"/>
                </a:solidFill>
                <a:latin typeface="Calibri"/>
              </a:rPr>
              <a:t>FAB</a:t>
            </a:r>
            <a:r>
              <a:rPr b="1" lang="en-US" sz="2400" spc="-1" strike="noStrike">
                <a:solidFill>
                  <a:srgbClr val="a53f52"/>
                </a:solidFill>
                <a:latin typeface="Calibri"/>
              </a:rPr>
              <a:t>RIK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Shape 61"/>
          <p:cNvSpPr/>
          <p:nvPr/>
        </p:nvSpPr>
        <p:spPr>
          <a:xfrm>
            <a:off x="10182600" y="6415200"/>
            <a:ext cx="14043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19080" bIns="19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153"/>
                </a:solidFill>
                <a:latin typeface="Calibri"/>
              </a:rPr>
              <a:t>FAB</a:t>
            </a:r>
            <a:r>
              <a:rPr b="1" lang="en-US" sz="2400" spc="-1" strike="noStrike">
                <a:solidFill>
                  <a:srgbClr val="a53f52"/>
                </a:solidFill>
                <a:latin typeface="Calibri"/>
              </a:rPr>
              <a:t>RIK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ftr" idx="1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Add a foo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 type="sldNum" idx="17"/>
          </p:nvPr>
        </p:nvSpPr>
        <p:spPr>
          <a:xfrm>
            <a:off x="11549160" y="6469200"/>
            <a:ext cx="44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BA21-6DC4-410B-9B7E-B44218738AAC}" type="slidenum">
              <a:rPr b="0" lang="en-ZA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hape 61"/>
          <p:cNvSpPr/>
          <p:nvPr/>
        </p:nvSpPr>
        <p:spPr>
          <a:xfrm>
            <a:off x="10182600" y="6415200"/>
            <a:ext cx="14043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19080" bIns="19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153"/>
                </a:solidFill>
                <a:latin typeface="Calibri"/>
              </a:rPr>
              <a:t>FAB</a:t>
            </a:r>
            <a:r>
              <a:rPr b="1" lang="en-US" sz="2400" spc="-1" strike="noStrike">
                <a:solidFill>
                  <a:srgbClr val="a53f52"/>
                </a:solidFill>
                <a:latin typeface="Calibri"/>
              </a:rPr>
              <a:t>RIK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hape 61"/>
          <p:cNvSpPr/>
          <p:nvPr/>
        </p:nvSpPr>
        <p:spPr>
          <a:xfrm>
            <a:off x="10182600" y="6415200"/>
            <a:ext cx="14043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19080" bIns="19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153"/>
                </a:solidFill>
                <a:latin typeface="Calibri"/>
              </a:rPr>
              <a:t>FAB</a:t>
            </a:r>
            <a:r>
              <a:rPr b="1" lang="en-US" sz="2400" spc="-1" strike="noStrike">
                <a:solidFill>
                  <a:srgbClr val="a53f52"/>
                </a:solidFill>
                <a:latin typeface="Calibri"/>
              </a:rPr>
              <a:t>RIK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11549160" y="6469200"/>
            <a:ext cx="44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1CB32-C6FD-4EF7-A441-95A1C31DD0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hape 61"/>
          <p:cNvSpPr/>
          <p:nvPr/>
        </p:nvSpPr>
        <p:spPr>
          <a:xfrm>
            <a:off x="10182600" y="6415200"/>
            <a:ext cx="14043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19080" bIns="19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153"/>
                </a:solidFill>
                <a:latin typeface="Calibri"/>
              </a:rPr>
              <a:t>FAB</a:t>
            </a:r>
            <a:r>
              <a:rPr b="1" lang="en-US" sz="2400" spc="-1" strike="noStrike">
                <a:solidFill>
                  <a:srgbClr val="a53f52"/>
                </a:solidFill>
                <a:latin typeface="Calibri"/>
              </a:rPr>
              <a:t>RIK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Rectangle 6"/>
          <p:cNvGrpSpPr/>
          <p:nvPr/>
        </p:nvGrpSpPr>
        <p:grpSpPr>
          <a:xfrm>
            <a:off x="7412040" y="0"/>
            <a:ext cx="4780080" cy="6845400"/>
            <a:chOff x="7412040" y="0"/>
            <a:chExt cx="4780080" cy="6845400"/>
          </a:xfrm>
        </p:grpSpPr>
        <p:pic>
          <p:nvPicPr>
            <p:cNvPr id="122" name="Rectangle 6" descr=""/>
            <p:cNvPicPr/>
            <p:nvPr/>
          </p:nvPicPr>
          <p:blipFill>
            <a:blip r:embed="rId2"/>
            <a:stretch/>
          </p:blipFill>
          <p:spPr>
            <a:xfrm>
              <a:off x="7412040" y="0"/>
              <a:ext cx="4780080" cy="684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7415280" y="0"/>
              <a:ext cx="4776840" cy="684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Shape 61"/>
          <p:cNvSpPr/>
          <p:nvPr/>
        </p:nvSpPr>
        <p:spPr>
          <a:xfrm>
            <a:off x="10182600" y="6415200"/>
            <a:ext cx="14043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19080" bIns="19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FABRIK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11549160" y="6469200"/>
            <a:ext cx="44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32F0-95AF-4A44-931C-2670E2072E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hape 61"/>
          <p:cNvSpPr/>
          <p:nvPr/>
        </p:nvSpPr>
        <p:spPr>
          <a:xfrm>
            <a:off x="10182600" y="6415200"/>
            <a:ext cx="14043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19080" bIns="19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153"/>
                </a:solidFill>
                <a:latin typeface="Calibri"/>
              </a:rPr>
              <a:t>FAB</a:t>
            </a:r>
            <a:r>
              <a:rPr b="1" lang="en-US" sz="2400" spc="-1" strike="noStrike">
                <a:solidFill>
                  <a:srgbClr val="a53f52"/>
                </a:solidFill>
                <a:latin typeface="Calibri"/>
              </a:rPr>
              <a:t>RIK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5"/>
          </p:nvPr>
        </p:nvSpPr>
        <p:spPr>
          <a:xfrm>
            <a:off x="11549160" y="6469200"/>
            <a:ext cx="44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9A1BE-BD0E-4537-A2A4-C3BE3C599B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hape 61"/>
          <p:cNvSpPr/>
          <p:nvPr/>
        </p:nvSpPr>
        <p:spPr>
          <a:xfrm>
            <a:off x="10182600" y="6415200"/>
            <a:ext cx="14043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19080" bIns="19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153"/>
                </a:solidFill>
                <a:latin typeface="Calibri"/>
              </a:rPr>
              <a:t>FAB</a:t>
            </a:r>
            <a:r>
              <a:rPr b="1" lang="en-US" sz="2400" spc="-1" strike="noStrike">
                <a:solidFill>
                  <a:srgbClr val="a53f52"/>
                </a:solidFill>
                <a:latin typeface="Calibri"/>
              </a:rPr>
              <a:t>RIK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0" y="0"/>
            <a:ext cx="6107040" cy="6858000"/>
          </a:xfrm>
          <a:custGeom>
            <a:avLst/>
            <a:gdLst/>
            <a:ahLst/>
            <a:rect l="l" t="t" r="r" b="b"/>
            <a:pathLst>
              <a:path w="6107906" h="6858000">
                <a:moveTo>
                  <a:pt x="1517515" y="0"/>
                </a:moveTo>
                <a:lnTo>
                  <a:pt x="6107906" y="0"/>
                </a:lnTo>
                <a:lnTo>
                  <a:pt x="4593309" y="6848272"/>
                </a:lnTo>
                <a:lnTo>
                  <a:pt x="0" y="6858000"/>
                </a:lnTo>
                <a:lnTo>
                  <a:pt x="1517515" y="0"/>
                </a:lnTo>
                <a:close/>
              </a:path>
            </a:pathLst>
          </a:custGeom>
          <a:gradFill rotWithShape="0">
            <a:gsLst>
              <a:gs pos="0">
                <a:srgbClr val="01023b">
                  <a:alpha val="80000"/>
                </a:srgbClr>
              </a:gs>
              <a:gs pos="100000">
                <a:srgbClr val="ea9a5c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hape 61"/>
          <p:cNvSpPr/>
          <p:nvPr/>
        </p:nvSpPr>
        <p:spPr>
          <a:xfrm>
            <a:off x="10182600" y="6415200"/>
            <a:ext cx="14043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19080" bIns="19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153"/>
                </a:solidFill>
                <a:latin typeface="Calibri"/>
              </a:rPr>
              <a:t>FAB</a:t>
            </a:r>
            <a:r>
              <a:rPr b="1" lang="en-US" sz="2400" spc="-1" strike="noStrike">
                <a:solidFill>
                  <a:srgbClr val="a53f52"/>
                </a:solidFill>
                <a:latin typeface="Calibri"/>
              </a:rPr>
              <a:t>RIK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Rectangle 6"/>
          <p:cNvSpPr/>
          <p:nvPr/>
        </p:nvSpPr>
        <p:spPr>
          <a:xfrm>
            <a:off x="0" y="0"/>
            <a:ext cx="6107040" cy="6858000"/>
          </a:xfrm>
          <a:custGeom>
            <a:avLst/>
            <a:gdLst/>
            <a:ahLst/>
            <a:rect l="l" t="t" r="r" b="b"/>
            <a:pathLst>
              <a:path w="6107906" h="6858000">
                <a:moveTo>
                  <a:pt x="0" y="0"/>
                </a:moveTo>
                <a:lnTo>
                  <a:pt x="6107906" y="0"/>
                </a:lnTo>
                <a:lnTo>
                  <a:pt x="4233386" y="6858000"/>
                </a:lnTo>
                <a:lnTo>
                  <a:pt x="0" y="685800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1023b">
                  <a:alpha val="80000"/>
                </a:srgbClr>
              </a:gs>
              <a:gs pos="100000">
                <a:srgbClr val="ea9a5c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dd a foo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sldNum" idx="7"/>
          </p:nvPr>
        </p:nvSpPr>
        <p:spPr>
          <a:xfrm>
            <a:off x="11549160" y="6469200"/>
            <a:ext cx="44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59DE5-9EE7-4811-B27D-84C7B5CDA2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hape 61"/>
          <p:cNvSpPr/>
          <p:nvPr/>
        </p:nvSpPr>
        <p:spPr>
          <a:xfrm>
            <a:off x="10182600" y="6415200"/>
            <a:ext cx="14043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19080" bIns="19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153"/>
                </a:solidFill>
                <a:latin typeface="Calibri"/>
              </a:rPr>
              <a:t>FAB</a:t>
            </a:r>
            <a:r>
              <a:rPr b="1" lang="en-US" sz="2400" spc="-1" strike="noStrike">
                <a:solidFill>
                  <a:srgbClr val="a53f52"/>
                </a:solidFill>
                <a:latin typeface="Calibri"/>
              </a:rPr>
              <a:t>RIK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6084720" y="1189080"/>
            <a:ext cx="6107400" cy="5668920"/>
          </a:xfrm>
          <a:prstGeom prst="rect">
            <a:avLst/>
          </a:prstGeom>
          <a:gradFill rotWithShape="0">
            <a:gsLst>
              <a:gs pos="0">
                <a:srgbClr val="01023b">
                  <a:alpha val="80000"/>
                </a:srgbClr>
              </a:gs>
              <a:gs pos="100000">
                <a:srgbClr val="ea9a5c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Rectangle 7"/>
          <p:cNvGrpSpPr/>
          <p:nvPr/>
        </p:nvGrpSpPr>
        <p:grpSpPr>
          <a:xfrm>
            <a:off x="0" y="1189080"/>
            <a:ext cx="6095880" cy="5668920"/>
            <a:chOff x="0" y="1189080"/>
            <a:chExt cx="6095880" cy="5668920"/>
          </a:xfrm>
        </p:grpSpPr>
        <p:pic>
          <p:nvPicPr>
            <p:cNvPr id="289" name="Rectangle 7" descr=""/>
            <p:cNvPicPr/>
            <p:nvPr/>
          </p:nvPicPr>
          <p:blipFill>
            <a:blip r:embed="rId2"/>
            <a:stretch/>
          </p:blipFill>
          <p:spPr>
            <a:xfrm>
              <a:off x="0" y="1189080"/>
              <a:ext cx="6095880" cy="566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0" y="1189080"/>
              <a:ext cx="6095880" cy="56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1" name="Shape 61"/>
          <p:cNvSpPr/>
          <p:nvPr/>
        </p:nvSpPr>
        <p:spPr>
          <a:xfrm>
            <a:off x="10182600" y="6415200"/>
            <a:ext cx="14043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19080" bIns="19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FABRIK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ftr" idx="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dd a foo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sldNum" idx="9"/>
          </p:nvPr>
        </p:nvSpPr>
        <p:spPr>
          <a:xfrm>
            <a:off x="11549160" y="6469200"/>
            <a:ext cx="44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29A4D-E408-441A-A4A6-3D6C4CEDBD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hape 61"/>
          <p:cNvSpPr/>
          <p:nvPr/>
        </p:nvSpPr>
        <p:spPr>
          <a:xfrm>
            <a:off x="10182600" y="6415200"/>
            <a:ext cx="14043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19080" bIns="19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c2153"/>
                </a:solidFill>
                <a:latin typeface="Calibri"/>
              </a:rPr>
              <a:t>FAB</a:t>
            </a:r>
            <a:r>
              <a:rPr b="1" lang="en-US" sz="2400" spc="-1" strike="noStrike">
                <a:solidFill>
                  <a:srgbClr val="a53f52"/>
                </a:solidFill>
                <a:latin typeface="Calibri"/>
              </a:rPr>
              <a:t>RIK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Rectangle 6"/>
          <p:cNvSpPr/>
          <p:nvPr/>
        </p:nvSpPr>
        <p:spPr>
          <a:xfrm>
            <a:off x="6084720" y="1189080"/>
            <a:ext cx="6107400" cy="5668920"/>
          </a:xfrm>
          <a:prstGeom prst="rect">
            <a:avLst/>
          </a:prstGeom>
          <a:gradFill rotWithShape="0">
            <a:gsLst>
              <a:gs pos="0">
                <a:srgbClr val="01023b">
                  <a:alpha val="80000"/>
                </a:srgbClr>
              </a:gs>
              <a:gs pos="100000">
                <a:srgbClr val="ea9a5c">
                  <a:alpha val="8000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34" name="Rectangle 7"/>
          <p:cNvGrpSpPr/>
          <p:nvPr/>
        </p:nvGrpSpPr>
        <p:grpSpPr>
          <a:xfrm>
            <a:off x="0" y="1189080"/>
            <a:ext cx="6095880" cy="5668920"/>
            <a:chOff x="0" y="1189080"/>
            <a:chExt cx="6095880" cy="5668920"/>
          </a:xfrm>
        </p:grpSpPr>
        <p:pic>
          <p:nvPicPr>
            <p:cNvPr id="335" name="Rectangle 7" descr=""/>
            <p:cNvPicPr/>
            <p:nvPr/>
          </p:nvPicPr>
          <p:blipFill>
            <a:blip r:embed="rId2"/>
            <a:stretch/>
          </p:blipFill>
          <p:spPr>
            <a:xfrm>
              <a:off x="0" y="1189080"/>
              <a:ext cx="6095880" cy="566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0" y="1189080"/>
              <a:ext cx="6095880" cy="566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7" name="Shape 61"/>
          <p:cNvSpPr/>
          <p:nvPr/>
        </p:nvSpPr>
        <p:spPr>
          <a:xfrm>
            <a:off x="10182600" y="6415200"/>
            <a:ext cx="1404360" cy="40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19080" bIns="19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FABRIK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595440" y="1365120"/>
            <a:ext cx="1098864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ftr" idx="1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Add a foo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sldNum" idx="11"/>
          </p:nvPr>
        </p:nvSpPr>
        <p:spPr>
          <a:xfrm>
            <a:off x="11549160" y="6469200"/>
            <a:ext cx="44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47540-86A3-496D-A8A7-31FB907CD24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s://go.microsoft.com/fwlink/?linkid=2006808&amp;clcid=0x409" TargetMode="External"/><Relationship Id="rId2" Type="http://schemas.openxmlformats.org/officeDocument/2006/relationships/hyperlink" Target="https://v2.zopim.com/widget/popout.html?key=3Z2KClU22aaLnefPcCrDJOqBt2NCHNtv" TargetMode="External"/><Relationship Id="rId3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Placeholder 2" descr=""/>
          <p:cNvPicPr/>
          <p:nvPr/>
        </p:nvPicPr>
        <p:blipFill>
          <a:blip r:embed="rId1"/>
          <a:srcRect l="0" t="22956" r="0" b="22956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4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gradFill rotWithShape="0">
            <a:gsLst>
              <a:gs pos="0">
                <a:srgbClr val="01023b">
                  <a:alpha val="70196"/>
                </a:srgbClr>
              </a:gs>
              <a:gs pos="100000">
                <a:srgbClr val="ea9a5c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01280" y="3013200"/>
            <a:ext cx="10788840" cy="83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Luxury138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1436400" y="3890880"/>
            <a:ext cx="99536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9000"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ttps://v2.zopim.com/widget/popout.html?key=3Z2KClU22aaLnefPcCrDJOqBt2NCHNt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Slide Number Placeholder 1"/>
          <p:cNvSpPr/>
          <p:nvPr/>
        </p:nvSpPr>
        <p:spPr>
          <a:xfrm>
            <a:off x="11549160" y="6469200"/>
            <a:ext cx="44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0D1B6-0F22-4D66-AD5D-CB18A6B7EC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Rectangle 4"/>
          <p:cNvSpPr/>
          <p:nvPr/>
        </p:nvSpPr>
        <p:spPr>
          <a:xfrm>
            <a:off x="3308400" y="1314360"/>
            <a:ext cx="6070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BONUS DEPOSIT!    GRATIS / / 5 JUT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Rectangle 5"/>
          <p:cNvSpPr/>
          <p:nvPr/>
        </p:nvSpPr>
        <p:spPr>
          <a:xfrm>
            <a:off x="10083960" y="6469200"/>
            <a:ext cx="146520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5" name="Picture 2" descr=""/>
          <p:cNvPicPr/>
          <p:nvPr/>
        </p:nvPicPr>
        <p:blipFill>
          <a:blip r:embed="rId1"/>
          <a:stretch/>
        </p:blipFill>
        <p:spPr>
          <a:xfrm>
            <a:off x="2847960" y="2200320"/>
            <a:ext cx="6149880" cy="400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Slide Number Placeholder 1"/>
          <p:cNvSpPr/>
          <p:nvPr/>
        </p:nvSpPr>
        <p:spPr>
          <a:xfrm>
            <a:off x="11549160" y="6469200"/>
            <a:ext cx="44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6027A-3878-4B02-B7EF-06A7ECCAE9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Rectangle 3"/>
          <p:cNvSpPr/>
          <p:nvPr/>
        </p:nvSpPr>
        <p:spPr>
          <a:xfrm>
            <a:off x="3616200" y="1328760"/>
            <a:ext cx="514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tiap hari bisa ambil bonus Rp 5 Juta 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Rectangle 4"/>
          <p:cNvSpPr/>
          <p:nvPr/>
        </p:nvSpPr>
        <p:spPr>
          <a:xfrm>
            <a:off x="10083960" y="6469200"/>
            <a:ext cx="146520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9" name="Picture 2" descr=""/>
          <p:cNvPicPr/>
          <p:nvPr/>
        </p:nvPicPr>
        <p:blipFill>
          <a:blip r:embed="rId1"/>
          <a:stretch/>
        </p:blipFill>
        <p:spPr>
          <a:xfrm>
            <a:off x="3044880" y="2394000"/>
            <a:ext cx="628632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Slide Number Placeholder 1"/>
          <p:cNvSpPr/>
          <p:nvPr/>
        </p:nvSpPr>
        <p:spPr>
          <a:xfrm>
            <a:off x="11549160" y="6469200"/>
            <a:ext cx="44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3461-E347-4EF2-87CB-6161346394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Rectangle 2"/>
          <p:cNvSpPr/>
          <p:nvPr/>
        </p:nvSpPr>
        <p:spPr>
          <a:xfrm>
            <a:off x="1023840" y="2797200"/>
            <a:ext cx="429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rlaku untuk member baru dan la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Rectangle 5"/>
          <p:cNvSpPr/>
          <p:nvPr/>
        </p:nvSpPr>
        <p:spPr>
          <a:xfrm>
            <a:off x="10083960" y="6469200"/>
            <a:ext cx="146520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3" name="Picture 2" descr=""/>
          <p:cNvPicPr/>
          <p:nvPr/>
        </p:nvPicPr>
        <p:blipFill>
          <a:blip r:embed="rId1"/>
          <a:stretch/>
        </p:blipFill>
        <p:spPr>
          <a:xfrm>
            <a:off x="5616720" y="1849320"/>
            <a:ext cx="5086080" cy="31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Slide Number Placeholder 1"/>
          <p:cNvSpPr/>
          <p:nvPr/>
        </p:nvSpPr>
        <p:spPr>
          <a:xfrm>
            <a:off x="11549160" y="6469200"/>
            <a:ext cx="44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3D9A-F16C-4D69-B1BF-8619CF832B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Rectangle 2"/>
          <p:cNvSpPr/>
          <p:nvPr/>
        </p:nvSpPr>
        <p:spPr>
          <a:xfrm>
            <a:off x="7316640" y="3051000"/>
            <a:ext cx="423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mengang izin res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Rectangle 4"/>
          <p:cNvSpPr/>
          <p:nvPr/>
        </p:nvSpPr>
        <p:spPr>
          <a:xfrm>
            <a:off x="10083960" y="6469200"/>
            <a:ext cx="146520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Picture 3" descr=""/>
          <p:cNvPicPr/>
          <p:nvPr/>
        </p:nvPicPr>
        <p:blipFill>
          <a:blip r:embed="rId1"/>
          <a:stretch/>
        </p:blipFill>
        <p:spPr>
          <a:xfrm>
            <a:off x="1625760" y="2351160"/>
            <a:ext cx="518796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Slide Number Placeholder 1"/>
          <p:cNvSpPr/>
          <p:nvPr/>
        </p:nvSpPr>
        <p:spPr>
          <a:xfrm>
            <a:off x="11549160" y="6469200"/>
            <a:ext cx="44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A36CF-47AB-4057-8288-DC92E6D915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2"/>
          <p:cNvSpPr/>
          <p:nvPr/>
        </p:nvSpPr>
        <p:spPr>
          <a:xfrm>
            <a:off x="1127160" y="2846520"/>
            <a:ext cx="430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o not miss the chance to try your luck for free, visit us to receive the bonu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0" name="Picture 3" descr=""/>
          <p:cNvPicPr/>
          <p:nvPr/>
        </p:nvPicPr>
        <p:blipFill>
          <a:blip r:embed="rId1"/>
          <a:stretch/>
        </p:blipFill>
        <p:spPr>
          <a:xfrm>
            <a:off x="5576760" y="1822320"/>
            <a:ext cx="5400720" cy="3057480"/>
          </a:xfrm>
          <a:prstGeom prst="rect">
            <a:avLst/>
          </a:prstGeom>
          <a:ln w="0">
            <a:noFill/>
          </a:ln>
        </p:spPr>
      </p:pic>
      <p:sp>
        <p:nvSpPr>
          <p:cNvPr id="571" name="Rectangle 4"/>
          <p:cNvSpPr/>
          <p:nvPr/>
        </p:nvSpPr>
        <p:spPr>
          <a:xfrm>
            <a:off x="10083960" y="6469200"/>
            <a:ext cx="146520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Rectangle 5"/>
          <p:cNvSpPr/>
          <p:nvPr/>
        </p:nvSpPr>
        <p:spPr>
          <a:xfrm>
            <a:off x="10236240" y="6384960"/>
            <a:ext cx="146520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95080" y="364680"/>
            <a:ext cx="11001240" cy="824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 Light"/>
              </a:rPr>
              <a:t>For more details visit our site: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TextBox 7">
            <a:hlinkClick r:id="rId1"/>
          </p:cNvPr>
          <p:cNvSpPr/>
          <p:nvPr/>
        </p:nvSpPr>
        <p:spPr>
          <a:xfrm>
            <a:off x="1547640" y="2459160"/>
            <a:ext cx="909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3a3838"/>
                </a:solidFill>
                <a:uFillTx/>
                <a:latin typeface="Calibri"/>
                <a:hlinkClick r:id="rId2"/>
              </a:rPr>
              <a:t>https://v2.zopim.com/widget/popout.html?key=3Z2KClU22aaLnefPcCrDJOqBt2NCHNtv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Slide Number Placeholder 1"/>
          <p:cNvSpPr/>
          <p:nvPr/>
        </p:nvSpPr>
        <p:spPr>
          <a:xfrm>
            <a:off x="11549160" y="6469200"/>
            <a:ext cx="444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9736-2BA7-41A2-BF98-82D57DCEABB1}" type="slidenum">
              <a:rPr b="0" lang="en-Z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4"/>
          <p:cNvSpPr/>
          <p:nvPr/>
        </p:nvSpPr>
        <p:spPr>
          <a:xfrm>
            <a:off x="10083960" y="6469200"/>
            <a:ext cx="1465200" cy="3650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31T12:50:46Z</dcterms:created>
  <dc:creator/>
  <dc:description/>
  <dc:language>en-US</dc:language>
  <cp:lastModifiedBy/>
  <dcterms:modified xsi:type="dcterms:W3CDTF">2019-05-07T15:42:56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DEEA25CC0A0AC24199CDC46C25B8B0BC</vt:lpwstr>
  </property>
  <property fmtid="{D5CDD505-2E9C-101B-9397-08002B2CF9AE}" pid="3" name="_ip_UnifiedCompliancePolicyProperties">
    <vt:lpwstr/>
  </property>
  <property fmtid="{D5CDD505-2E9C-101B-9397-08002B2CF9AE}" pid="4" name="_ip_UnifiedCompliancePolicyUIAction">
    <vt:lpwstr/>
  </property>
</Properties>
</file>