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2E37-29A1-4329-813A-CBBDE882A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5F1C-F3B1-416C-894B-BC085A0055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82389-FEF6-402F-A5CE-935D3E4E04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D2CE8-B35B-4CF2-A4AF-FD12B79BF7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AD0BE-9737-46BC-82BE-15C9F02AED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00F92-5ACC-4FCF-8FFD-DD4CAF1C63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62035-4F37-4782-AAF7-A048C45FE0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D1047-8F20-4B0E-AF0E-CFC22C9E3A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F99CE-FD2E-446D-AC87-4BD2DC8864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DCBD6-AC9F-4EAC-97C2-1967EE90002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37B86-0499-4522-B5E1-1EB6C91455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8F366-D942-4D44-8D83-D6E05027D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BA38-DA77-40A8-94E8-0450AC8C14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C7DE8-EF6C-4B02-AEC3-8702F998B5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A5C78B-0630-4375-B5C5-6965DB1177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CE724-02AB-49C0-A605-555637B423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2718B-E7FF-4174-A17F-61793521B2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D8402D-33C7-40EE-8DFE-ED7703B274B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665D3-A0E5-41F4-9188-5B6D29FAE1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19EF8-2A1C-4710-8149-86FD056E50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0AAEC-419C-4FC8-90E8-B0D57C8AB3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DC4107-1D99-480C-85EB-2AF1B3F9608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535C46-DA99-4AA6-ABBC-345BFD013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FBBC-6F74-4EFB-A79E-344580C611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40469-AB36-4A4A-856C-6A16C2D4E25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2C9C-0FE1-403D-9481-BD1898D8D6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4B6D-FA9D-4402-8A8F-77254651AA9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C7F0-52C8-40B6-AF97-DADE41E183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EA8F8-BD11-4240-8220-90831C3892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5E027-3B2F-43A9-967F-5ABDCAC9B6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84A3-6103-44D4-9A28-947C78AC2A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1B5F-DA95-471E-9CF6-F915090FA5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B300-2EB6-47D8-B6E9-651A17CCEA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0513-5843-40DD-A016-DCBE87EC4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9F26-CA51-46BE-996F-8A4676817E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30C61-B596-4C0F-A33B-E55B04DD36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1754F-055F-408B-8300-A304636832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DD1F9-1F4B-4D30-B2B2-688F5D666C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987E1-0D79-4BF1-982C-62991CDD2FE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107DF-BA11-48F3-909B-A78A29CA2A5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1A290-E4BE-4221-A490-010C23C3FCF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03973-E051-4D40-B42D-8B1F803D16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35D37-BAFD-412C-A4C1-D764EBCD36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46426-9990-43DB-A6F7-BB87A10E64D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4FC78-1E55-450C-8CA7-1AC5D72CDB0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00B5A-DCEA-4CF7-B6E1-3090AB90FB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606D0-95CA-4E6A-BC04-8860224C44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A86B3-E12B-4A6F-863F-FEDD688BA31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6F36A-369F-4BD2-8562-498ECF5FFC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0D8D-9CE0-4B5D-A4C8-AC13D5002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7E1-6F70-46C6-BC55-20EE718B8D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AA0-1700-4535-BC7A-7948F5009D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13B-A45E-4845-8182-7746BD171C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BAB-768C-4CA4-8059-5DD7F24A1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924-DD61-4F2D-8200-9833B96AF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D081-26B0-4DD6-915A-DA8E450997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378-B434-42F2-8FC9-942042C80D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836-BC1E-4324-AF11-F8566A73BA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A2B-7CBF-4C03-805E-0F8B7982FE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A33-FBC7-4C37-BF1F-8C387F248A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505-2439-4C9F-AE01-A4366FD170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F07-EC21-4224-BFC5-5C1066105D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93A-B4CC-447F-86EB-F55F16CD65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5A56-FB43-40D6-B153-BA1736FA13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40590-6CFA-4242-A192-5C1AD4F82E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906A4-3EBD-45B8-8950-46D7867B4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22E9-314B-4DD7-A1C9-B896716DDF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B21BE-8C37-4604-93AC-458FAD42DF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B1572-0F93-4002-8A75-84B6618140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ECC38-A4CB-4559-B4E3-70CC1690D0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BC18B-FB56-45DA-9EB8-C2B6B5F70F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816F8-B233-4942-B6EA-0F80E15E4F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CBFA1-BA38-491D-94D6-08C42B4FD1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B6BD-F18A-409C-AA7D-449C59450E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7DE00-3AC2-4421-871E-C64903F393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1638C-71DE-4710-B888-AEC5355A25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AA91-3A53-4455-B337-F0F21DAF5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DEB2-DED3-4E39-BBD7-6CE891A641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B5DDB-83BA-4A63-8086-AEF3B45308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1C62E-1855-4218-BA54-1C382D1825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1CE20-65E1-4B57-B850-B84E0AF9C4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7961A-03B1-4862-BA3B-3431CE1CAE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DAD9-3375-4277-8A4F-78D9485415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24328-4E94-46CE-80C2-0FBE3BBF3B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70658-C9DC-42A5-8C9C-CC276489C3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22FD-BF9B-4F18-B3F9-7D80C0F08C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27CC-F722-4750-803A-BC01B389AF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634ED-72D8-4343-8108-F03670202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1C24-7AA3-4A89-935C-584D97DC99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3281-4773-49BA-9317-A4E8D0BA70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58E2-0046-4FC7-8B5C-0B0F93E226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F0FBA-7639-4E2E-A414-A07B4464CF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EFEF1-38B4-40F1-9481-F25910DEA9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7EFF8-1700-480F-BF11-4F39C25B89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D601D-FDD2-45D2-A385-C55E2F9B5A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91A19-0A45-4530-809E-5AA9BEE6B2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57AD1-A902-467D-8F03-68B74BB8C3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A47D3-FBA0-4D1F-8ECA-91AF6008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EB33-EC80-46C0-A0A3-15C99F8740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0CBE7-EB3C-45FC-9B6A-FB9E5D726D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BA60C-482A-4841-8D67-14CB8E8DDA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66DE7-D682-402B-9EC0-0E97B2CFF6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AA6A0-E684-43B8-A23D-7ADBD46DA1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8C40B-A636-453D-961D-AFFFA35078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623D-2C58-44AF-AE07-83718308C7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2B95-B960-4AED-B34C-EED4F38B5E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1AFA-82C2-4970-9FDA-3435419547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C601-C7F4-412F-8982-DE7F107907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B772-FD54-445C-8DF0-5DA3A8C6A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8A53-8DE2-4122-9F51-2074F4DF42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1CCF-1E56-4C64-A264-A908E84CA81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A4BF-6723-4C6D-ACCD-4ED8D60F67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811B-E23A-4BB2-9556-184970179B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F220-B171-44F3-B477-CF6DFB8BBB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45B4-257D-4454-ACFE-C019CFCB39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BBFC-F303-416B-9F4F-5D29B54AB1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06C2-EB68-4E63-9B3E-702CBECF46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E77F8-B04C-49F8-815B-D3F9A537FC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5A80B-B3F9-460A-AED0-D99A7FD372B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22428-A8C2-4FD1-AEBC-420F67F76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3E3-500E-44FB-A5C0-37D43032D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Rectangle 6"/>
          <p:cNvGrpSpPr/>
          <p:nvPr/>
        </p:nvGrpSpPr>
        <p:grpSpPr>
          <a:xfrm>
            <a:off x="0" y="0"/>
            <a:ext cx="5035680" cy="6858000"/>
            <a:chOff x="0" y="0"/>
            <a:chExt cx="5035680" cy="6858000"/>
          </a:xfrm>
        </p:grpSpPr>
        <p:pic>
          <p:nvPicPr>
            <p:cNvPr id="380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0"/>
              <a:ext cx="5032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13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F8A7-56B0-4ADA-B207-953CC35B9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Rectangle 6"/>
          <p:cNvGrpSpPr/>
          <p:nvPr/>
        </p:nvGrpSpPr>
        <p:grpSpPr>
          <a:xfrm>
            <a:off x="0" y="0"/>
            <a:ext cx="5035680" cy="6858000"/>
            <a:chOff x="0" y="0"/>
            <a:chExt cx="503568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5032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5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45C4-8703-482B-9B81-95397ED3F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7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156-4B6F-48A5-838B-88D9A84F095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3763-12FD-4EC8-808E-4DFCE0700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Rectangle 6"/>
          <p:cNvGrpSpPr/>
          <p:nvPr/>
        </p:nvGrpSpPr>
        <p:grpSpPr>
          <a:xfrm>
            <a:off x="7412040" y="0"/>
            <a:ext cx="4780080" cy="6845400"/>
            <a:chOff x="7412040" y="0"/>
            <a:chExt cx="4780080" cy="6845400"/>
          </a:xfrm>
        </p:grpSpPr>
        <p:pic>
          <p:nvPicPr>
            <p:cNvPr id="122" name="Rectangle 6" descr=""/>
            <p:cNvPicPr/>
            <p:nvPr/>
          </p:nvPicPr>
          <p:blipFill>
            <a:blip r:embed="rId2"/>
            <a:stretch/>
          </p:blipFill>
          <p:spPr>
            <a:xfrm>
              <a:off x="7412040" y="0"/>
              <a:ext cx="4780080" cy="684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15280" y="0"/>
              <a:ext cx="477684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B6EE-4041-45BC-A801-B4292866F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F41-8D07-4BBC-A1E3-EFAC43DF4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6107040" cy="6858000"/>
          </a:xfrm>
          <a:custGeom>
            <a:avLst/>
            <a:gdLst/>
            <a:ahLst/>
            <a:rect l="l" t="t" r="r" b="b"/>
            <a:pathLst>
              <a:path w="6107906" h="6858000">
                <a:moveTo>
                  <a:pt x="1517515" y="0"/>
                </a:moveTo>
                <a:lnTo>
                  <a:pt x="6107906" y="0"/>
                </a:lnTo>
                <a:lnTo>
                  <a:pt x="4593309" y="6848272"/>
                </a:lnTo>
                <a:lnTo>
                  <a:pt x="0" y="6858000"/>
                </a:lnTo>
                <a:lnTo>
                  <a:pt x="1517515" y="0"/>
                </a:lnTo>
                <a:close/>
              </a:path>
            </a:pathLst>
          </a:cu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6107040" cy="6858000"/>
          </a:xfrm>
          <a:custGeom>
            <a:avLst/>
            <a:gdLst/>
            <a:ahLst/>
            <a:rect l="l" t="t" r="r" b="b"/>
            <a:pathLst>
              <a:path w="6107906" h="6858000">
                <a:moveTo>
                  <a:pt x="0" y="0"/>
                </a:moveTo>
                <a:lnTo>
                  <a:pt x="6107906" y="0"/>
                </a:lnTo>
                <a:lnTo>
                  <a:pt x="423338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7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99E-9C87-420C-8D9B-C3635B6EDE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084720" y="1189080"/>
            <a:ext cx="6107400" cy="5668920"/>
          </a:xfrm>
          <a:prstGeom prst="rect">
            <a:avLst/>
          </a:pr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Rectangle 7"/>
          <p:cNvGrpSpPr/>
          <p:nvPr/>
        </p:nvGrpSpPr>
        <p:grpSpPr>
          <a:xfrm>
            <a:off x="0" y="1189080"/>
            <a:ext cx="6095880" cy="5668920"/>
            <a:chOff x="0" y="1189080"/>
            <a:chExt cx="6095880" cy="5668920"/>
          </a:xfrm>
        </p:grpSpPr>
        <p:pic>
          <p:nvPicPr>
            <p:cNvPr id="289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1189080"/>
              <a:ext cx="609588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1189080"/>
              <a:ext cx="609588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9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544-A0EF-4E96-8EC5-87ADDB2D7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084720" y="1189080"/>
            <a:ext cx="6107400" cy="5668920"/>
          </a:xfrm>
          <a:prstGeom prst="rect">
            <a:avLst/>
          </a:pr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Rectangle 7"/>
          <p:cNvGrpSpPr/>
          <p:nvPr/>
        </p:nvGrpSpPr>
        <p:grpSpPr>
          <a:xfrm>
            <a:off x="0" y="1189080"/>
            <a:ext cx="6095880" cy="5668920"/>
            <a:chOff x="0" y="1189080"/>
            <a:chExt cx="6095880" cy="5668920"/>
          </a:xfrm>
        </p:grpSpPr>
        <p:pic>
          <p:nvPicPr>
            <p:cNvPr id="335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1189080"/>
              <a:ext cx="609588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0" y="1189080"/>
              <a:ext cx="609588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1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886-8B50-426E-BA26-790C9327E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v2.zopim.com/widget/popout.html?key=3Z2KClU22aaLnefPcCrDJOqBt2NCHNtv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Placeholder 2" descr=""/>
          <p:cNvPicPr/>
          <p:nvPr/>
        </p:nvPicPr>
        <p:blipFill>
          <a:blip r:embed="rId1"/>
          <a:srcRect l="0" t="22956" r="0" b="2295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01023b">
                  <a:alpha val="70196"/>
                </a:srgbClr>
              </a:gs>
              <a:gs pos="100000">
                <a:srgbClr val="ea9a5c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1280" y="3013200"/>
            <a:ext cx="1078884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Luxury138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6400" y="3890880"/>
            <a:ext cx="99536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s://v2.zopim.com/widget/popout.html?key=3Z2KClU22aaLnefPcCrDJOqBt2NCHN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AF5-EC2C-4947-9BBE-6438B1BF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08400" y="1314360"/>
            <a:ext cx="60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ONUS DEPOSIT!    GRATIS / / 5 JU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2847960" y="2200320"/>
            <a:ext cx="61498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DC3-3F2E-484C-B32C-82E732908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616200" y="132876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iap hari bisa ambil bonus Rp 5 Juta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3044880" y="2394000"/>
            <a:ext cx="62863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4F9B-E643-4410-BF9D-1B57DDEC7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1023840" y="2797200"/>
            <a:ext cx="42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laku untuk member baru dan l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5616720" y="1849320"/>
            <a:ext cx="5086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05F-40A3-4FCD-B89F-24E9A48A9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7316640" y="3051000"/>
            <a:ext cx="42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mengang izin res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1625760" y="2351160"/>
            <a:ext cx="5187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4513-1BE5-45AA-BA1D-75C53D049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1127160" y="2846520"/>
            <a:ext cx="43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miss the chance to try your luck for free, visit us to receive the bo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5576760" y="1822320"/>
            <a:ext cx="5400720" cy="30574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10236240" y="638496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For more details visit our site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TextBox 7">
            <a:hlinkClick r:id="rId1"/>
          </p:cNvPr>
          <p:cNvSpPr/>
          <p:nvPr/>
        </p:nvSpPr>
        <p:spPr>
          <a:xfrm>
            <a:off x="1547640" y="2459160"/>
            <a:ext cx="909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a3838"/>
                </a:solidFill>
                <a:uFillTx/>
                <a:latin typeface="Calibri"/>
                <a:hlinkClick r:id="rId2"/>
              </a:rPr>
              <a:t>https://v2.zopim.com/widget/popout.html?key=3Z2KClU22aaLnefPcCrDJOqBt2NCHNtv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2B0-84C3-42E5-B6E3-783A50F8D572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2:50:46Z</dcterms:created>
  <dc:creator/>
  <dc:description/>
  <dc:language>en-US</dc:language>
  <cp:lastModifiedBy/>
  <dcterms:modified xsi:type="dcterms:W3CDTF">2019-05-07T15:42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