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0A6A579-447B-4C43-953F-DC73F6890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59ACEEF-9163-4544-99FA-F998FE8F8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DAF9042-9018-4DD1-A923-CEDF208C1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0C05F5A-76F8-41DB-AD35-A6B5D056E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ABCEF-5CAA-4821-855C-74BC2B371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429EE-C949-41A7-80BE-13781BFF4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78926-C402-4858-9D57-DB853156A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389D3-47EC-4870-84F1-9B30B4648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4A874-2C3D-4634-8A30-034E73F4B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1D520-6E48-437A-939B-33A6FCD7E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D96A5-5868-4CE3-9EB2-43E98F2DA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A5BE36-BB95-4888-81A4-2BB17900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4AD63-A39E-4AE2-B8F3-27D6381BF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96B5E-F1F4-4A4E-BB86-28F6421A7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18FB0-9713-4BB4-AE63-5FD92ED4F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60D95-DFB1-4930-8594-643BEC9CE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354E8-1049-4203-957C-F769880FC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6B5A14-9DD0-4991-B340-3BEB9CCDD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FA5821-72D5-46B8-BA5D-5D15F0C95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1E9E71-AD2F-4DD0-96FE-1C6F572D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31EA43-0A7A-4F97-B836-27CC4F1CA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05A5CF-6133-4874-8D53-28BFC2205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A1432A-B965-4404-9201-0E538FCEC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3A8049-E0F6-4CA4-B253-CA7ED9664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D3D9-E7AB-423A-8E1C-CC5A246BD2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4A6E-D67D-4D12-8BC4-F80949156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91" name=""/>
          <p:cNvSpPr/>
          <p:nvPr/>
        </p:nvSpPr>
        <p:spPr>
          <a:xfrm>
            <a:off x="1066680" y="1600200"/>
            <a:ext cx="6873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2" name=""/>
          <p:cNvSpPr/>
          <p:nvPr/>
        </p:nvSpPr>
        <p:spPr>
          <a:xfrm>
            <a:off x="685800" y="266688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EPTOS BASICOS</a:t>
            </a:r>
            <a:endParaRPr b="0" lang="en-US" sz="2400" spc="-1" strike="noStrike">
              <a:solidFill>
                <a:srgbClr val="000000"/>
              </a:solidFill>
              <a:latin typeface="Times New Roman"/>
            </a:endParaRPr>
          </a:p>
        </p:txBody>
      </p:sp>
      <p:sp>
        <p:nvSpPr>
          <p:cNvPr id="93" name=""/>
          <p:cNvSpPr/>
          <p:nvPr/>
        </p:nvSpPr>
        <p:spPr>
          <a:xfrm>
            <a:off x="1116000" y="3860640"/>
            <a:ext cx="6769080" cy="216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Facultad de Ingeniería Industrial y de Sistemas</a:t>
            </a:r>
            <a:br>
              <a:rPr sz="2000"/>
            </a:b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gel Chata Tintaya (angel.chata@gmail.com)</a:t>
            </a:r>
            <a:br>
              <a:rPr sz="1800"/>
            </a:br>
            <a:r>
              <a:rPr b="1" lang="en-US" sz="1800" spc="-1" strike="noStrike">
                <a:solidFill>
                  <a:srgbClr val="000000"/>
                </a:solidFill>
                <a:latin typeface="Arial"/>
              </a:rPr>
              <a:t>http://aulaportal.googlepages.com</a:t>
            </a:r>
            <a:endParaRPr b="0" lang="en-US" sz="1800" spc="-1" strike="noStrike">
              <a:solidFill>
                <a:srgbClr val="000000"/>
              </a:solidFill>
              <a:latin typeface="Times New Roman"/>
            </a:endParaRPr>
          </a:p>
        </p:txBody>
      </p:sp>
      <p:sp>
        <p:nvSpPr>
          <p:cNvPr id="94" name=""/>
          <p:cNvSpPr/>
          <p:nvPr/>
        </p:nvSpPr>
        <p:spPr>
          <a:xfrm>
            <a:off x="609480" y="60948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NGUAJE DE PROGRAMACION </a:t>
            </a:r>
            <a:br>
              <a:rPr sz="2400"/>
            </a:br>
            <a:r>
              <a:rPr b="1" lang="en-US" sz="2400" spc="-1" strike="noStrike">
                <a:solidFill>
                  <a:srgbClr val="000000"/>
                </a:solidFill>
                <a:latin typeface="Arial"/>
                <a:ea typeface="Times New Roman"/>
              </a:rPr>
              <a:t>ORIENTADO A </a:t>
            </a:r>
            <a:r>
              <a:rPr b="1" lang="es-ES" sz="2400" spc="-1" strike="noStrike">
                <a:solidFill>
                  <a:srgbClr val="000000"/>
                </a:solidFill>
                <a:latin typeface="Arial"/>
                <a:ea typeface="Times New Roman"/>
              </a:rPr>
              <a:t>OBJETO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2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Enteros</a:t>
            </a:r>
            <a:endParaRPr b="0" lang="en-US" sz="3600" spc="-1" strike="noStrike">
              <a:solidFill>
                <a:srgbClr val="000000"/>
              </a:solidFill>
              <a:latin typeface="Times New Roman"/>
            </a:endParaRPr>
          </a:p>
        </p:txBody>
      </p:sp>
      <p:sp>
        <p:nvSpPr>
          <p:cNvPr id="127" name=""/>
          <p:cNvSpPr/>
          <p:nvPr/>
        </p:nvSpPr>
        <p:spPr>
          <a:xfrm>
            <a:off x="611280" y="1125360"/>
            <a:ext cx="7924680" cy="17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Cuentan con sign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u valor por defecto es cer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Numeros octales tienen prefijo cero:  032</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Hexadecimales tienen prefijo cero equis: 0x1A</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ong tiene postfijo L:   12345678987L</a:t>
            </a:r>
            <a:endParaRPr b="0" lang="en-US" sz="2000" spc="-1" strike="noStrike">
              <a:solidFill>
                <a:srgbClr val="000000"/>
              </a:solidFill>
              <a:latin typeface="Times New Roman"/>
            </a:endParaRPr>
          </a:p>
        </p:txBody>
      </p:sp>
      <p:grpSp>
        <p:nvGrpSpPr>
          <p:cNvPr id="128" name=""/>
          <p:cNvGrpSpPr/>
          <p:nvPr/>
        </p:nvGrpSpPr>
        <p:grpSpPr>
          <a:xfrm>
            <a:off x="2411280" y="3068640"/>
            <a:ext cx="5329080" cy="3277800"/>
            <a:chOff x="2411280" y="3068640"/>
            <a:chExt cx="5329080" cy="3277800"/>
          </a:xfrm>
        </p:grpSpPr>
        <p:sp>
          <p:nvSpPr>
            <p:cNvPr id="129" name=""/>
            <p:cNvSpPr/>
            <p:nvPr/>
          </p:nvSpPr>
          <p:spPr>
            <a:xfrm>
              <a:off x="2477160" y="3118680"/>
              <a:ext cx="1032840" cy="322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411280" y="3068640"/>
              <a:ext cx="1023840" cy="3214800"/>
            </a:xfrm>
            <a:prstGeom prst="rect">
              <a:avLst/>
            </a:prstGeom>
            <a:solidFill>
              <a:srgbClr val="bcffb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11280" y="3068640"/>
              <a:ext cx="1276920" cy="3277800"/>
            </a:xfrm>
            <a:prstGeom prst="rect">
              <a:avLst/>
            </a:prstGeom>
            <a:solidFill>
              <a:srgbClr val="bcffb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498040" y="35427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1.</a:t>
              </a:r>
              <a:endParaRPr b="0" lang="en-US" sz="1800" spc="-1" strike="noStrike">
                <a:solidFill>
                  <a:srgbClr val="000000"/>
                </a:solidFill>
                <a:latin typeface="Times New Roman"/>
              </a:endParaRPr>
            </a:p>
          </p:txBody>
        </p:sp>
        <p:sp>
          <p:nvSpPr>
            <p:cNvPr id="133" name=""/>
            <p:cNvSpPr/>
            <p:nvPr/>
          </p:nvSpPr>
          <p:spPr>
            <a:xfrm>
              <a:off x="2744280" y="354276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byte</a:t>
              </a:r>
              <a:endParaRPr b="0" lang="en-US" sz="1800" spc="-1" strike="noStrike">
                <a:solidFill>
                  <a:srgbClr val="000000"/>
                </a:solidFill>
                <a:latin typeface="Times New Roman"/>
              </a:endParaRPr>
            </a:p>
          </p:txBody>
        </p:sp>
        <p:sp>
          <p:nvSpPr>
            <p:cNvPr id="134" name=""/>
            <p:cNvSpPr/>
            <p:nvPr/>
          </p:nvSpPr>
          <p:spPr>
            <a:xfrm>
              <a:off x="2498040" y="418860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2.</a:t>
              </a:r>
              <a:endParaRPr b="0" lang="en-US" sz="1800" spc="-1" strike="noStrike">
                <a:solidFill>
                  <a:srgbClr val="000000"/>
                </a:solidFill>
                <a:latin typeface="Times New Roman"/>
              </a:endParaRPr>
            </a:p>
          </p:txBody>
        </p:sp>
        <p:sp>
          <p:nvSpPr>
            <p:cNvPr id="135" name=""/>
            <p:cNvSpPr/>
            <p:nvPr/>
          </p:nvSpPr>
          <p:spPr>
            <a:xfrm>
              <a:off x="2743560" y="4188600"/>
              <a:ext cx="57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short</a:t>
              </a:r>
              <a:endParaRPr b="0" lang="en-US" sz="1800" spc="-1" strike="noStrike">
                <a:solidFill>
                  <a:srgbClr val="000000"/>
                </a:solidFill>
                <a:latin typeface="Times New Roman"/>
              </a:endParaRPr>
            </a:p>
          </p:txBody>
        </p:sp>
        <p:sp>
          <p:nvSpPr>
            <p:cNvPr id="136" name=""/>
            <p:cNvSpPr/>
            <p:nvPr/>
          </p:nvSpPr>
          <p:spPr>
            <a:xfrm>
              <a:off x="2498040" y="483480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3.</a:t>
              </a:r>
              <a:endParaRPr b="0" lang="en-US" sz="1800" spc="-1" strike="noStrike">
                <a:solidFill>
                  <a:srgbClr val="000000"/>
                </a:solidFill>
                <a:latin typeface="Times New Roman"/>
              </a:endParaRPr>
            </a:p>
          </p:txBody>
        </p:sp>
        <p:sp>
          <p:nvSpPr>
            <p:cNvPr id="137" name=""/>
            <p:cNvSpPr/>
            <p:nvPr/>
          </p:nvSpPr>
          <p:spPr>
            <a:xfrm>
              <a:off x="2742840" y="483480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int</a:t>
              </a:r>
              <a:endParaRPr b="0" lang="en-US" sz="1800" spc="-1" strike="noStrike">
                <a:solidFill>
                  <a:srgbClr val="000000"/>
                </a:solidFill>
                <a:latin typeface="Times New Roman"/>
              </a:endParaRPr>
            </a:p>
          </p:txBody>
        </p:sp>
        <p:sp>
          <p:nvSpPr>
            <p:cNvPr id="138" name=""/>
            <p:cNvSpPr/>
            <p:nvPr/>
          </p:nvSpPr>
          <p:spPr>
            <a:xfrm>
              <a:off x="2498040" y="547884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4.</a:t>
              </a:r>
              <a:endParaRPr b="0" lang="en-US" sz="1800" spc="-1" strike="noStrike">
                <a:solidFill>
                  <a:srgbClr val="000000"/>
                </a:solidFill>
                <a:latin typeface="Times New Roman"/>
              </a:endParaRPr>
            </a:p>
          </p:txBody>
        </p:sp>
        <p:sp>
          <p:nvSpPr>
            <p:cNvPr id="139" name=""/>
            <p:cNvSpPr/>
            <p:nvPr/>
          </p:nvSpPr>
          <p:spPr>
            <a:xfrm>
              <a:off x="2742840" y="5478840"/>
              <a:ext cx="48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long</a:t>
              </a:r>
              <a:endParaRPr b="0" lang="en-US" sz="1800" spc="-1" strike="noStrike">
                <a:solidFill>
                  <a:srgbClr val="000000"/>
                </a:solidFill>
                <a:latin typeface="Times New Roman"/>
              </a:endParaRPr>
            </a:p>
          </p:txBody>
        </p:sp>
        <p:sp>
          <p:nvSpPr>
            <p:cNvPr id="140" name=""/>
            <p:cNvSpPr/>
            <p:nvPr/>
          </p:nvSpPr>
          <p:spPr>
            <a:xfrm>
              <a:off x="3540960" y="3341160"/>
              <a:ext cx="4199400" cy="666360"/>
            </a:xfrm>
            <a:custGeom>
              <a:avLst/>
              <a:gdLst/>
              <a:ahLst/>
              <a:rect l="l" t="t" r="r" b="b"/>
              <a:pathLst>
                <a:path w="2704" h="522">
                  <a:moveTo>
                    <a:pt x="0" y="261"/>
                  </a:moveTo>
                  <a:lnTo>
                    <a:pt x="7" y="230"/>
                  </a:lnTo>
                  <a:lnTo>
                    <a:pt x="30" y="201"/>
                  </a:lnTo>
                  <a:lnTo>
                    <a:pt x="66" y="173"/>
                  </a:lnTo>
                  <a:lnTo>
                    <a:pt x="116" y="147"/>
                  </a:lnTo>
                  <a:lnTo>
                    <a:pt x="248" y="103"/>
                  </a:lnTo>
                  <a:lnTo>
                    <a:pt x="422" y="65"/>
                  </a:lnTo>
                  <a:lnTo>
                    <a:pt x="626" y="37"/>
                  </a:lnTo>
                  <a:lnTo>
                    <a:pt x="855" y="17"/>
                  </a:lnTo>
                  <a:lnTo>
                    <a:pt x="1099" y="5"/>
                  </a:lnTo>
                  <a:lnTo>
                    <a:pt x="1352" y="0"/>
                  </a:lnTo>
                  <a:lnTo>
                    <a:pt x="1478" y="0"/>
                  </a:lnTo>
                  <a:lnTo>
                    <a:pt x="1604" y="3"/>
                  </a:lnTo>
                  <a:lnTo>
                    <a:pt x="1848" y="15"/>
                  </a:lnTo>
                  <a:lnTo>
                    <a:pt x="2076" y="35"/>
                  </a:lnTo>
                  <a:lnTo>
                    <a:pt x="2282" y="64"/>
                  </a:lnTo>
                  <a:lnTo>
                    <a:pt x="2454" y="100"/>
                  </a:lnTo>
                  <a:lnTo>
                    <a:pt x="2588" y="145"/>
                  </a:lnTo>
                  <a:lnTo>
                    <a:pt x="2637" y="170"/>
                  </a:lnTo>
                  <a:lnTo>
                    <a:pt x="2674" y="199"/>
                  </a:lnTo>
                  <a:lnTo>
                    <a:pt x="2696" y="228"/>
                  </a:lnTo>
                  <a:lnTo>
                    <a:pt x="2704" y="261"/>
                  </a:lnTo>
                  <a:lnTo>
                    <a:pt x="2697" y="291"/>
                  </a:lnTo>
                  <a:lnTo>
                    <a:pt x="2675" y="321"/>
                  </a:lnTo>
                  <a:lnTo>
                    <a:pt x="2639" y="348"/>
                  </a:lnTo>
                  <a:lnTo>
                    <a:pt x="2589" y="375"/>
                  </a:lnTo>
                  <a:lnTo>
                    <a:pt x="2456" y="419"/>
                  </a:lnTo>
                  <a:lnTo>
                    <a:pt x="2283" y="457"/>
                  </a:lnTo>
                  <a:lnTo>
                    <a:pt x="2079" y="485"/>
                  </a:lnTo>
                  <a:lnTo>
                    <a:pt x="1850" y="506"/>
                  </a:lnTo>
                  <a:lnTo>
                    <a:pt x="1605" y="517"/>
                  </a:lnTo>
                  <a:lnTo>
                    <a:pt x="1353" y="522"/>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40960" y="3341160"/>
              <a:ext cx="4199400" cy="666360"/>
            </a:xfrm>
            <a:custGeom>
              <a:avLst/>
              <a:gdLst/>
              <a:ahLst/>
              <a:rect l="l" t="t" r="r" b="b"/>
              <a:pathLst>
                <a:path w="2704" h="522">
                  <a:moveTo>
                    <a:pt x="0" y="261"/>
                  </a:moveTo>
                  <a:lnTo>
                    <a:pt x="7" y="230"/>
                  </a:lnTo>
                  <a:lnTo>
                    <a:pt x="30" y="201"/>
                  </a:lnTo>
                  <a:lnTo>
                    <a:pt x="66" y="173"/>
                  </a:lnTo>
                  <a:lnTo>
                    <a:pt x="116" y="147"/>
                  </a:lnTo>
                  <a:lnTo>
                    <a:pt x="248" y="103"/>
                  </a:lnTo>
                  <a:lnTo>
                    <a:pt x="422" y="65"/>
                  </a:lnTo>
                  <a:lnTo>
                    <a:pt x="626" y="37"/>
                  </a:lnTo>
                  <a:lnTo>
                    <a:pt x="855" y="17"/>
                  </a:lnTo>
                  <a:lnTo>
                    <a:pt x="1099" y="5"/>
                  </a:lnTo>
                  <a:lnTo>
                    <a:pt x="1352" y="0"/>
                  </a:lnTo>
                  <a:lnTo>
                    <a:pt x="1478" y="0"/>
                  </a:lnTo>
                  <a:lnTo>
                    <a:pt x="1604" y="3"/>
                  </a:lnTo>
                  <a:lnTo>
                    <a:pt x="1848" y="15"/>
                  </a:lnTo>
                  <a:lnTo>
                    <a:pt x="2076" y="35"/>
                  </a:lnTo>
                  <a:lnTo>
                    <a:pt x="2282" y="64"/>
                  </a:lnTo>
                  <a:lnTo>
                    <a:pt x="2454" y="100"/>
                  </a:lnTo>
                  <a:lnTo>
                    <a:pt x="2588" y="145"/>
                  </a:lnTo>
                  <a:lnTo>
                    <a:pt x="2637" y="170"/>
                  </a:lnTo>
                  <a:lnTo>
                    <a:pt x="2674" y="199"/>
                  </a:lnTo>
                  <a:lnTo>
                    <a:pt x="2696" y="228"/>
                  </a:lnTo>
                  <a:lnTo>
                    <a:pt x="2704" y="261"/>
                  </a:lnTo>
                  <a:lnTo>
                    <a:pt x="2697" y="291"/>
                  </a:lnTo>
                  <a:lnTo>
                    <a:pt x="2675" y="321"/>
                  </a:lnTo>
                  <a:lnTo>
                    <a:pt x="2639" y="348"/>
                  </a:lnTo>
                  <a:lnTo>
                    <a:pt x="2589" y="375"/>
                  </a:lnTo>
                  <a:lnTo>
                    <a:pt x="2456" y="419"/>
                  </a:lnTo>
                  <a:lnTo>
                    <a:pt x="2283" y="457"/>
                  </a:lnTo>
                  <a:lnTo>
                    <a:pt x="2079" y="485"/>
                  </a:lnTo>
                  <a:lnTo>
                    <a:pt x="1850" y="506"/>
                  </a:lnTo>
                  <a:lnTo>
                    <a:pt x="1605" y="517"/>
                  </a:lnTo>
                  <a:lnTo>
                    <a:pt x="1353" y="522"/>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540960" y="3998160"/>
              <a:ext cx="4199400" cy="668160"/>
            </a:xfrm>
            <a:custGeom>
              <a:avLst/>
              <a:gdLst/>
              <a:ahLst/>
              <a:rect l="l" t="t" r="r" b="b"/>
              <a:pathLst>
                <a:path w="2704" h="523">
                  <a:moveTo>
                    <a:pt x="0" y="261"/>
                  </a:moveTo>
                  <a:lnTo>
                    <a:pt x="7" y="230"/>
                  </a:lnTo>
                  <a:lnTo>
                    <a:pt x="30" y="201"/>
                  </a:lnTo>
                  <a:lnTo>
                    <a:pt x="66" y="173"/>
                  </a:lnTo>
                  <a:lnTo>
                    <a:pt x="116" y="147"/>
                  </a:lnTo>
                  <a:lnTo>
                    <a:pt x="248" y="103"/>
                  </a:lnTo>
                  <a:lnTo>
                    <a:pt x="422" y="66"/>
                  </a:lnTo>
                  <a:lnTo>
                    <a:pt x="626" y="38"/>
                  </a:lnTo>
                  <a:lnTo>
                    <a:pt x="855" y="17"/>
                  </a:lnTo>
                  <a:lnTo>
                    <a:pt x="1099" y="5"/>
                  </a:lnTo>
                  <a:lnTo>
                    <a:pt x="1352" y="0"/>
                  </a:lnTo>
                  <a:lnTo>
                    <a:pt x="1478" y="1"/>
                  </a:lnTo>
                  <a:lnTo>
                    <a:pt x="1604" y="4"/>
                  </a:lnTo>
                  <a:lnTo>
                    <a:pt x="1848" y="16"/>
                  </a:lnTo>
                  <a:lnTo>
                    <a:pt x="2076" y="36"/>
                  </a:lnTo>
                  <a:lnTo>
                    <a:pt x="2282" y="64"/>
                  </a:lnTo>
                  <a:lnTo>
                    <a:pt x="2454" y="101"/>
                  </a:lnTo>
                  <a:lnTo>
                    <a:pt x="2588" y="146"/>
                  </a:lnTo>
                  <a:lnTo>
                    <a:pt x="2637" y="171"/>
                  </a:lnTo>
                  <a:lnTo>
                    <a:pt x="2674" y="199"/>
                  </a:lnTo>
                  <a:lnTo>
                    <a:pt x="2696" y="229"/>
                  </a:lnTo>
                  <a:lnTo>
                    <a:pt x="2704" y="261"/>
                  </a:lnTo>
                  <a:lnTo>
                    <a:pt x="2697" y="292"/>
                  </a:lnTo>
                  <a:lnTo>
                    <a:pt x="2675" y="321"/>
                  </a:lnTo>
                  <a:lnTo>
                    <a:pt x="2639" y="349"/>
                  </a:lnTo>
                  <a:lnTo>
                    <a:pt x="2589" y="375"/>
                  </a:lnTo>
                  <a:lnTo>
                    <a:pt x="2456" y="420"/>
                  </a:lnTo>
                  <a:lnTo>
                    <a:pt x="2283" y="457"/>
                  </a:lnTo>
                  <a:lnTo>
                    <a:pt x="2079" y="485"/>
                  </a:lnTo>
                  <a:lnTo>
                    <a:pt x="1850" y="506"/>
                  </a:lnTo>
                  <a:lnTo>
                    <a:pt x="1605" y="518"/>
                  </a:lnTo>
                  <a:lnTo>
                    <a:pt x="1353" y="523"/>
                  </a:lnTo>
                  <a:lnTo>
                    <a:pt x="857" y="507"/>
                  </a:lnTo>
                  <a:lnTo>
                    <a:pt x="629" y="487"/>
                  </a:lnTo>
                  <a:lnTo>
                    <a:pt x="423" y="458"/>
                  </a:lnTo>
                  <a:lnTo>
                    <a:pt x="251" y="422"/>
                  </a:lnTo>
                  <a:lnTo>
                    <a:pt x="117" y="377"/>
                  </a:lnTo>
                  <a:lnTo>
                    <a:pt x="68" y="352"/>
                  </a:lnTo>
                  <a:lnTo>
                    <a:pt x="31" y="323"/>
                  </a:lnTo>
                  <a:lnTo>
                    <a:pt x="9" y="294"/>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40960" y="3998160"/>
              <a:ext cx="4199400" cy="668160"/>
            </a:xfrm>
            <a:custGeom>
              <a:avLst/>
              <a:gdLst/>
              <a:ahLst/>
              <a:rect l="l" t="t" r="r" b="b"/>
              <a:pathLst>
                <a:path w="2704" h="523">
                  <a:moveTo>
                    <a:pt x="0" y="261"/>
                  </a:moveTo>
                  <a:lnTo>
                    <a:pt x="7" y="230"/>
                  </a:lnTo>
                  <a:lnTo>
                    <a:pt x="30" y="201"/>
                  </a:lnTo>
                  <a:lnTo>
                    <a:pt x="66" y="173"/>
                  </a:lnTo>
                  <a:lnTo>
                    <a:pt x="116" y="147"/>
                  </a:lnTo>
                  <a:lnTo>
                    <a:pt x="248" y="103"/>
                  </a:lnTo>
                  <a:lnTo>
                    <a:pt x="422" y="66"/>
                  </a:lnTo>
                  <a:lnTo>
                    <a:pt x="626" y="38"/>
                  </a:lnTo>
                  <a:lnTo>
                    <a:pt x="855" y="17"/>
                  </a:lnTo>
                  <a:lnTo>
                    <a:pt x="1099" y="5"/>
                  </a:lnTo>
                  <a:lnTo>
                    <a:pt x="1352" y="0"/>
                  </a:lnTo>
                  <a:lnTo>
                    <a:pt x="1478" y="1"/>
                  </a:lnTo>
                  <a:lnTo>
                    <a:pt x="1604" y="4"/>
                  </a:lnTo>
                  <a:lnTo>
                    <a:pt x="1848" y="16"/>
                  </a:lnTo>
                  <a:lnTo>
                    <a:pt x="2076" y="36"/>
                  </a:lnTo>
                  <a:lnTo>
                    <a:pt x="2282" y="64"/>
                  </a:lnTo>
                  <a:lnTo>
                    <a:pt x="2454" y="101"/>
                  </a:lnTo>
                  <a:lnTo>
                    <a:pt x="2588" y="146"/>
                  </a:lnTo>
                  <a:lnTo>
                    <a:pt x="2637" y="171"/>
                  </a:lnTo>
                  <a:lnTo>
                    <a:pt x="2674" y="199"/>
                  </a:lnTo>
                  <a:lnTo>
                    <a:pt x="2696" y="229"/>
                  </a:lnTo>
                  <a:lnTo>
                    <a:pt x="2704" y="261"/>
                  </a:lnTo>
                  <a:lnTo>
                    <a:pt x="2697" y="292"/>
                  </a:lnTo>
                  <a:lnTo>
                    <a:pt x="2675" y="321"/>
                  </a:lnTo>
                  <a:lnTo>
                    <a:pt x="2639" y="349"/>
                  </a:lnTo>
                  <a:lnTo>
                    <a:pt x="2589" y="375"/>
                  </a:lnTo>
                  <a:lnTo>
                    <a:pt x="2456" y="420"/>
                  </a:lnTo>
                  <a:lnTo>
                    <a:pt x="2283" y="457"/>
                  </a:lnTo>
                  <a:lnTo>
                    <a:pt x="2079" y="485"/>
                  </a:lnTo>
                  <a:lnTo>
                    <a:pt x="1850" y="506"/>
                  </a:lnTo>
                  <a:lnTo>
                    <a:pt x="1605" y="518"/>
                  </a:lnTo>
                  <a:lnTo>
                    <a:pt x="1353" y="523"/>
                  </a:lnTo>
                  <a:lnTo>
                    <a:pt x="857" y="507"/>
                  </a:lnTo>
                  <a:lnTo>
                    <a:pt x="629" y="487"/>
                  </a:lnTo>
                  <a:lnTo>
                    <a:pt x="423" y="458"/>
                  </a:lnTo>
                  <a:lnTo>
                    <a:pt x="251" y="422"/>
                  </a:lnTo>
                  <a:lnTo>
                    <a:pt x="117" y="377"/>
                  </a:lnTo>
                  <a:lnTo>
                    <a:pt x="68" y="352"/>
                  </a:lnTo>
                  <a:lnTo>
                    <a:pt x="31" y="323"/>
                  </a:lnTo>
                  <a:lnTo>
                    <a:pt x="9" y="294"/>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540960" y="4655160"/>
              <a:ext cx="4199400" cy="668160"/>
            </a:xfrm>
            <a:custGeom>
              <a:avLst/>
              <a:gdLst/>
              <a:ahLst/>
              <a:rect l="l" t="t" r="r" b="b"/>
              <a:pathLst>
                <a:path w="2704" h="523">
                  <a:moveTo>
                    <a:pt x="0" y="261"/>
                  </a:moveTo>
                  <a:lnTo>
                    <a:pt x="7" y="230"/>
                  </a:lnTo>
                  <a:lnTo>
                    <a:pt x="30" y="201"/>
                  </a:lnTo>
                  <a:lnTo>
                    <a:pt x="66" y="173"/>
                  </a:lnTo>
                  <a:lnTo>
                    <a:pt x="116" y="147"/>
                  </a:lnTo>
                  <a:lnTo>
                    <a:pt x="248" y="103"/>
                  </a:lnTo>
                  <a:lnTo>
                    <a:pt x="422" y="65"/>
                  </a:lnTo>
                  <a:lnTo>
                    <a:pt x="626" y="37"/>
                  </a:lnTo>
                  <a:lnTo>
                    <a:pt x="855" y="17"/>
                  </a:lnTo>
                  <a:lnTo>
                    <a:pt x="1099" y="5"/>
                  </a:lnTo>
                  <a:lnTo>
                    <a:pt x="1352" y="0"/>
                  </a:lnTo>
                  <a:lnTo>
                    <a:pt x="1478" y="0"/>
                  </a:lnTo>
                  <a:lnTo>
                    <a:pt x="1604" y="3"/>
                  </a:lnTo>
                  <a:lnTo>
                    <a:pt x="1848" y="15"/>
                  </a:lnTo>
                  <a:lnTo>
                    <a:pt x="2076" y="35"/>
                  </a:lnTo>
                  <a:lnTo>
                    <a:pt x="2282" y="64"/>
                  </a:lnTo>
                  <a:lnTo>
                    <a:pt x="2454" y="100"/>
                  </a:lnTo>
                  <a:lnTo>
                    <a:pt x="2588" y="145"/>
                  </a:lnTo>
                  <a:lnTo>
                    <a:pt x="2637" y="170"/>
                  </a:lnTo>
                  <a:lnTo>
                    <a:pt x="2674" y="199"/>
                  </a:lnTo>
                  <a:lnTo>
                    <a:pt x="2696" y="228"/>
                  </a:lnTo>
                  <a:lnTo>
                    <a:pt x="2704" y="261"/>
                  </a:lnTo>
                  <a:lnTo>
                    <a:pt x="2697" y="292"/>
                  </a:lnTo>
                  <a:lnTo>
                    <a:pt x="2675" y="321"/>
                  </a:lnTo>
                  <a:lnTo>
                    <a:pt x="2639" y="349"/>
                  </a:lnTo>
                  <a:lnTo>
                    <a:pt x="2589" y="375"/>
                  </a:lnTo>
                  <a:lnTo>
                    <a:pt x="2456" y="419"/>
                  </a:lnTo>
                  <a:lnTo>
                    <a:pt x="2283" y="457"/>
                  </a:lnTo>
                  <a:lnTo>
                    <a:pt x="2079" y="485"/>
                  </a:lnTo>
                  <a:lnTo>
                    <a:pt x="1850" y="506"/>
                  </a:lnTo>
                  <a:lnTo>
                    <a:pt x="1605" y="518"/>
                  </a:lnTo>
                  <a:lnTo>
                    <a:pt x="1353" y="523"/>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40960" y="4655160"/>
              <a:ext cx="4199400" cy="668160"/>
            </a:xfrm>
            <a:custGeom>
              <a:avLst/>
              <a:gdLst/>
              <a:ahLst/>
              <a:rect l="l" t="t" r="r" b="b"/>
              <a:pathLst>
                <a:path w="2704" h="523">
                  <a:moveTo>
                    <a:pt x="0" y="261"/>
                  </a:moveTo>
                  <a:lnTo>
                    <a:pt x="7" y="230"/>
                  </a:lnTo>
                  <a:lnTo>
                    <a:pt x="30" y="201"/>
                  </a:lnTo>
                  <a:lnTo>
                    <a:pt x="66" y="173"/>
                  </a:lnTo>
                  <a:lnTo>
                    <a:pt x="116" y="147"/>
                  </a:lnTo>
                  <a:lnTo>
                    <a:pt x="248" y="103"/>
                  </a:lnTo>
                  <a:lnTo>
                    <a:pt x="422" y="65"/>
                  </a:lnTo>
                  <a:lnTo>
                    <a:pt x="626" y="37"/>
                  </a:lnTo>
                  <a:lnTo>
                    <a:pt x="855" y="17"/>
                  </a:lnTo>
                  <a:lnTo>
                    <a:pt x="1099" y="5"/>
                  </a:lnTo>
                  <a:lnTo>
                    <a:pt x="1352" y="0"/>
                  </a:lnTo>
                  <a:lnTo>
                    <a:pt x="1478" y="0"/>
                  </a:lnTo>
                  <a:lnTo>
                    <a:pt x="1604" y="3"/>
                  </a:lnTo>
                  <a:lnTo>
                    <a:pt x="1848" y="15"/>
                  </a:lnTo>
                  <a:lnTo>
                    <a:pt x="2076" y="35"/>
                  </a:lnTo>
                  <a:lnTo>
                    <a:pt x="2282" y="64"/>
                  </a:lnTo>
                  <a:lnTo>
                    <a:pt x="2454" y="100"/>
                  </a:lnTo>
                  <a:lnTo>
                    <a:pt x="2588" y="145"/>
                  </a:lnTo>
                  <a:lnTo>
                    <a:pt x="2637" y="170"/>
                  </a:lnTo>
                  <a:lnTo>
                    <a:pt x="2674" y="199"/>
                  </a:lnTo>
                  <a:lnTo>
                    <a:pt x="2696" y="228"/>
                  </a:lnTo>
                  <a:lnTo>
                    <a:pt x="2704" y="261"/>
                  </a:lnTo>
                  <a:lnTo>
                    <a:pt x="2697" y="292"/>
                  </a:lnTo>
                  <a:lnTo>
                    <a:pt x="2675" y="321"/>
                  </a:lnTo>
                  <a:lnTo>
                    <a:pt x="2639" y="349"/>
                  </a:lnTo>
                  <a:lnTo>
                    <a:pt x="2589" y="375"/>
                  </a:lnTo>
                  <a:lnTo>
                    <a:pt x="2456" y="419"/>
                  </a:lnTo>
                  <a:lnTo>
                    <a:pt x="2283" y="457"/>
                  </a:lnTo>
                  <a:lnTo>
                    <a:pt x="2079" y="485"/>
                  </a:lnTo>
                  <a:lnTo>
                    <a:pt x="1850" y="506"/>
                  </a:lnTo>
                  <a:lnTo>
                    <a:pt x="1605" y="518"/>
                  </a:lnTo>
                  <a:lnTo>
                    <a:pt x="1353" y="523"/>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540960" y="5304960"/>
              <a:ext cx="4199400" cy="666360"/>
            </a:xfrm>
            <a:custGeom>
              <a:avLst/>
              <a:gdLst/>
              <a:ahLst/>
              <a:rect l="l" t="t" r="r" b="b"/>
              <a:pathLst>
                <a:path w="2704" h="522">
                  <a:moveTo>
                    <a:pt x="0" y="261"/>
                  </a:moveTo>
                  <a:lnTo>
                    <a:pt x="7" y="230"/>
                  </a:lnTo>
                  <a:lnTo>
                    <a:pt x="30" y="201"/>
                  </a:lnTo>
                  <a:lnTo>
                    <a:pt x="66" y="173"/>
                  </a:lnTo>
                  <a:lnTo>
                    <a:pt x="116" y="147"/>
                  </a:lnTo>
                  <a:lnTo>
                    <a:pt x="248" y="103"/>
                  </a:lnTo>
                  <a:lnTo>
                    <a:pt x="422" y="65"/>
                  </a:lnTo>
                  <a:lnTo>
                    <a:pt x="626" y="37"/>
                  </a:lnTo>
                  <a:lnTo>
                    <a:pt x="855" y="16"/>
                  </a:lnTo>
                  <a:lnTo>
                    <a:pt x="1099" y="5"/>
                  </a:lnTo>
                  <a:lnTo>
                    <a:pt x="1352" y="0"/>
                  </a:lnTo>
                  <a:lnTo>
                    <a:pt x="1478" y="0"/>
                  </a:lnTo>
                  <a:lnTo>
                    <a:pt x="1604" y="3"/>
                  </a:lnTo>
                  <a:lnTo>
                    <a:pt x="1848" y="15"/>
                  </a:lnTo>
                  <a:lnTo>
                    <a:pt x="2076" y="35"/>
                  </a:lnTo>
                  <a:lnTo>
                    <a:pt x="2282" y="64"/>
                  </a:lnTo>
                  <a:lnTo>
                    <a:pt x="2454" y="100"/>
                  </a:lnTo>
                  <a:lnTo>
                    <a:pt x="2588" y="145"/>
                  </a:lnTo>
                  <a:lnTo>
                    <a:pt x="2637" y="171"/>
                  </a:lnTo>
                  <a:lnTo>
                    <a:pt x="2674" y="199"/>
                  </a:lnTo>
                  <a:lnTo>
                    <a:pt x="2696" y="228"/>
                  </a:lnTo>
                  <a:lnTo>
                    <a:pt x="2704" y="261"/>
                  </a:lnTo>
                  <a:lnTo>
                    <a:pt x="2697" y="291"/>
                  </a:lnTo>
                  <a:lnTo>
                    <a:pt x="2675" y="321"/>
                  </a:lnTo>
                  <a:lnTo>
                    <a:pt x="2639" y="348"/>
                  </a:lnTo>
                  <a:lnTo>
                    <a:pt x="2589" y="375"/>
                  </a:lnTo>
                  <a:lnTo>
                    <a:pt x="2456" y="419"/>
                  </a:lnTo>
                  <a:lnTo>
                    <a:pt x="2283" y="457"/>
                  </a:lnTo>
                  <a:lnTo>
                    <a:pt x="2079" y="485"/>
                  </a:lnTo>
                  <a:lnTo>
                    <a:pt x="1850" y="506"/>
                  </a:lnTo>
                  <a:lnTo>
                    <a:pt x="1605" y="517"/>
                  </a:lnTo>
                  <a:lnTo>
                    <a:pt x="1353" y="522"/>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40960" y="5304960"/>
              <a:ext cx="4199400" cy="666360"/>
            </a:xfrm>
            <a:custGeom>
              <a:avLst/>
              <a:gdLst/>
              <a:ahLst/>
              <a:rect l="l" t="t" r="r" b="b"/>
              <a:pathLst>
                <a:path w="2704" h="522">
                  <a:moveTo>
                    <a:pt x="0" y="261"/>
                  </a:moveTo>
                  <a:lnTo>
                    <a:pt x="7" y="230"/>
                  </a:lnTo>
                  <a:lnTo>
                    <a:pt x="30" y="201"/>
                  </a:lnTo>
                  <a:lnTo>
                    <a:pt x="66" y="173"/>
                  </a:lnTo>
                  <a:lnTo>
                    <a:pt x="116" y="147"/>
                  </a:lnTo>
                  <a:lnTo>
                    <a:pt x="248" y="103"/>
                  </a:lnTo>
                  <a:lnTo>
                    <a:pt x="422" y="65"/>
                  </a:lnTo>
                  <a:lnTo>
                    <a:pt x="626" y="37"/>
                  </a:lnTo>
                  <a:lnTo>
                    <a:pt x="855" y="16"/>
                  </a:lnTo>
                  <a:lnTo>
                    <a:pt x="1099" y="5"/>
                  </a:lnTo>
                  <a:lnTo>
                    <a:pt x="1352" y="0"/>
                  </a:lnTo>
                  <a:lnTo>
                    <a:pt x="1478" y="0"/>
                  </a:lnTo>
                  <a:lnTo>
                    <a:pt x="1604" y="3"/>
                  </a:lnTo>
                  <a:lnTo>
                    <a:pt x="1848" y="15"/>
                  </a:lnTo>
                  <a:lnTo>
                    <a:pt x="2076" y="35"/>
                  </a:lnTo>
                  <a:lnTo>
                    <a:pt x="2282" y="64"/>
                  </a:lnTo>
                  <a:lnTo>
                    <a:pt x="2454" y="100"/>
                  </a:lnTo>
                  <a:lnTo>
                    <a:pt x="2588" y="145"/>
                  </a:lnTo>
                  <a:lnTo>
                    <a:pt x="2637" y="171"/>
                  </a:lnTo>
                  <a:lnTo>
                    <a:pt x="2674" y="199"/>
                  </a:lnTo>
                  <a:lnTo>
                    <a:pt x="2696" y="228"/>
                  </a:lnTo>
                  <a:lnTo>
                    <a:pt x="2704" y="261"/>
                  </a:lnTo>
                  <a:lnTo>
                    <a:pt x="2697" y="291"/>
                  </a:lnTo>
                  <a:lnTo>
                    <a:pt x="2675" y="321"/>
                  </a:lnTo>
                  <a:lnTo>
                    <a:pt x="2639" y="348"/>
                  </a:lnTo>
                  <a:lnTo>
                    <a:pt x="2589" y="375"/>
                  </a:lnTo>
                  <a:lnTo>
                    <a:pt x="2456" y="419"/>
                  </a:lnTo>
                  <a:lnTo>
                    <a:pt x="2283" y="457"/>
                  </a:lnTo>
                  <a:lnTo>
                    <a:pt x="2079" y="485"/>
                  </a:lnTo>
                  <a:lnTo>
                    <a:pt x="1850" y="506"/>
                  </a:lnTo>
                  <a:lnTo>
                    <a:pt x="1605" y="517"/>
                  </a:lnTo>
                  <a:lnTo>
                    <a:pt x="1353" y="522"/>
                  </a:lnTo>
                  <a:lnTo>
                    <a:pt x="857" y="507"/>
                  </a:lnTo>
                  <a:lnTo>
                    <a:pt x="629" y="487"/>
                  </a:lnTo>
                  <a:lnTo>
                    <a:pt x="423" y="458"/>
                  </a:lnTo>
                  <a:lnTo>
                    <a:pt x="251" y="422"/>
                  </a:lnTo>
                  <a:lnTo>
                    <a:pt x="117" y="377"/>
                  </a:lnTo>
                  <a:lnTo>
                    <a:pt x="68" y="352"/>
                  </a:lnTo>
                  <a:lnTo>
                    <a:pt x="31" y="323"/>
                  </a:lnTo>
                  <a:lnTo>
                    <a:pt x="9" y="293"/>
                  </a:lnTo>
                  <a:lnTo>
                    <a:pt x="0" y="261"/>
                  </a:lnTo>
                  <a:close/>
                </a:path>
              </a:pathLst>
            </a:custGeom>
            <a:solidFill>
              <a:srgbClr val="bcffb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497480" y="3367440"/>
              <a:ext cx="2515320" cy="610200"/>
            </a:xfrm>
            <a:prstGeom prst="rect">
              <a:avLst/>
            </a:prstGeom>
            <a:noFill/>
            <a:ln w="0">
              <a:noFill/>
            </a:ln>
          </p:spPr>
          <p:style>
            <a:lnRef idx="0"/>
            <a:fillRef idx="0"/>
            <a:effectRef idx="0"/>
            <a:fontRef idx="minor"/>
          </p:style>
          <p:txBody>
            <a:bodyPr wrap="none" lIns="61560" rIns="61560" tIns="30600" bIns="306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s-PE" sz="1800" spc="-1" strike="noStrike">
                  <a:solidFill>
                    <a:srgbClr val="000000"/>
                  </a:solidFill>
                  <a:latin typeface="Arial"/>
                  <a:ea typeface="Arial"/>
                </a:rPr>
                <a:t>Tamaño</a:t>
              </a:r>
              <a:r>
                <a:rPr b="1" lang="en-US" sz="1800" spc="-1" strike="noStrike">
                  <a:solidFill>
                    <a:srgbClr val="000000"/>
                  </a:solidFill>
                  <a:latin typeface="Arial"/>
                  <a:ea typeface="Arial"/>
                </a:rPr>
                <a:t>: 1 byte</a:t>
              </a:r>
              <a:endParaRPr b="0" lang="en-US" sz="1800" spc="-1" strike="noStrike">
                <a:solidFill>
                  <a:srgbClr val="000000"/>
                </a:solidFill>
                <a:latin typeface="Times New Roman"/>
              </a:endParaRPr>
            </a:p>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2</a:t>
              </a:r>
              <a:r>
                <a:rPr b="1" lang="en-US" sz="1800" spc="-1" strike="noStrike" baseline="30000">
                  <a:solidFill>
                    <a:srgbClr val="000000"/>
                  </a:solidFill>
                  <a:latin typeface="Arial"/>
                  <a:ea typeface="Arial"/>
                </a:rPr>
                <a:t>7</a:t>
              </a:r>
              <a:r>
                <a:rPr b="1" lang="en-US" sz="1800" spc="-1" strike="noStrike">
                  <a:solidFill>
                    <a:srgbClr val="000000"/>
                  </a:solidFill>
                  <a:latin typeface="Arial"/>
                  <a:ea typeface="Arial"/>
                </a:rPr>
                <a:t> - 1</a:t>
              </a:r>
              <a:endParaRPr b="0" lang="en-US" sz="1800" spc="-1" strike="noStrike">
                <a:solidFill>
                  <a:srgbClr val="000000"/>
                </a:solidFill>
                <a:latin typeface="Times New Roman"/>
              </a:endParaRPr>
            </a:p>
          </p:txBody>
        </p:sp>
        <p:sp>
          <p:nvSpPr>
            <p:cNvPr id="149" name=""/>
            <p:cNvSpPr/>
            <p:nvPr/>
          </p:nvSpPr>
          <p:spPr>
            <a:xfrm>
              <a:off x="4527720" y="4016880"/>
              <a:ext cx="2661480" cy="610200"/>
            </a:xfrm>
            <a:prstGeom prst="rect">
              <a:avLst/>
            </a:prstGeom>
            <a:noFill/>
            <a:ln w="0">
              <a:noFill/>
            </a:ln>
          </p:spPr>
          <p:style>
            <a:lnRef idx="0"/>
            <a:fillRef idx="0"/>
            <a:effectRef idx="0"/>
            <a:fontRef idx="minor"/>
          </p:style>
          <p:txBody>
            <a:bodyPr wrap="none" lIns="61560" rIns="61560" tIns="30600" bIns="306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s-PE" sz="1800" spc="-1" strike="noStrike">
                  <a:solidFill>
                    <a:srgbClr val="000000"/>
                  </a:solidFill>
                  <a:latin typeface="Arial"/>
                  <a:ea typeface="Arial"/>
                </a:rPr>
                <a:t>Tamaño</a:t>
              </a:r>
              <a:r>
                <a:rPr b="1" lang="en-US" sz="1800" spc="-1" strike="noStrike">
                  <a:solidFill>
                    <a:srgbClr val="000000"/>
                  </a:solidFill>
                  <a:latin typeface="Arial"/>
                  <a:ea typeface="Arial"/>
                </a:rPr>
                <a:t> : 2 bytes</a:t>
              </a:r>
              <a:endParaRPr b="0" lang="en-US" sz="1800" spc="-1" strike="noStrike">
                <a:solidFill>
                  <a:srgbClr val="000000"/>
                </a:solidFill>
                <a:latin typeface="Times New Roman"/>
              </a:endParaRPr>
            </a:p>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15</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2</a:t>
              </a:r>
              <a:r>
                <a:rPr b="1" lang="en-US" sz="1800" spc="-1" strike="noStrike" baseline="30000">
                  <a:solidFill>
                    <a:srgbClr val="000000"/>
                  </a:solidFill>
                  <a:latin typeface="Arial"/>
                  <a:ea typeface="Arial"/>
                </a:rPr>
                <a:t>15</a:t>
              </a:r>
              <a:r>
                <a:rPr b="1" lang="en-US" sz="1800" spc="-1" strike="noStrike">
                  <a:solidFill>
                    <a:srgbClr val="000000"/>
                  </a:solidFill>
                  <a:latin typeface="Arial"/>
                  <a:ea typeface="Arial"/>
                </a:rPr>
                <a:t> - 1</a:t>
              </a:r>
              <a:endParaRPr b="0" lang="en-US" sz="1800" spc="-1" strike="noStrike">
                <a:solidFill>
                  <a:srgbClr val="000000"/>
                </a:solidFill>
                <a:latin typeface="Times New Roman"/>
              </a:endParaRPr>
            </a:p>
          </p:txBody>
        </p:sp>
        <p:sp>
          <p:nvSpPr>
            <p:cNvPr id="150" name=""/>
            <p:cNvSpPr/>
            <p:nvPr/>
          </p:nvSpPr>
          <p:spPr>
            <a:xfrm>
              <a:off x="4527720" y="4629240"/>
              <a:ext cx="2661480" cy="610200"/>
            </a:xfrm>
            <a:prstGeom prst="rect">
              <a:avLst/>
            </a:prstGeom>
            <a:noFill/>
            <a:ln w="0">
              <a:noFill/>
            </a:ln>
          </p:spPr>
          <p:style>
            <a:lnRef idx="0"/>
            <a:fillRef idx="0"/>
            <a:effectRef idx="0"/>
            <a:fontRef idx="minor"/>
          </p:style>
          <p:txBody>
            <a:bodyPr wrap="none" lIns="61560" rIns="61560" tIns="30600" bIns="306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s-PE" sz="1800" spc="-1" strike="noStrike">
                  <a:solidFill>
                    <a:srgbClr val="000000"/>
                  </a:solidFill>
                  <a:latin typeface="Arial"/>
                  <a:ea typeface="Arial"/>
                </a:rPr>
                <a:t>Tamaño</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 bytes</a:t>
              </a:r>
              <a:endParaRPr b="0" lang="en-US" sz="1800" spc="-1" strike="noStrike">
                <a:solidFill>
                  <a:srgbClr val="000000"/>
                </a:solidFill>
                <a:latin typeface="Times New Roman"/>
              </a:endParaRPr>
            </a:p>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31</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2</a:t>
              </a:r>
              <a:r>
                <a:rPr b="1" lang="en-US" sz="1800" spc="-1" strike="noStrike" baseline="30000">
                  <a:solidFill>
                    <a:srgbClr val="000000"/>
                  </a:solidFill>
                  <a:latin typeface="Arial"/>
                  <a:ea typeface="Arial"/>
                </a:rPr>
                <a:t>31</a:t>
              </a:r>
              <a:r>
                <a:rPr b="1" lang="en-US" sz="1800" spc="-1" strike="noStrike">
                  <a:solidFill>
                    <a:srgbClr val="000000"/>
                  </a:solidFill>
                  <a:latin typeface="Arial"/>
                  <a:ea typeface="Arial"/>
                </a:rPr>
                <a:t> - 1</a:t>
              </a:r>
              <a:endParaRPr b="0" lang="en-US" sz="1800" spc="-1" strike="noStrike">
                <a:solidFill>
                  <a:srgbClr val="000000"/>
                </a:solidFill>
                <a:latin typeface="Times New Roman"/>
              </a:endParaRPr>
            </a:p>
          </p:txBody>
        </p:sp>
        <p:sp>
          <p:nvSpPr>
            <p:cNvPr id="151" name=""/>
            <p:cNvSpPr/>
            <p:nvPr/>
          </p:nvSpPr>
          <p:spPr>
            <a:xfrm>
              <a:off x="4527720" y="5306760"/>
              <a:ext cx="2661480" cy="610200"/>
            </a:xfrm>
            <a:prstGeom prst="rect">
              <a:avLst/>
            </a:prstGeom>
            <a:noFill/>
            <a:ln w="0">
              <a:noFill/>
            </a:ln>
          </p:spPr>
          <p:style>
            <a:lnRef idx="0"/>
            <a:fillRef idx="0"/>
            <a:effectRef idx="0"/>
            <a:fontRef idx="minor"/>
          </p:style>
          <p:txBody>
            <a:bodyPr wrap="none" lIns="61560" rIns="61560" tIns="30600" bIns="306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Tama</a:t>
              </a:r>
              <a:r>
                <a:rPr b="1" lang="es-PE" sz="1800" spc="-1" strike="noStrike">
                  <a:solidFill>
                    <a:srgbClr val="000000"/>
                  </a:solidFill>
                  <a:latin typeface="Arial"/>
                  <a:ea typeface="Arial"/>
                </a:rPr>
                <a:t>ñ</a:t>
              </a:r>
              <a:r>
                <a:rPr b="1" lang="en-US" sz="1800" spc="-1" strike="noStrike">
                  <a:solidFill>
                    <a:srgbClr val="000000"/>
                  </a:solidFill>
                  <a:latin typeface="Arial"/>
                  <a:ea typeface="Arial"/>
                </a:rPr>
                <a:t>o: 8 bytes</a:t>
              </a:r>
              <a:endParaRPr b="0" lang="en-US" sz="1800" spc="-1" strike="noStrike">
                <a:solidFill>
                  <a:srgbClr val="000000"/>
                </a:solidFill>
                <a:latin typeface="Times New Roman"/>
              </a:endParaRPr>
            </a:p>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63</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2</a:t>
              </a:r>
              <a:r>
                <a:rPr b="1" lang="en-US" sz="1800" spc="-1" strike="noStrike" baseline="30000">
                  <a:solidFill>
                    <a:srgbClr val="000000"/>
                  </a:solidFill>
                  <a:latin typeface="Arial"/>
                  <a:ea typeface="Arial"/>
                </a:rPr>
                <a:t>63</a:t>
              </a:r>
              <a:r>
                <a:rPr b="1" lang="en-US" sz="1800" spc="-1" strike="noStrike">
                  <a:solidFill>
                    <a:srgbClr val="000000"/>
                  </a:solidFill>
                  <a:latin typeface="Arial"/>
                  <a:ea typeface="Arial"/>
                </a:rPr>
                <a:t> - 1</a:t>
              </a:r>
              <a:endParaRPr b="0" lang="en-US" sz="1800" spc="-1" strike="noStrike">
                <a:solidFill>
                  <a:srgbClr val="000000"/>
                </a:solidFill>
                <a:latin typeface="Times New Roman"/>
              </a:endParaRPr>
            </a:p>
          </p:txBody>
        </p:sp>
      </p:grpSp>
      <p:sp>
        <p:nvSpPr>
          <p:cNvPr id="152" name=""/>
          <p:cNvSpPr/>
          <p:nvPr/>
        </p:nvSpPr>
        <p:spPr>
          <a:xfrm>
            <a:off x="-125640" y="6381720"/>
            <a:ext cx="6976080" cy="285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yúsculas y minúsculas son equivalentes en los literale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53"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de Punto Flotante</a:t>
            </a:r>
            <a:endParaRPr b="0" lang="en-US" sz="3600" spc="-1" strike="noStrike">
              <a:solidFill>
                <a:srgbClr val="000000"/>
              </a:solidFill>
              <a:latin typeface="Times New Roman"/>
            </a:endParaRPr>
          </a:p>
        </p:txBody>
      </p:sp>
      <p:sp>
        <p:nvSpPr>
          <p:cNvPr id="155" name=""/>
          <p:cNvSpPr/>
          <p:nvPr/>
        </p:nvSpPr>
        <p:spPr>
          <a:xfrm>
            <a:off x="609480" y="1143000"/>
            <a:ext cx="7925040" cy="3565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on numeros decimales. </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ueden tener parte fraccionaria.</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e inician en cero por defect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Float terminan con una efe:  7.1f</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ouble terminan con una de:  7.1D</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notacion científica se una la vocal e:  7.1e2</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Un numero de punto flotante sin una letra final es un double: 7.1 es lo mismo como 7.1d</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 name=""/>
          <p:cNvGrpSpPr/>
          <p:nvPr/>
        </p:nvGrpSpPr>
        <p:grpSpPr>
          <a:xfrm>
            <a:off x="2050920" y="4221000"/>
            <a:ext cx="5257440" cy="2102760"/>
            <a:chOff x="2050920" y="4221000"/>
            <a:chExt cx="5257440" cy="2102760"/>
          </a:xfrm>
        </p:grpSpPr>
        <p:sp>
          <p:nvSpPr>
            <p:cNvPr id="157" name=""/>
            <p:cNvSpPr/>
            <p:nvPr/>
          </p:nvSpPr>
          <p:spPr>
            <a:xfrm>
              <a:off x="2108880" y="4397400"/>
              <a:ext cx="1051920" cy="1843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050920" y="4335480"/>
              <a:ext cx="1044720" cy="183708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050920" y="4335480"/>
              <a:ext cx="1233360" cy="183708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2000" y="46065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1.</a:t>
              </a:r>
              <a:endParaRPr b="0" lang="en-US" sz="1800" spc="-1" strike="noStrike">
                <a:solidFill>
                  <a:srgbClr val="000000"/>
                </a:solidFill>
                <a:latin typeface="Times New Roman"/>
              </a:endParaRPr>
            </a:p>
          </p:txBody>
        </p:sp>
        <p:sp>
          <p:nvSpPr>
            <p:cNvPr id="161" name=""/>
            <p:cNvSpPr/>
            <p:nvPr/>
          </p:nvSpPr>
          <p:spPr>
            <a:xfrm>
              <a:off x="2357280" y="46065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float</a:t>
              </a:r>
              <a:endParaRPr b="0" lang="en-US" sz="1800" spc="-1" strike="noStrike">
                <a:solidFill>
                  <a:srgbClr val="000000"/>
                </a:solidFill>
                <a:latin typeface="Times New Roman"/>
              </a:endParaRPr>
            </a:p>
          </p:txBody>
        </p:sp>
        <p:sp>
          <p:nvSpPr>
            <p:cNvPr id="162" name=""/>
            <p:cNvSpPr/>
            <p:nvPr/>
          </p:nvSpPr>
          <p:spPr>
            <a:xfrm>
              <a:off x="2142000" y="55893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808080"/>
                  </a:solidFill>
                  <a:latin typeface="Arial"/>
                </a:rPr>
                <a:t>2.</a:t>
              </a:r>
              <a:endParaRPr b="0" lang="en-US" sz="1800" spc="-1" strike="noStrike">
                <a:solidFill>
                  <a:srgbClr val="000000"/>
                </a:solidFill>
                <a:latin typeface="Times New Roman"/>
              </a:endParaRPr>
            </a:p>
          </p:txBody>
        </p:sp>
        <p:sp>
          <p:nvSpPr>
            <p:cNvPr id="163" name=""/>
            <p:cNvSpPr/>
            <p:nvPr/>
          </p:nvSpPr>
          <p:spPr>
            <a:xfrm>
              <a:off x="2356560" y="5589360"/>
              <a:ext cx="75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double</a:t>
              </a:r>
              <a:endParaRPr b="0" lang="en-US" sz="1800" spc="-1" strike="noStrike">
                <a:solidFill>
                  <a:srgbClr val="000000"/>
                </a:solidFill>
                <a:latin typeface="Times New Roman"/>
              </a:endParaRPr>
            </a:p>
          </p:txBody>
        </p:sp>
        <p:sp>
          <p:nvSpPr>
            <p:cNvPr id="164" name=""/>
            <p:cNvSpPr/>
            <p:nvPr/>
          </p:nvSpPr>
          <p:spPr>
            <a:xfrm>
              <a:off x="3141000" y="4221000"/>
              <a:ext cx="4032720" cy="1122480"/>
            </a:xfrm>
            <a:custGeom>
              <a:avLst/>
              <a:gdLst/>
              <a:ahLst/>
              <a:rect l="l" t="t" r="r" b="b"/>
              <a:pathLst>
                <a:path w="4878" h="1430">
                  <a:moveTo>
                    <a:pt x="0" y="714"/>
                  </a:moveTo>
                  <a:lnTo>
                    <a:pt x="13" y="629"/>
                  </a:lnTo>
                  <a:lnTo>
                    <a:pt x="54" y="548"/>
                  </a:lnTo>
                  <a:lnTo>
                    <a:pt x="119" y="473"/>
                  </a:lnTo>
                  <a:lnTo>
                    <a:pt x="209" y="403"/>
                  </a:lnTo>
                  <a:lnTo>
                    <a:pt x="448" y="280"/>
                  </a:lnTo>
                  <a:lnTo>
                    <a:pt x="761" y="179"/>
                  </a:lnTo>
                  <a:lnTo>
                    <a:pt x="1130" y="102"/>
                  </a:lnTo>
                  <a:lnTo>
                    <a:pt x="1541" y="46"/>
                  </a:lnTo>
                  <a:lnTo>
                    <a:pt x="1982" y="13"/>
                  </a:lnTo>
                  <a:lnTo>
                    <a:pt x="2438" y="0"/>
                  </a:lnTo>
                  <a:lnTo>
                    <a:pt x="2665" y="2"/>
                  </a:lnTo>
                  <a:lnTo>
                    <a:pt x="2891" y="11"/>
                  </a:lnTo>
                  <a:lnTo>
                    <a:pt x="3333" y="44"/>
                  </a:lnTo>
                  <a:lnTo>
                    <a:pt x="3744" y="100"/>
                  </a:lnTo>
                  <a:lnTo>
                    <a:pt x="4115" y="178"/>
                  </a:lnTo>
                  <a:lnTo>
                    <a:pt x="4425" y="277"/>
                  </a:lnTo>
                  <a:lnTo>
                    <a:pt x="4667" y="399"/>
                  </a:lnTo>
                  <a:lnTo>
                    <a:pt x="4754" y="468"/>
                  </a:lnTo>
                  <a:lnTo>
                    <a:pt x="4822" y="545"/>
                  </a:lnTo>
                  <a:lnTo>
                    <a:pt x="4863" y="625"/>
                  </a:lnTo>
                  <a:lnTo>
                    <a:pt x="4878" y="714"/>
                  </a:lnTo>
                  <a:lnTo>
                    <a:pt x="4865" y="799"/>
                  </a:lnTo>
                  <a:lnTo>
                    <a:pt x="4824" y="879"/>
                  </a:lnTo>
                  <a:lnTo>
                    <a:pt x="4759" y="955"/>
                  </a:lnTo>
                  <a:lnTo>
                    <a:pt x="4669" y="1025"/>
                  </a:lnTo>
                  <a:lnTo>
                    <a:pt x="4430" y="1148"/>
                  </a:lnTo>
                  <a:lnTo>
                    <a:pt x="4117" y="1249"/>
                  </a:lnTo>
                  <a:lnTo>
                    <a:pt x="3748" y="1326"/>
                  </a:lnTo>
                  <a:lnTo>
                    <a:pt x="3337" y="1384"/>
                  </a:lnTo>
                  <a:lnTo>
                    <a:pt x="2896" y="1417"/>
                  </a:lnTo>
                  <a:lnTo>
                    <a:pt x="2440" y="1430"/>
                  </a:lnTo>
                  <a:lnTo>
                    <a:pt x="1987" y="1419"/>
                  </a:lnTo>
                  <a:lnTo>
                    <a:pt x="1545" y="1387"/>
                  </a:lnTo>
                  <a:lnTo>
                    <a:pt x="1134" y="1331"/>
                  </a:lnTo>
                  <a:lnTo>
                    <a:pt x="763" y="1253"/>
                  </a:lnTo>
                  <a:lnTo>
                    <a:pt x="453" y="1152"/>
                  </a:lnTo>
                  <a:lnTo>
                    <a:pt x="211" y="1029"/>
                  </a:lnTo>
                  <a:lnTo>
                    <a:pt x="124" y="960"/>
                  </a:lnTo>
                  <a:lnTo>
                    <a:pt x="56" y="883"/>
                  </a:lnTo>
                  <a:lnTo>
                    <a:pt x="16" y="803"/>
                  </a:lnTo>
                  <a:lnTo>
                    <a:pt x="0" y="714"/>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12640" y="5201280"/>
              <a:ext cx="4095720" cy="1122480"/>
            </a:xfrm>
            <a:custGeom>
              <a:avLst/>
              <a:gdLst/>
              <a:ahLst/>
              <a:rect l="l" t="t" r="r" b="b"/>
              <a:pathLst>
                <a:path w="4916" h="1429">
                  <a:moveTo>
                    <a:pt x="0" y="713"/>
                  </a:moveTo>
                  <a:lnTo>
                    <a:pt x="13" y="628"/>
                  </a:lnTo>
                  <a:lnTo>
                    <a:pt x="54" y="548"/>
                  </a:lnTo>
                  <a:lnTo>
                    <a:pt x="119" y="472"/>
                  </a:lnTo>
                  <a:lnTo>
                    <a:pt x="210" y="402"/>
                  </a:lnTo>
                  <a:lnTo>
                    <a:pt x="319" y="339"/>
                  </a:lnTo>
                  <a:lnTo>
                    <a:pt x="451" y="279"/>
                  </a:lnTo>
                  <a:lnTo>
                    <a:pt x="766" y="178"/>
                  </a:lnTo>
                  <a:lnTo>
                    <a:pt x="1137" y="101"/>
                  </a:lnTo>
                  <a:lnTo>
                    <a:pt x="1553" y="45"/>
                  </a:lnTo>
                  <a:lnTo>
                    <a:pt x="1997" y="12"/>
                  </a:lnTo>
                  <a:lnTo>
                    <a:pt x="2457" y="0"/>
                  </a:lnTo>
                  <a:lnTo>
                    <a:pt x="2684" y="1"/>
                  </a:lnTo>
                  <a:lnTo>
                    <a:pt x="2913" y="10"/>
                  </a:lnTo>
                  <a:lnTo>
                    <a:pt x="3358" y="43"/>
                  </a:lnTo>
                  <a:lnTo>
                    <a:pt x="3772" y="99"/>
                  </a:lnTo>
                  <a:lnTo>
                    <a:pt x="4147" y="177"/>
                  </a:lnTo>
                  <a:lnTo>
                    <a:pt x="4460" y="276"/>
                  </a:lnTo>
                  <a:lnTo>
                    <a:pt x="4703" y="398"/>
                  </a:lnTo>
                  <a:lnTo>
                    <a:pt x="4792" y="467"/>
                  </a:lnTo>
                  <a:lnTo>
                    <a:pt x="4860" y="544"/>
                  </a:lnTo>
                  <a:lnTo>
                    <a:pt x="4901" y="625"/>
                  </a:lnTo>
                  <a:lnTo>
                    <a:pt x="4916" y="713"/>
                  </a:lnTo>
                  <a:lnTo>
                    <a:pt x="4903" y="798"/>
                  </a:lnTo>
                  <a:lnTo>
                    <a:pt x="4862" y="879"/>
                  </a:lnTo>
                  <a:lnTo>
                    <a:pt x="4797" y="954"/>
                  </a:lnTo>
                  <a:lnTo>
                    <a:pt x="4706" y="1024"/>
                  </a:lnTo>
                  <a:lnTo>
                    <a:pt x="4596" y="1087"/>
                  </a:lnTo>
                  <a:lnTo>
                    <a:pt x="4464" y="1147"/>
                  </a:lnTo>
                  <a:lnTo>
                    <a:pt x="4149" y="1248"/>
                  </a:lnTo>
                  <a:lnTo>
                    <a:pt x="3778" y="1325"/>
                  </a:lnTo>
                  <a:lnTo>
                    <a:pt x="3363" y="1383"/>
                  </a:lnTo>
                  <a:lnTo>
                    <a:pt x="2919" y="1416"/>
                  </a:lnTo>
                  <a:lnTo>
                    <a:pt x="2459" y="1429"/>
                  </a:lnTo>
                  <a:lnTo>
                    <a:pt x="2003" y="1418"/>
                  </a:lnTo>
                  <a:lnTo>
                    <a:pt x="1557" y="1386"/>
                  </a:lnTo>
                  <a:lnTo>
                    <a:pt x="1143" y="1330"/>
                  </a:lnTo>
                  <a:lnTo>
                    <a:pt x="769" y="1252"/>
                  </a:lnTo>
                  <a:lnTo>
                    <a:pt x="456" y="1151"/>
                  </a:lnTo>
                  <a:lnTo>
                    <a:pt x="212" y="1028"/>
                  </a:lnTo>
                  <a:lnTo>
                    <a:pt x="124" y="959"/>
                  </a:lnTo>
                  <a:lnTo>
                    <a:pt x="56" y="882"/>
                  </a:lnTo>
                  <a:lnTo>
                    <a:pt x="15" y="802"/>
                  </a:lnTo>
                  <a:lnTo>
                    <a:pt x="0" y="713"/>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12640" y="4296240"/>
              <a:ext cx="3640320" cy="610200"/>
            </a:xfrm>
            <a:prstGeom prst="rect">
              <a:avLst/>
            </a:prstGeom>
            <a:noFill/>
            <a:ln w="0">
              <a:noFill/>
            </a:ln>
          </p:spPr>
          <p:style>
            <a:lnRef idx="0"/>
            <a:fillRef idx="0"/>
            <a:effectRef idx="0"/>
            <a:fontRef idx="minor"/>
          </p:style>
          <p:txBody>
            <a:bodyPr lIns="61560" rIns="61560" tIns="30600" bIns="30600" anchor="t">
              <a:spAutoFit/>
            </a:bodyPr>
            <a:p>
              <a:pPr algn="ct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Tama</a:t>
              </a:r>
              <a:r>
                <a:rPr b="1" lang="es-PE" sz="1800" spc="-1" strike="noStrike">
                  <a:solidFill>
                    <a:srgbClr val="000000"/>
                  </a:solidFill>
                  <a:latin typeface="Arial"/>
                  <a:ea typeface="Arial"/>
                </a:rPr>
                <a:t>ñ</a:t>
              </a:r>
              <a:r>
                <a:rPr b="1" lang="en-US" sz="1800" spc="-1" strike="noStrike">
                  <a:solidFill>
                    <a:srgbClr val="000000"/>
                  </a:solidFill>
                  <a:latin typeface="Arial"/>
                  <a:ea typeface="Arial"/>
                </a:rPr>
                <a:t>o: 4 bytes</a:t>
              </a:r>
              <a:endParaRPr b="0" lang="en-US" sz="1800" spc="-1" strike="noStrike">
                <a:solidFill>
                  <a:srgbClr val="000000"/>
                </a:solidFill>
                <a:latin typeface="Times New Roman"/>
              </a:endParaRPr>
            </a:p>
            <a:p>
              <a:pPr algn="ct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 ±1.4 x</a:t>
              </a:r>
              <a:r>
                <a:rPr b="1" lang="en-US" sz="1800" spc="-1" strike="noStrike" baseline="30000">
                  <a:solidFill>
                    <a:srgbClr val="000000"/>
                  </a:solidFill>
                  <a:latin typeface="Arial"/>
                  <a:ea typeface="Arial"/>
                </a:rPr>
                <a:t> </a:t>
              </a:r>
              <a:r>
                <a:rPr b="1" lang="en-US" sz="1800" spc="-1" strike="noStrike">
                  <a:solidFill>
                    <a:srgbClr val="000000"/>
                  </a:solidFill>
                  <a:latin typeface="Arial"/>
                  <a:ea typeface="Arial"/>
                </a:rPr>
                <a:t>10</a:t>
              </a:r>
              <a:r>
                <a:rPr b="1" lang="en-US" sz="1800" spc="-1" strike="noStrike" baseline="30000">
                  <a:solidFill>
                    <a:srgbClr val="000000"/>
                  </a:solidFill>
                  <a:latin typeface="Arial"/>
                  <a:ea typeface="Arial"/>
                </a:rPr>
                <a:t>-45</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3.4 x 10</a:t>
              </a:r>
              <a:r>
                <a:rPr b="1" lang="en-US" sz="1800" spc="-1" strike="noStrike" baseline="30000">
                  <a:solidFill>
                    <a:srgbClr val="000000"/>
                  </a:solidFill>
                  <a:latin typeface="Arial"/>
                  <a:ea typeface="Arial"/>
                </a:rPr>
                <a:t>38</a:t>
              </a:r>
              <a:endParaRPr b="0" lang="en-US" sz="1800" spc="-1" strike="noStrike">
                <a:solidFill>
                  <a:srgbClr val="000000"/>
                </a:solidFill>
                <a:latin typeface="Times New Roman"/>
              </a:endParaRPr>
            </a:p>
          </p:txBody>
        </p:sp>
        <p:sp>
          <p:nvSpPr>
            <p:cNvPr id="167" name=""/>
            <p:cNvSpPr/>
            <p:nvPr/>
          </p:nvSpPr>
          <p:spPr>
            <a:xfrm>
              <a:off x="3425760" y="5426280"/>
              <a:ext cx="3640320" cy="610200"/>
            </a:xfrm>
            <a:prstGeom prst="rect">
              <a:avLst/>
            </a:prstGeom>
            <a:noFill/>
            <a:ln w="0">
              <a:noFill/>
            </a:ln>
          </p:spPr>
          <p:style>
            <a:lnRef idx="0"/>
            <a:fillRef idx="0"/>
            <a:effectRef idx="0"/>
            <a:fontRef idx="minor"/>
          </p:style>
          <p:txBody>
            <a:bodyPr lIns="61560" rIns="61560" tIns="30600" bIns="30600" anchor="t">
              <a:spAutoFit/>
            </a:bodyPr>
            <a:p>
              <a:pPr algn="ct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Tama</a:t>
              </a:r>
              <a:r>
                <a:rPr b="1" lang="es-PE" sz="1800" spc="-1" strike="noStrike">
                  <a:solidFill>
                    <a:srgbClr val="000000"/>
                  </a:solidFill>
                  <a:latin typeface="Arial"/>
                  <a:ea typeface="Arial"/>
                </a:rPr>
                <a:t>ñ</a:t>
              </a:r>
              <a:r>
                <a:rPr b="1" lang="en-US" sz="1800" spc="-1" strike="noStrike">
                  <a:solidFill>
                    <a:srgbClr val="000000"/>
                  </a:solidFill>
                  <a:latin typeface="Arial"/>
                  <a:ea typeface="Arial"/>
                </a:rPr>
                <a:t>o: 8 bytes</a:t>
              </a:r>
              <a:endParaRPr b="0" lang="en-US" sz="1800" spc="-1" strike="noStrike">
                <a:solidFill>
                  <a:srgbClr val="000000"/>
                </a:solidFill>
                <a:latin typeface="Times New Roman"/>
              </a:endParaRPr>
            </a:p>
            <a:p>
              <a:pPr algn="ct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Arial"/>
                </a:rPr>
                <a:t>Rango: ±4.9 x</a:t>
              </a:r>
              <a:r>
                <a:rPr b="1" lang="en-US" sz="1800" spc="-1" strike="noStrike" baseline="30000">
                  <a:solidFill>
                    <a:srgbClr val="000000"/>
                  </a:solidFill>
                  <a:latin typeface="Arial"/>
                  <a:ea typeface="Arial"/>
                </a:rPr>
                <a:t> </a:t>
              </a:r>
              <a:r>
                <a:rPr b="1" lang="en-US" sz="1800" spc="-1" strike="noStrike">
                  <a:solidFill>
                    <a:srgbClr val="000000"/>
                  </a:solidFill>
                  <a:latin typeface="Arial"/>
                  <a:ea typeface="Arial"/>
                </a:rPr>
                <a:t>10</a:t>
              </a:r>
              <a:r>
                <a:rPr b="1" lang="en-US" sz="1800" spc="-1" strike="noStrike" baseline="30000">
                  <a:solidFill>
                    <a:srgbClr val="000000"/>
                  </a:solidFill>
                  <a:latin typeface="Arial"/>
                  <a:ea typeface="Arial"/>
                </a:rPr>
                <a:t>-324</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1.8 x 10</a:t>
              </a:r>
              <a:r>
                <a:rPr b="1" lang="en-US" sz="1800" spc="-1" strike="noStrike" baseline="30000">
                  <a:solidFill>
                    <a:srgbClr val="000000"/>
                  </a:solidFill>
                  <a:latin typeface="Arial"/>
                  <a:ea typeface="Arial"/>
                </a:rPr>
                <a:t>308</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68"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 Caracter</a:t>
            </a:r>
            <a:endParaRPr b="0" lang="en-US" sz="3600" spc="-1" strike="noStrike">
              <a:solidFill>
                <a:srgbClr val="000000"/>
              </a:solidFill>
              <a:latin typeface="Times New Roman"/>
            </a:endParaRPr>
          </a:p>
        </p:txBody>
      </p:sp>
      <p:sp>
        <p:nvSpPr>
          <p:cNvPr id="170" name=""/>
          <p:cNvSpPr/>
          <p:nvPr/>
        </p:nvSpPr>
        <p:spPr>
          <a:xfrm>
            <a:off x="609480" y="1143000"/>
            <a:ext cx="7925040" cy="563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Cualquier carácter sin sign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e inician en cero (/u0000)</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lgunas teclas pueden ser simuladas con una secuencia escape:</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b</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retroceso</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f</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form feed</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n</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nueva línea</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r</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retorno de carro</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t</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tabulador</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lgunos caracteres pueden necesitar secuencia escape cuando se usan en literales String</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comillas</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apostrofe</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backslash</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531000" y="6308640"/>
            <a:ext cx="314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n-US" sz="1400" spc="-1" strike="noStrike">
                <a:solidFill>
                  <a:srgbClr val="000000"/>
                </a:solidFill>
                <a:latin typeface="Arial"/>
              </a:rPr>
              <a:t>Cuales es el rango del código ASCII?</a:t>
            </a:r>
            <a:endParaRPr b="0" lang="en-US" sz="1400" spc="-1" strike="noStrike">
              <a:solidFill>
                <a:srgbClr val="000000"/>
              </a:solidFill>
              <a:latin typeface="Times New Roman"/>
            </a:endParaRPr>
          </a:p>
        </p:txBody>
      </p:sp>
      <p:grpSp>
        <p:nvGrpSpPr>
          <p:cNvPr id="172" name=""/>
          <p:cNvGrpSpPr/>
          <p:nvPr/>
        </p:nvGrpSpPr>
        <p:grpSpPr>
          <a:xfrm>
            <a:off x="3780000" y="2565360"/>
            <a:ext cx="4679280" cy="1554120"/>
            <a:chOff x="3780000" y="2565360"/>
            <a:chExt cx="4679280" cy="1554120"/>
          </a:xfrm>
        </p:grpSpPr>
        <p:sp>
          <p:nvSpPr>
            <p:cNvPr id="173" name=""/>
            <p:cNvSpPr/>
            <p:nvPr/>
          </p:nvSpPr>
          <p:spPr>
            <a:xfrm>
              <a:off x="3829320" y="2643120"/>
              <a:ext cx="819360" cy="1476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780000" y="2565360"/>
              <a:ext cx="809280" cy="146448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80000" y="2565360"/>
              <a:ext cx="809280" cy="146448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8520" y="31546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char</a:t>
              </a:r>
              <a:endParaRPr b="0" lang="en-US" sz="1800" spc="-1" strike="noStrike">
                <a:solidFill>
                  <a:srgbClr val="000000"/>
                </a:solidFill>
                <a:latin typeface="Times New Roman"/>
              </a:endParaRPr>
            </a:p>
          </p:txBody>
        </p:sp>
        <p:sp>
          <p:nvSpPr>
            <p:cNvPr id="177" name=""/>
            <p:cNvSpPr/>
            <p:nvPr/>
          </p:nvSpPr>
          <p:spPr>
            <a:xfrm>
              <a:off x="4418640" y="2858760"/>
              <a:ext cx="4040640" cy="996480"/>
            </a:xfrm>
            <a:custGeom>
              <a:avLst/>
              <a:gdLst/>
              <a:ahLst/>
              <a:rect l="l" t="t" r="r" b="b"/>
              <a:pathLst>
                <a:path w="6093" h="974">
                  <a:moveTo>
                    <a:pt x="0" y="487"/>
                  </a:moveTo>
                  <a:lnTo>
                    <a:pt x="16" y="429"/>
                  </a:lnTo>
                  <a:lnTo>
                    <a:pt x="68" y="375"/>
                  </a:lnTo>
                  <a:lnTo>
                    <a:pt x="148" y="323"/>
                  </a:lnTo>
                  <a:lnTo>
                    <a:pt x="261" y="274"/>
                  </a:lnTo>
                  <a:lnTo>
                    <a:pt x="561" y="193"/>
                  </a:lnTo>
                  <a:lnTo>
                    <a:pt x="952" y="123"/>
                  </a:lnTo>
                  <a:lnTo>
                    <a:pt x="1412" y="70"/>
                  </a:lnTo>
                  <a:lnTo>
                    <a:pt x="1927" y="32"/>
                  </a:lnTo>
                  <a:lnTo>
                    <a:pt x="2478" y="10"/>
                  </a:lnTo>
                  <a:lnTo>
                    <a:pt x="3047" y="0"/>
                  </a:lnTo>
                  <a:lnTo>
                    <a:pt x="3330" y="2"/>
                  </a:lnTo>
                  <a:lnTo>
                    <a:pt x="3614" y="7"/>
                  </a:lnTo>
                  <a:lnTo>
                    <a:pt x="4164" y="30"/>
                  </a:lnTo>
                  <a:lnTo>
                    <a:pt x="4678" y="67"/>
                  </a:lnTo>
                  <a:lnTo>
                    <a:pt x="5141" y="121"/>
                  </a:lnTo>
                  <a:lnTo>
                    <a:pt x="5530" y="188"/>
                  </a:lnTo>
                  <a:lnTo>
                    <a:pt x="5830" y="272"/>
                  </a:lnTo>
                  <a:lnTo>
                    <a:pt x="5940" y="319"/>
                  </a:lnTo>
                  <a:lnTo>
                    <a:pt x="6023" y="371"/>
                  </a:lnTo>
                  <a:lnTo>
                    <a:pt x="6074" y="426"/>
                  </a:lnTo>
                  <a:lnTo>
                    <a:pt x="6093" y="487"/>
                  </a:lnTo>
                  <a:lnTo>
                    <a:pt x="6077" y="544"/>
                  </a:lnTo>
                  <a:lnTo>
                    <a:pt x="6025" y="599"/>
                  </a:lnTo>
                  <a:lnTo>
                    <a:pt x="5945" y="650"/>
                  </a:lnTo>
                  <a:lnTo>
                    <a:pt x="5833" y="699"/>
                  </a:lnTo>
                  <a:lnTo>
                    <a:pt x="5532" y="782"/>
                  </a:lnTo>
                  <a:lnTo>
                    <a:pt x="5141" y="851"/>
                  </a:lnTo>
                  <a:lnTo>
                    <a:pt x="4681" y="904"/>
                  </a:lnTo>
                  <a:lnTo>
                    <a:pt x="4166" y="942"/>
                  </a:lnTo>
                  <a:lnTo>
                    <a:pt x="3615" y="965"/>
                  </a:lnTo>
                  <a:lnTo>
                    <a:pt x="3047" y="974"/>
                  </a:lnTo>
                  <a:lnTo>
                    <a:pt x="1929" y="945"/>
                  </a:lnTo>
                  <a:lnTo>
                    <a:pt x="1415" y="907"/>
                  </a:lnTo>
                  <a:lnTo>
                    <a:pt x="952" y="854"/>
                  </a:lnTo>
                  <a:lnTo>
                    <a:pt x="563" y="786"/>
                  </a:lnTo>
                  <a:lnTo>
                    <a:pt x="263" y="702"/>
                  </a:lnTo>
                  <a:lnTo>
                    <a:pt x="153" y="656"/>
                  </a:lnTo>
                  <a:lnTo>
                    <a:pt x="70" y="602"/>
                  </a:lnTo>
                  <a:lnTo>
                    <a:pt x="19" y="547"/>
                  </a:lnTo>
                  <a:lnTo>
                    <a:pt x="0" y="487"/>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76240" y="3012840"/>
              <a:ext cx="101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Tamaño: </a:t>
              </a:r>
              <a:endParaRPr b="0" lang="en-US" sz="1800" spc="-1" strike="noStrike">
                <a:solidFill>
                  <a:srgbClr val="000000"/>
                </a:solidFill>
                <a:latin typeface="Times New Roman"/>
              </a:endParaRPr>
            </a:p>
          </p:txBody>
        </p:sp>
        <p:sp>
          <p:nvSpPr>
            <p:cNvPr id="179" name=""/>
            <p:cNvSpPr/>
            <p:nvPr/>
          </p:nvSpPr>
          <p:spPr>
            <a:xfrm>
              <a:off x="6091560" y="301284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2 bytes</a:t>
              </a:r>
              <a:endParaRPr b="0" lang="en-US" sz="1800" spc="-1" strike="noStrike">
                <a:solidFill>
                  <a:srgbClr val="000000"/>
                </a:solidFill>
                <a:latin typeface="Times New Roman"/>
              </a:endParaRPr>
            </a:p>
          </p:txBody>
        </p:sp>
        <p:sp>
          <p:nvSpPr>
            <p:cNvPr id="180" name=""/>
            <p:cNvSpPr/>
            <p:nvPr/>
          </p:nvSpPr>
          <p:spPr>
            <a:xfrm>
              <a:off x="5376240" y="335412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Rango:</a:t>
              </a:r>
              <a:endParaRPr b="0" lang="en-US" sz="1800" spc="-1" strike="noStrike">
                <a:solidFill>
                  <a:srgbClr val="000000"/>
                </a:solidFill>
                <a:latin typeface="Times New Roman"/>
              </a:endParaRPr>
            </a:p>
          </p:txBody>
        </p:sp>
        <p:sp>
          <p:nvSpPr>
            <p:cNvPr id="181" name=""/>
            <p:cNvSpPr/>
            <p:nvPr/>
          </p:nvSpPr>
          <p:spPr>
            <a:xfrm>
              <a:off x="6091200" y="3354120"/>
              <a:ext cx="77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u0000 </a:t>
              </a:r>
              <a:endParaRPr b="0" lang="en-US" sz="1800" spc="-1" strike="noStrike">
                <a:solidFill>
                  <a:srgbClr val="000000"/>
                </a:solidFill>
                <a:latin typeface="Times New Roman"/>
              </a:endParaRPr>
            </a:p>
          </p:txBody>
        </p:sp>
        <p:sp>
          <p:nvSpPr>
            <p:cNvPr id="182" name=""/>
            <p:cNvSpPr/>
            <p:nvPr/>
          </p:nvSpPr>
          <p:spPr>
            <a:xfrm>
              <a:off x="6672240" y="3412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è</a:t>
              </a:r>
              <a:endParaRPr b="0" lang="en-US" sz="1800" spc="-1" strike="noStrike">
                <a:solidFill>
                  <a:srgbClr val="000000"/>
                </a:solidFill>
                <a:latin typeface="Times New Roman"/>
              </a:endParaRPr>
            </a:p>
          </p:txBody>
        </p:sp>
        <p:sp>
          <p:nvSpPr>
            <p:cNvPr id="183" name=""/>
            <p:cNvSpPr/>
            <p:nvPr/>
          </p:nvSpPr>
          <p:spPr>
            <a:xfrm>
              <a:off x="6903720" y="3354120"/>
              <a:ext cx="76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uFFFF</a:t>
              </a:r>
              <a:endParaRPr b="0" lang="en-US" sz="1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84"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Boleano</a:t>
            </a:r>
            <a:endParaRPr b="0" lang="en-US" sz="3600" spc="-1" strike="noStrike">
              <a:solidFill>
                <a:srgbClr val="000000"/>
              </a:solidFill>
              <a:latin typeface="Times New Roman"/>
            </a:endParaRPr>
          </a:p>
        </p:txBody>
      </p:sp>
      <p:sp>
        <p:nvSpPr>
          <p:cNvPr id="186" name=""/>
          <p:cNvSpPr/>
          <p:nvPr/>
        </p:nvSpPr>
        <p:spPr>
          <a:xfrm>
            <a:off x="609480" y="1143000"/>
            <a:ext cx="7925040" cy="17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Almacena un valor logic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olo puede tener valor false o true</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e inicia por defecto en false</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n int no puede ser operado con un boolean</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
          <p:cNvSpPr/>
          <p:nvPr/>
        </p:nvSpPr>
        <p:spPr>
          <a:xfrm>
            <a:off x="672120" y="595008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s-ES" sz="1400" spc="-1" strike="noStrike">
                <a:solidFill>
                  <a:srgbClr val="000000"/>
                </a:solidFill>
                <a:latin typeface="Arial"/>
              </a:rPr>
              <a:t>Basta un byte para almacenar un boolean?</a:t>
            </a:r>
            <a:endParaRPr b="0" lang="en-US" sz="1400" spc="-1" strike="noStrike">
              <a:solidFill>
                <a:srgbClr val="000000"/>
              </a:solidFill>
              <a:latin typeface="Times New Roman"/>
            </a:endParaRPr>
          </a:p>
        </p:txBody>
      </p:sp>
      <p:grpSp>
        <p:nvGrpSpPr>
          <p:cNvPr id="188" name=""/>
          <p:cNvGrpSpPr/>
          <p:nvPr/>
        </p:nvGrpSpPr>
        <p:grpSpPr>
          <a:xfrm>
            <a:off x="1692360" y="3429000"/>
            <a:ext cx="5958720" cy="1450080"/>
            <a:chOff x="1692360" y="3429000"/>
            <a:chExt cx="5958720" cy="1450080"/>
          </a:xfrm>
        </p:grpSpPr>
        <p:sp>
          <p:nvSpPr>
            <p:cNvPr id="189" name=""/>
            <p:cNvSpPr/>
            <p:nvPr/>
          </p:nvSpPr>
          <p:spPr>
            <a:xfrm>
              <a:off x="1760040" y="3860280"/>
              <a:ext cx="1504800" cy="1000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92360" y="3715920"/>
              <a:ext cx="1489680" cy="100080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941120" y="4003200"/>
              <a:ext cx="87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boolean</a:t>
              </a:r>
              <a:endParaRPr b="0" lang="en-US" sz="1800" spc="-1" strike="noStrike">
                <a:solidFill>
                  <a:srgbClr val="000000"/>
                </a:solidFill>
                <a:latin typeface="Times New Roman"/>
              </a:endParaRPr>
            </a:p>
          </p:txBody>
        </p:sp>
        <p:sp>
          <p:nvSpPr>
            <p:cNvPr id="192" name=""/>
            <p:cNvSpPr/>
            <p:nvPr/>
          </p:nvSpPr>
          <p:spPr>
            <a:xfrm>
              <a:off x="3098880" y="3429000"/>
              <a:ext cx="4552200" cy="1450080"/>
            </a:xfrm>
            <a:custGeom>
              <a:avLst/>
              <a:gdLst/>
              <a:ahLst/>
              <a:rect l="l" t="t" r="r" b="b"/>
              <a:pathLst>
                <a:path w="6093" h="974">
                  <a:moveTo>
                    <a:pt x="0" y="487"/>
                  </a:moveTo>
                  <a:lnTo>
                    <a:pt x="16" y="429"/>
                  </a:lnTo>
                  <a:lnTo>
                    <a:pt x="68" y="375"/>
                  </a:lnTo>
                  <a:lnTo>
                    <a:pt x="148" y="323"/>
                  </a:lnTo>
                  <a:lnTo>
                    <a:pt x="261" y="274"/>
                  </a:lnTo>
                  <a:lnTo>
                    <a:pt x="561" y="193"/>
                  </a:lnTo>
                  <a:lnTo>
                    <a:pt x="952" y="123"/>
                  </a:lnTo>
                  <a:lnTo>
                    <a:pt x="1412" y="70"/>
                  </a:lnTo>
                  <a:lnTo>
                    <a:pt x="1927" y="32"/>
                  </a:lnTo>
                  <a:lnTo>
                    <a:pt x="2478" y="10"/>
                  </a:lnTo>
                  <a:lnTo>
                    <a:pt x="3047" y="0"/>
                  </a:lnTo>
                  <a:lnTo>
                    <a:pt x="3330" y="2"/>
                  </a:lnTo>
                  <a:lnTo>
                    <a:pt x="3614" y="7"/>
                  </a:lnTo>
                  <a:lnTo>
                    <a:pt x="4164" y="30"/>
                  </a:lnTo>
                  <a:lnTo>
                    <a:pt x="4678" y="67"/>
                  </a:lnTo>
                  <a:lnTo>
                    <a:pt x="5141" y="121"/>
                  </a:lnTo>
                  <a:lnTo>
                    <a:pt x="5530" y="188"/>
                  </a:lnTo>
                  <a:lnTo>
                    <a:pt x="5830" y="272"/>
                  </a:lnTo>
                  <a:lnTo>
                    <a:pt x="5940" y="319"/>
                  </a:lnTo>
                  <a:lnTo>
                    <a:pt x="6023" y="371"/>
                  </a:lnTo>
                  <a:lnTo>
                    <a:pt x="6074" y="426"/>
                  </a:lnTo>
                  <a:lnTo>
                    <a:pt x="6093" y="487"/>
                  </a:lnTo>
                  <a:lnTo>
                    <a:pt x="6077" y="544"/>
                  </a:lnTo>
                  <a:lnTo>
                    <a:pt x="6025" y="599"/>
                  </a:lnTo>
                  <a:lnTo>
                    <a:pt x="5945" y="650"/>
                  </a:lnTo>
                  <a:lnTo>
                    <a:pt x="5833" y="699"/>
                  </a:lnTo>
                  <a:lnTo>
                    <a:pt x="5532" y="782"/>
                  </a:lnTo>
                  <a:lnTo>
                    <a:pt x="5141" y="851"/>
                  </a:lnTo>
                  <a:lnTo>
                    <a:pt x="4681" y="904"/>
                  </a:lnTo>
                  <a:lnTo>
                    <a:pt x="4166" y="942"/>
                  </a:lnTo>
                  <a:lnTo>
                    <a:pt x="3615" y="965"/>
                  </a:lnTo>
                  <a:lnTo>
                    <a:pt x="3047" y="974"/>
                  </a:lnTo>
                  <a:lnTo>
                    <a:pt x="1929" y="945"/>
                  </a:lnTo>
                  <a:lnTo>
                    <a:pt x="1415" y="907"/>
                  </a:lnTo>
                  <a:lnTo>
                    <a:pt x="952" y="854"/>
                  </a:lnTo>
                  <a:lnTo>
                    <a:pt x="563" y="786"/>
                  </a:lnTo>
                  <a:lnTo>
                    <a:pt x="263" y="702"/>
                  </a:lnTo>
                  <a:lnTo>
                    <a:pt x="153" y="656"/>
                  </a:lnTo>
                  <a:lnTo>
                    <a:pt x="70" y="602"/>
                  </a:lnTo>
                  <a:lnTo>
                    <a:pt x="19" y="547"/>
                  </a:lnTo>
                  <a:lnTo>
                    <a:pt x="0" y="487"/>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930480" y="3654720"/>
              <a:ext cx="101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Tamaño: </a:t>
              </a:r>
              <a:endParaRPr b="0" lang="en-US" sz="1800" spc="-1" strike="noStrike">
                <a:solidFill>
                  <a:srgbClr val="000000"/>
                </a:solidFill>
                <a:latin typeface="Times New Roman"/>
              </a:endParaRPr>
            </a:p>
          </p:txBody>
        </p:sp>
        <p:sp>
          <p:nvSpPr>
            <p:cNvPr id="194" name=""/>
            <p:cNvSpPr/>
            <p:nvPr/>
          </p:nvSpPr>
          <p:spPr>
            <a:xfrm>
              <a:off x="4858560" y="365472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1 byte</a:t>
              </a:r>
              <a:endParaRPr b="0" lang="en-US" sz="1800" spc="-1" strike="noStrike">
                <a:solidFill>
                  <a:srgbClr val="000000"/>
                </a:solidFill>
                <a:latin typeface="Times New Roman"/>
              </a:endParaRPr>
            </a:p>
          </p:txBody>
        </p:sp>
        <p:sp>
          <p:nvSpPr>
            <p:cNvPr id="195" name=""/>
            <p:cNvSpPr/>
            <p:nvPr/>
          </p:nvSpPr>
          <p:spPr>
            <a:xfrm>
              <a:off x="3930120" y="415152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Rango:</a:t>
              </a:r>
              <a:endParaRPr b="0" lang="en-US" sz="1800" spc="-1" strike="noStrike">
                <a:solidFill>
                  <a:srgbClr val="000000"/>
                </a:solidFill>
                <a:latin typeface="Times New Roman"/>
              </a:endParaRPr>
            </a:p>
          </p:txBody>
        </p:sp>
        <p:sp>
          <p:nvSpPr>
            <p:cNvPr id="196" name=""/>
            <p:cNvSpPr/>
            <p:nvPr/>
          </p:nvSpPr>
          <p:spPr>
            <a:xfrm>
              <a:off x="4858560" y="415152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true | false</a:t>
              </a:r>
              <a:endParaRPr b="0" lang="en-US" sz="18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97"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Boleano</a:t>
            </a:r>
            <a:endParaRPr b="0" lang="en-US" sz="3600" spc="-1" strike="noStrike">
              <a:solidFill>
                <a:srgbClr val="000000"/>
              </a:solidFill>
              <a:latin typeface="Times New Roman"/>
            </a:endParaRPr>
          </a:p>
        </p:txBody>
      </p:sp>
      <p:sp>
        <p:nvSpPr>
          <p:cNvPr id="199" name=""/>
          <p:cNvSpPr/>
          <p:nvPr/>
        </p:nvSpPr>
        <p:spPr>
          <a:xfrm>
            <a:off x="609480" y="1143000"/>
            <a:ext cx="7925040" cy="17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Almacena un valor logico</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olo puede tener valor false o true</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e inicia por defecto en false</a:t>
            </a:r>
            <a:endParaRPr b="0" lang="en-US" sz="2000" spc="-1" strike="noStrike">
              <a:solidFill>
                <a:srgbClr val="000000"/>
              </a:solidFill>
              <a:latin typeface="Times New Roman"/>
            </a:endParaRPr>
          </a:p>
          <a:p>
            <a:pPr marL="457200" indent="-457200" algn="just">
              <a:lnSpc>
                <a:spcPct val="7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n int no puede ser operado con un boolean</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
          <p:cNvSpPr/>
          <p:nvPr/>
        </p:nvSpPr>
        <p:spPr>
          <a:xfrm>
            <a:off x="672120" y="595008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s-ES" sz="1400" spc="-1" strike="noStrike">
                <a:solidFill>
                  <a:srgbClr val="000000"/>
                </a:solidFill>
                <a:latin typeface="Arial"/>
              </a:rPr>
              <a:t>Basta un byte para almacenar un boolean?</a:t>
            </a:r>
            <a:endParaRPr b="0" lang="en-US" sz="1400" spc="-1" strike="noStrike">
              <a:solidFill>
                <a:srgbClr val="000000"/>
              </a:solidFill>
              <a:latin typeface="Times New Roman"/>
            </a:endParaRPr>
          </a:p>
        </p:txBody>
      </p:sp>
      <p:grpSp>
        <p:nvGrpSpPr>
          <p:cNvPr id="201" name=""/>
          <p:cNvGrpSpPr/>
          <p:nvPr/>
        </p:nvGrpSpPr>
        <p:grpSpPr>
          <a:xfrm>
            <a:off x="1692360" y="3429000"/>
            <a:ext cx="5958720" cy="1450080"/>
            <a:chOff x="1692360" y="3429000"/>
            <a:chExt cx="5958720" cy="1450080"/>
          </a:xfrm>
        </p:grpSpPr>
        <p:sp>
          <p:nvSpPr>
            <p:cNvPr id="202" name=""/>
            <p:cNvSpPr/>
            <p:nvPr/>
          </p:nvSpPr>
          <p:spPr>
            <a:xfrm>
              <a:off x="1760040" y="3860280"/>
              <a:ext cx="1504800" cy="1000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92360" y="3715920"/>
              <a:ext cx="1489680" cy="1000800"/>
            </a:xfrm>
            <a:prstGeom prst="rect">
              <a:avLst/>
            </a:prstGeom>
            <a:solidFill>
              <a:srgbClr val="bcffb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941120" y="4003200"/>
              <a:ext cx="87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boolean</a:t>
              </a:r>
              <a:endParaRPr b="0" lang="en-US" sz="1800" spc="-1" strike="noStrike">
                <a:solidFill>
                  <a:srgbClr val="000000"/>
                </a:solidFill>
                <a:latin typeface="Times New Roman"/>
              </a:endParaRPr>
            </a:p>
          </p:txBody>
        </p:sp>
        <p:sp>
          <p:nvSpPr>
            <p:cNvPr id="205" name=""/>
            <p:cNvSpPr/>
            <p:nvPr/>
          </p:nvSpPr>
          <p:spPr>
            <a:xfrm>
              <a:off x="3098880" y="3429000"/>
              <a:ext cx="4552200" cy="1450080"/>
            </a:xfrm>
            <a:custGeom>
              <a:avLst/>
              <a:gdLst/>
              <a:ahLst/>
              <a:rect l="l" t="t" r="r" b="b"/>
              <a:pathLst>
                <a:path w="6093" h="974">
                  <a:moveTo>
                    <a:pt x="0" y="487"/>
                  </a:moveTo>
                  <a:lnTo>
                    <a:pt x="16" y="429"/>
                  </a:lnTo>
                  <a:lnTo>
                    <a:pt x="68" y="375"/>
                  </a:lnTo>
                  <a:lnTo>
                    <a:pt x="148" y="323"/>
                  </a:lnTo>
                  <a:lnTo>
                    <a:pt x="261" y="274"/>
                  </a:lnTo>
                  <a:lnTo>
                    <a:pt x="561" y="193"/>
                  </a:lnTo>
                  <a:lnTo>
                    <a:pt x="952" y="123"/>
                  </a:lnTo>
                  <a:lnTo>
                    <a:pt x="1412" y="70"/>
                  </a:lnTo>
                  <a:lnTo>
                    <a:pt x="1927" y="32"/>
                  </a:lnTo>
                  <a:lnTo>
                    <a:pt x="2478" y="10"/>
                  </a:lnTo>
                  <a:lnTo>
                    <a:pt x="3047" y="0"/>
                  </a:lnTo>
                  <a:lnTo>
                    <a:pt x="3330" y="2"/>
                  </a:lnTo>
                  <a:lnTo>
                    <a:pt x="3614" y="7"/>
                  </a:lnTo>
                  <a:lnTo>
                    <a:pt x="4164" y="30"/>
                  </a:lnTo>
                  <a:lnTo>
                    <a:pt x="4678" y="67"/>
                  </a:lnTo>
                  <a:lnTo>
                    <a:pt x="5141" y="121"/>
                  </a:lnTo>
                  <a:lnTo>
                    <a:pt x="5530" y="188"/>
                  </a:lnTo>
                  <a:lnTo>
                    <a:pt x="5830" y="272"/>
                  </a:lnTo>
                  <a:lnTo>
                    <a:pt x="5940" y="319"/>
                  </a:lnTo>
                  <a:lnTo>
                    <a:pt x="6023" y="371"/>
                  </a:lnTo>
                  <a:lnTo>
                    <a:pt x="6074" y="426"/>
                  </a:lnTo>
                  <a:lnTo>
                    <a:pt x="6093" y="487"/>
                  </a:lnTo>
                  <a:lnTo>
                    <a:pt x="6077" y="544"/>
                  </a:lnTo>
                  <a:lnTo>
                    <a:pt x="6025" y="599"/>
                  </a:lnTo>
                  <a:lnTo>
                    <a:pt x="5945" y="650"/>
                  </a:lnTo>
                  <a:lnTo>
                    <a:pt x="5833" y="699"/>
                  </a:lnTo>
                  <a:lnTo>
                    <a:pt x="5532" y="782"/>
                  </a:lnTo>
                  <a:lnTo>
                    <a:pt x="5141" y="851"/>
                  </a:lnTo>
                  <a:lnTo>
                    <a:pt x="4681" y="904"/>
                  </a:lnTo>
                  <a:lnTo>
                    <a:pt x="4166" y="942"/>
                  </a:lnTo>
                  <a:lnTo>
                    <a:pt x="3615" y="965"/>
                  </a:lnTo>
                  <a:lnTo>
                    <a:pt x="3047" y="974"/>
                  </a:lnTo>
                  <a:lnTo>
                    <a:pt x="1929" y="945"/>
                  </a:lnTo>
                  <a:lnTo>
                    <a:pt x="1415" y="907"/>
                  </a:lnTo>
                  <a:lnTo>
                    <a:pt x="952" y="854"/>
                  </a:lnTo>
                  <a:lnTo>
                    <a:pt x="563" y="786"/>
                  </a:lnTo>
                  <a:lnTo>
                    <a:pt x="263" y="702"/>
                  </a:lnTo>
                  <a:lnTo>
                    <a:pt x="153" y="656"/>
                  </a:lnTo>
                  <a:lnTo>
                    <a:pt x="70" y="602"/>
                  </a:lnTo>
                  <a:lnTo>
                    <a:pt x="19" y="547"/>
                  </a:lnTo>
                  <a:lnTo>
                    <a:pt x="0" y="487"/>
                  </a:lnTo>
                  <a:close/>
                </a:path>
              </a:pathLst>
            </a:custGeom>
            <a:solidFill>
              <a:srgbClr val="bcffb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930480" y="3654720"/>
              <a:ext cx="101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Tamaño: </a:t>
              </a:r>
              <a:endParaRPr b="0" lang="en-US" sz="1800" spc="-1" strike="noStrike">
                <a:solidFill>
                  <a:srgbClr val="000000"/>
                </a:solidFill>
                <a:latin typeface="Times New Roman"/>
              </a:endParaRPr>
            </a:p>
          </p:txBody>
        </p:sp>
        <p:sp>
          <p:nvSpPr>
            <p:cNvPr id="207" name=""/>
            <p:cNvSpPr/>
            <p:nvPr/>
          </p:nvSpPr>
          <p:spPr>
            <a:xfrm>
              <a:off x="4858560" y="365472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1 byte</a:t>
              </a:r>
              <a:endParaRPr b="0" lang="en-US" sz="1800" spc="-1" strike="noStrike">
                <a:solidFill>
                  <a:srgbClr val="000000"/>
                </a:solidFill>
                <a:latin typeface="Times New Roman"/>
              </a:endParaRPr>
            </a:p>
          </p:txBody>
        </p:sp>
        <p:sp>
          <p:nvSpPr>
            <p:cNvPr id="208" name=""/>
            <p:cNvSpPr/>
            <p:nvPr/>
          </p:nvSpPr>
          <p:spPr>
            <a:xfrm>
              <a:off x="3930120" y="415152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rPr>
                <a:t>Rango:</a:t>
              </a:r>
              <a:endParaRPr b="0" lang="en-US" sz="1800" spc="-1" strike="noStrike">
                <a:solidFill>
                  <a:srgbClr val="000000"/>
                </a:solidFill>
                <a:latin typeface="Times New Roman"/>
              </a:endParaRPr>
            </a:p>
          </p:txBody>
        </p:sp>
        <p:sp>
          <p:nvSpPr>
            <p:cNvPr id="209" name=""/>
            <p:cNvSpPr/>
            <p:nvPr/>
          </p:nvSpPr>
          <p:spPr>
            <a:xfrm>
              <a:off x="4858560" y="415152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1800" spc="-1" strike="noStrike">
                  <a:solidFill>
                    <a:srgbClr val="000000"/>
                  </a:solidFill>
                  <a:latin typeface="Arial"/>
                  <a:ea typeface="Courier New"/>
                </a:rPr>
                <a:t>true | false</a:t>
              </a:r>
              <a:endParaRPr b="0" lang="en-US" sz="18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10"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57200" y="115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Declaración de Variables </a:t>
            </a:r>
            <a:endParaRPr b="0" lang="en-US" sz="3600" spc="-1" strike="noStrike">
              <a:solidFill>
                <a:srgbClr val="000000"/>
              </a:solidFill>
              <a:latin typeface="Times New Roman"/>
            </a:endParaRPr>
          </a:p>
        </p:txBody>
      </p:sp>
      <p:sp>
        <p:nvSpPr>
          <p:cNvPr id="212" name=""/>
          <p:cNvSpPr/>
          <p:nvPr/>
        </p:nvSpPr>
        <p:spPr>
          <a:xfrm>
            <a:off x="468360" y="895320"/>
            <a:ext cx="792000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 La forma </a:t>
            </a:r>
            <a:r>
              <a:rPr b="0" lang="es-ES" sz="2000" spc="-1" strike="noStrike">
                <a:solidFill>
                  <a:srgbClr val="000000"/>
                </a:solidFill>
                <a:latin typeface="Arial"/>
                <a:ea typeface="Times New Roman"/>
              </a:rPr>
              <a:t>básica de declarar variables 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tipo  identificador = valo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2. Las variables de instancia se pueden usar en cualquier lugar de la clas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3. Las variables locales se pueden usar solo en el ámbito donde son declara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public class Variable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Variables instanci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public static int peliculasAlquilados = 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Variables locale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double tasaDeInteres = 0.15;</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int    peliculasEnStock = 50;</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int    numeroDeDias = 3;</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char   categoriaDePelicula = '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peliculasAlquilad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tasaDeInter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peliculasEnStoc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numeroDeDia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System.out.println(categoriaDePelicul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	</a:t>
            </a:r>
            <a:r>
              <a:rPr b="1" lang="es-E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13"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 de asignación</a:t>
            </a:r>
            <a:endParaRPr b="0" lang="en-US" sz="3600" spc="-1" strike="noStrike">
              <a:solidFill>
                <a:srgbClr val="000000"/>
              </a:solidFill>
              <a:latin typeface="Times New Roman"/>
            </a:endParaRPr>
          </a:p>
        </p:txBody>
      </p:sp>
      <p:sp>
        <p:nvSpPr>
          <p:cNvPr id="215" name=""/>
          <p:cNvSpPr/>
          <p:nvPr/>
        </p:nvSpPr>
        <p:spPr>
          <a:xfrm>
            <a:off x="609480" y="1143000"/>
            <a:ext cx="7925040" cy="4876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La expresión de la derecha se asigna a la variable de la izquierd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La expresión de la derecha se evalúa antes de la asignación.</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 costo = 0, total = 0;</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osto = 50;</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total = costo + 10;</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total = total + 5;</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 var1 = 0,  var2 = 0;</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var1 = var2 = total = 50;</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16"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peradores aritméticos</a:t>
            </a:r>
            <a:endParaRPr b="0" lang="en-US" sz="3600" spc="-1" strike="noStrike">
              <a:solidFill>
                <a:srgbClr val="000000"/>
              </a:solidFill>
              <a:latin typeface="Times New Roman"/>
            </a:endParaRPr>
          </a:p>
        </p:txBody>
      </p:sp>
      <p:sp>
        <p:nvSpPr>
          <p:cNvPr id="218" name=""/>
          <p:cNvSpPr/>
          <p:nvPr/>
        </p:nvSpPr>
        <p:spPr>
          <a:xfrm>
            <a:off x="611280" y="1197000"/>
            <a:ext cx="7921440" cy="496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Realizan las operaciones aritméticas básic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Trabajan sobre variables numéric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nt a, b, c, 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 = 2 + 2;   // adi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b = a * 3;   // multiplic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c = b - 2;   // substrac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d = b / 2;   // div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e = b % 2;   // resto de la division (mod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 = a – 1;</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Los datos byte, char y short se convierten en int después de una oper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un operando es long, el otro se convierte en long y la respuesta será lo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byte b1 = 1, b2 = 2, b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b3 = b1 + b2  // error el resultado es entero</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1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Incremento y Decremento</a:t>
            </a:r>
            <a:endParaRPr b="0" lang="en-US" sz="3600" spc="-1" strike="noStrike">
              <a:solidFill>
                <a:srgbClr val="000000"/>
              </a:solidFill>
              <a:latin typeface="Times New Roman"/>
            </a:endParaRPr>
          </a:p>
        </p:txBody>
      </p:sp>
      <p:sp>
        <p:nvSpPr>
          <p:cNvPr id="221" name=""/>
          <p:cNvSpPr/>
          <p:nvPr/>
        </p:nvSpPr>
        <p:spPr>
          <a:xfrm>
            <a:off x="324000" y="1125360"/>
            <a:ext cx="8424720" cy="4402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El operador   ++  incrementa en 1 la variable que acompaña.</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El operador    - -  decrementa en 1 la variable que acompaña.</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var1 = 3;</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1 ++;</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var1 = 3, var2 = 0;</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2 = ++var1; //Se incrementa var1 luego se asigna a var2;</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2 = var1++; //Se asigna a var2 luego se incrementa var2;</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nota = 17, pendientes = 10;</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nota++;       // es idéntico a  nota = nota + 1;</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pendientes--; // es idéntico a  pendientes = pendientes - 1;</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2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de Comparación</a:t>
            </a:r>
            <a:endParaRPr b="0" lang="en-US" sz="3600" spc="-1" strike="noStrike">
              <a:solidFill>
                <a:srgbClr val="000000"/>
              </a:solidFill>
              <a:latin typeface="Times New Roman"/>
            </a:endParaRPr>
          </a:p>
        </p:txBody>
      </p:sp>
      <p:sp>
        <p:nvSpPr>
          <p:cNvPr id="224" name=""/>
          <p:cNvSpPr/>
          <p:nvPr/>
        </p:nvSpPr>
        <p:spPr>
          <a:xfrm>
            <a:off x="324000" y="1125360"/>
            <a:ext cx="8424720" cy="5260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Son relaciones de igualdad y desigualdad.</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Se debe diferenciar el operador de comparación con el operador de asignación</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boolean valor;</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a = 1, b = 2, c = 3, d = 4, e = 3;</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b &gt; a;     // mayor que</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b &gt;= a;    // mayor igual que</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c &lt; d;     // menor que</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c &lt;= d;    // menor igual que</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a != d;    // diferente qu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lor = c == e;    // igual qu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nivelBuenCredito = 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nivelCreditoClient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boolean esBuenCredito = fals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esBuenCredito = (nivelCreditoCliente == nivelBuenCredito);</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9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racterísticas de Java</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97" name=""/>
          <p:cNvSpPr/>
          <p:nvPr/>
        </p:nvSpPr>
        <p:spPr>
          <a:xfrm>
            <a:off x="539640" y="981000"/>
            <a:ext cx="7925040" cy="5066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mple: Reduce en un 50% los errores más comunes de programación en lenguajes como C y C++ al eliminar aritmética de punteros, referencias, necesidad de liberar memori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Robusto: Java realiza verificaciones en busca de problemas tanto en tiempo de compilación como en tiempo de ejecución.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rquitectura neutral: El código compilado tiene un formato independiente de la arquitectura de la máquina en que se ejecutará.</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eguro: No usa punteros para prevenir el acceso ilegal a la memori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terpretado: Requiere un runtime (JRE) para ser ejecutado, lo que lo hace 10 veces mas lento que un programa C compilado.</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Orientado a objetos: Soporta las tres características propias del paradigma de la orientación a objetos: encapsulamiento, herencia y polimorfismo</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stribuido: Se ha construido con extensas capacidades de interconexión TCP/IP, presenta librerías con protocolos http y ftp para obtener información a través de la red.</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2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Lógicos</a:t>
            </a:r>
            <a:endParaRPr b="0" lang="en-US" sz="3600" spc="-1" strike="noStrike">
              <a:solidFill>
                <a:srgbClr val="000000"/>
              </a:solidFill>
              <a:latin typeface="Times New Roman"/>
            </a:endParaRPr>
          </a:p>
        </p:txBody>
      </p:sp>
      <p:sp>
        <p:nvSpPr>
          <p:cNvPr id="227" name=""/>
          <p:cNvSpPr/>
          <p:nvPr/>
        </p:nvSpPr>
        <p:spPr>
          <a:xfrm>
            <a:off x="324000" y="1125360"/>
            <a:ext cx="8424720" cy="3398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Los resultados de las operaciones de comparación pueden combinarse con operadores lógico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boolean valor;</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 a = 1, b = 2, c = 3;</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valor =  (b &gt; a) || (a &gt; b) ; // operación logica OR</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valor =  (b &gt; a) &amp;&amp; (c &gt; b);  // operación logica AND</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valor = !(a &gt; b);             // operación logica NO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8" name="" descr=""/>
          <p:cNvPicPr/>
          <p:nvPr/>
        </p:nvPicPr>
        <p:blipFill>
          <a:blip r:embed="rId1"/>
          <a:stretch/>
        </p:blipFill>
        <p:spPr>
          <a:xfrm>
            <a:off x="0" y="4437000"/>
            <a:ext cx="8748720" cy="1647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2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Compuestos</a:t>
            </a:r>
            <a:endParaRPr b="0" lang="en-US" sz="3600" spc="-1" strike="noStrike">
              <a:solidFill>
                <a:srgbClr val="000000"/>
              </a:solidFill>
              <a:latin typeface="Times New Roman"/>
            </a:endParaRPr>
          </a:p>
        </p:txBody>
      </p:sp>
      <p:sp>
        <p:nvSpPr>
          <p:cNvPr id="231" name=""/>
          <p:cNvSpPr/>
          <p:nvPr/>
        </p:nvSpPr>
        <p:spPr>
          <a:xfrm>
            <a:off x="324000" y="1125360"/>
            <a:ext cx="8424720" cy="5402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1. La operación de asignación puede combinarse con operadores aritméticos como + y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nt total = 0, cantidad = 10;</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cantidad;              // asignación con incremento</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3;                     // asignación con decremento</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2;                     // asignación con multiplicación</a:t>
            </a:r>
            <a:endParaRPr b="0" lang="en-US" sz="16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nt diasDeAlquiler;</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diasDeAlquiler = diasDeAlquiler + 3;</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diasDeAlquiler += 3;</a:t>
            </a:r>
            <a:endParaRPr b="0" lang="en-US" sz="16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ouble total = 0, num = 1;</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ouble porcentaje = 0.50;</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total + num;</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num;</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num;</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total *= porcentaje;</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3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dores con Cadenas.</a:t>
            </a:r>
            <a:endParaRPr b="0" lang="en-US" sz="3600" spc="-1" strike="noStrike">
              <a:solidFill>
                <a:srgbClr val="000000"/>
              </a:solidFill>
              <a:latin typeface="Times New Roman"/>
            </a:endParaRPr>
          </a:p>
        </p:txBody>
      </p:sp>
      <p:sp>
        <p:nvSpPr>
          <p:cNvPr id="234" name=""/>
          <p:cNvSpPr/>
          <p:nvPr/>
        </p:nvSpPr>
        <p:spPr>
          <a:xfrm>
            <a:off x="324000" y="1125360"/>
            <a:ext cx="8424720" cy="396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A la colección de caracteres se les llama cadena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Los datos de tipo String almacenan cadena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El operador + tambien puede encadenar dos datos de tipo String.</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String nombre = "Isaac";</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String apellido = "Asimov";</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String nombreCompleto = nombre + apellid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String letras = "Hola, soy una cadena";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har letrita = 'c';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3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asting</a:t>
            </a:r>
            <a:endParaRPr b="0" lang="en-US" sz="3600" spc="-1" strike="noStrike">
              <a:solidFill>
                <a:srgbClr val="000000"/>
              </a:solidFill>
              <a:latin typeface="Times New Roman"/>
            </a:endParaRPr>
          </a:p>
        </p:txBody>
      </p:sp>
      <p:sp>
        <p:nvSpPr>
          <p:cNvPr id="237" name=""/>
          <p:cNvSpPr/>
          <p:nvPr/>
        </p:nvSpPr>
        <p:spPr>
          <a:xfrm>
            <a:off x="324000" y="1125360"/>
            <a:ext cx="8424720" cy="187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casting crea un nuevo valor que permite ser tratado como un tipo diferente al original</a:t>
            </a:r>
            <a:endParaRPr b="0" lang="en-US" sz="2000" spc="-1" strike="noStrike">
              <a:solidFill>
                <a:srgbClr val="000000"/>
              </a:solidFill>
              <a:latin typeface="Times New Roman"/>
            </a:endParaRPr>
          </a:p>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Java implícitamente puede convertir desde un tipo mas restringido a un tipo mas amplio</a:t>
            </a:r>
            <a:endParaRPr b="0" lang="en-US" sz="2000" spc="-1" strike="noStrike">
              <a:solidFill>
                <a:srgbClr val="000000"/>
              </a:solidFill>
              <a:latin typeface="Times New Roman"/>
            </a:endParaRPr>
          </a:p>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cambiar a un tipo de menor tamaño se debe realizar cast explícitamente.</a:t>
            </a:r>
            <a:endParaRPr b="0" lang="en-US" sz="2000" spc="-1" strike="noStrike">
              <a:solidFill>
                <a:srgbClr val="000000"/>
              </a:solidFill>
              <a:latin typeface="Times New Roman"/>
            </a:endParaRPr>
          </a:p>
        </p:txBody>
      </p:sp>
      <p:sp>
        <p:nvSpPr>
          <p:cNvPr id="238" name=""/>
          <p:cNvSpPr/>
          <p:nvPr/>
        </p:nvSpPr>
        <p:spPr>
          <a:xfrm>
            <a:off x="678240" y="6093000"/>
            <a:ext cx="20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n-US" sz="1400" spc="-1" strike="noStrike">
                <a:solidFill>
                  <a:srgbClr val="000000"/>
                </a:solidFill>
                <a:latin typeface="Arial"/>
              </a:rPr>
              <a:t>Por que el error al final?</a:t>
            </a:r>
            <a:endParaRPr b="0" lang="en-US" sz="1400" spc="-1" strike="noStrike">
              <a:solidFill>
                <a:srgbClr val="000000"/>
              </a:solidFill>
              <a:latin typeface="Times New Roman"/>
            </a:endParaRPr>
          </a:p>
        </p:txBody>
      </p:sp>
      <p:grpSp>
        <p:nvGrpSpPr>
          <p:cNvPr id="239" name=""/>
          <p:cNvGrpSpPr/>
          <p:nvPr/>
        </p:nvGrpSpPr>
        <p:grpSpPr>
          <a:xfrm>
            <a:off x="1053360" y="3727080"/>
            <a:ext cx="7095240" cy="1851120"/>
            <a:chOff x="1053360" y="3727080"/>
            <a:chExt cx="7095240" cy="1851120"/>
          </a:xfrm>
        </p:grpSpPr>
        <p:sp>
          <p:nvSpPr>
            <p:cNvPr id="240" name=""/>
            <p:cNvSpPr/>
            <p:nvPr/>
          </p:nvSpPr>
          <p:spPr>
            <a:xfrm>
              <a:off x="1110240" y="4192200"/>
              <a:ext cx="1998720" cy="1260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053360" y="4131000"/>
              <a:ext cx="1990080" cy="125172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053360" y="4131000"/>
              <a:ext cx="1990080" cy="125172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230840" y="431388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int a, b;</a:t>
              </a:r>
              <a:endParaRPr b="0" lang="en-US" sz="1800" spc="-1" strike="noStrike">
                <a:solidFill>
                  <a:srgbClr val="000000"/>
                </a:solidFill>
                <a:latin typeface="Times New Roman"/>
              </a:endParaRPr>
            </a:p>
          </p:txBody>
        </p:sp>
        <p:sp>
          <p:nvSpPr>
            <p:cNvPr id="244" name=""/>
            <p:cNvSpPr/>
            <p:nvPr/>
          </p:nvSpPr>
          <p:spPr>
            <a:xfrm>
              <a:off x="1231920" y="456192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short c;</a:t>
              </a:r>
              <a:endParaRPr b="0" lang="en-US" sz="1800" spc="-1" strike="noStrike">
                <a:solidFill>
                  <a:srgbClr val="000000"/>
                </a:solidFill>
                <a:latin typeface="Times New Roman"/>
              </a:endParaRPr>
            </a:p>
          </p:txBody>
        </p:sp>
        <p:sp>
          <p:nvSpPr>
            <p:cNvPr id="245" name=""/>
            <p:cNvSpPr/>
            <p:nvPr/>
          </p:nvSpPr>
          <p:spPr>
            <a:xfrm>
              <a:off x="1231200" y="480492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a = b + c;</a:t>
              </a:r>
              <a:endParaRPr b="0" lang="en-US" sz="1800" spc="-1" strike="noStrike">
                <a:solidFill>
                  <a:srgbClr val="000000"/>
                </a:solidFill>
                <a:latin typeface="Times New Roman"/>
              </a:endParaRPr>
            </a:p>
          </p:txBody>
        </p:sp>
        <p:sp>
          <p:nvSpPr>
            <p:cNvPr id="246" name=""/>
            <p:cNvSpPr/>
            <p:nvPr/>
          </p:nvSpPr>
          <p:spPr>
            <a:xfrm>
              <a:off x="3377520" y="3933360"/>
              <a:ext cx="2163240" cy="1434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320640" y="3872880"/>
              <a:ext cx="2154960" cy="142560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20640" y="3872880"/>
              <a:ext cx="2154960" cy="142560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511800" y="40813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int d;</a:t>
              </a:r>
              <a:endParaRPr b="0" lang="en-US" sz="1800" spc="-1" strike="noStrike">
                <a:solidFill>
                  <a:srgbClr val="000000"/>
                </a:solidFill>
                <a:latin typeface="Times New Roman"/>
              </a:endParaRPr>
            </a:p>
          </p:txBody>
        </p:sp>
        <p:sp>
          <p:nvSpPr>
            <p:cNvPr id="250" name=""/>
            <p:cNvSpPr/>
            <p:nvPr/>
          </p:nvSpPr>
          <p:spPr>
            <a:xfrm>
              <a:off x="3511800" y="432936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short e;</a:t>
              </a:r>
              <a:endParaRPr b="0" lang="en-US" sz="1800" spc="-1" strike="noStrike">
                <a:solidFill>
                  <a:srgbClr val="000000"/>
                </a:solidFill>
                <a:latin typeface="Times New Roman"/>
              </a:endParaRPr>
            </a:p>
          </p:txBody>
        </p:sp>
        <p:sp>
          <p:nvSpPr>
            <p:cNvPr id="251" name=""/>
            <p:cNvSpPr/>
            <p:nvPr/>
          </p:nvSpPr>
          <p:spPr>
            <a:xfrm>
              <a:off x="3510360" y="4574520"/>
              <a:ext cx="178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e = (short)d;</a:t>
              </a:r>
              <a:endParaRPr b="0" lang="en-US" sz="1800" spc="-1" strike="noStrike">
                <a:solidFill>
                  <a:srgbClr val="000000"/>
                </a:solidFill>
                <a:latin typeface="Times New Roman"/>
              </a:endParaRPr>
            </a:p>
          </p:txBody>
        </p:sp>
        <p:sp>
          <p:nvSpPr>
            <p:cNvPr id="252" name=""/>
            <p:cNvSpPr/>
            <p:nvPr/>
          </p:nvSpPr>
          <p:spPr>
            <a:xfrm>
              <a:off x="5803200" y="3787920"/>
              <a:ext cx="2345400" cy="179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745960" y="3727080"/>
              <a:ext cx="2336760" cy="178200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745960" y="3727080"/>
              <a:ext cx="2336760" cy="1782000"/>
            </a:xfrm>
            <a:prstGeom prst="rect">
              <a:avLst/>
            </a:prstGeom>
            <a:solidFill>
              <a:srgbClr val="ffcf9b"/>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53320" y="398772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double f;</a:t>
              </a:r>
              <a:endParaRPr b="0" lang="en-US" sz="1800" spc="-1" strike="noStrike">
                <a:solidFill>
                  <a:srgbClr val="000000"/>
                </a:solidFill>
                <a:latin typeface="Times New Roman"/>
              </a:endParaRPr>
            </a:p>
          </p:txBody>
        </p:sp>
        <p:sp>
          <p:nvSpPr>
            <p:cNvPr id="256" name=""/>
            <p:cNvSpPr/>
            <p:nvPr/>
          </p:nvSpPr>
          <p:spPr>
            <a:xfrm>
              <a:off x="5954400" y="423540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long g;</a:t>
              </a:r>
              <a:endParaRPr b="0" lang="en-US" sz="1800" spc="-1" strike="noStrike">
                <a:solidFill>
                  <a:srgbClr val="000000"/>
                </a:solidFill>
                <a:latin typeface="Times New Roman"/>
              </a:endParaRPr>
            </a:p>
          </p:txBody>
        </p:sp>
        <p:sp>
          <p:nvSpPr>
            <p:cNvPr id="257" name=""/>
            <p:cNvSpPr/>
            <p:nvPr/>
          </p:nvSpPr>
          <p:spPr>
            <a:xfrm>
              <a:off x="5955480" y="4479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f = g;</a:t>
              </a:r>
              <a:endParaRPr b="0" lang="en-US" sz="1800" spc="-1" strike="noStrike">
                <a:solidFill>
                  <a:srgbClr val="000000"/>
                </a:solidFill>
                <a:latin typeface="Times New Roman"/>
              </a:endParaRPr>
            </a:p>
          </p:txBody>
        </p:sp>
        <p:sp>
          <p:nvSpPr>
            <p:cNvPr id="258" name=""/>
            <p:cNvSpPr/>
            <p:nvPr/>
          </p:nvSpPr>
          <p:spPr>
            <a:xfrm>
              <a:off x="5952960" y="472680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lang="en-US" sz="1800" spc="-1" strike="noStrike">
                  <a:solidFill>
                    <a:srgbClr val="000000"/>
                  </a:solidFill>
                  <a:latin typeface="Courier New"/>
                  <a:ea typeface="Courier New"/>
                </a:rPr>
                <a:t>g = f; //error</a:t>
              </a:r>
              <a:endParaRPr b="0" lang="en-US" sz="18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5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asting Implícito vs. Explicito</a:t>
            </a:r>
            <a:endParaRPr b="0" lang="en-US" sz="3600" spc="-1" strike="noStrike">
              <a:solidFill>
                <a:srgbClr val="000000"/>
              </a:solidFill>
              <a:latin typeface="Times New Roman"/>
            </a:endParaRPr>
          </a:p>
        </p:txBody>
      </p:sp>
      <p:sp>
        <p:nvSpPr>
          <p:cNvPr id="261" name=""/>
          <p:cNvSpPr/>
          <p:nvPr/>
        </p:nvSpPr>
        <p:spPr>
          <a:xfrm>
            <a:off x="324000" y="1125360"/>
            <a:ext cx="8424720" cy="16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casting implícito es automático cuando no hay perdida de información.</a:t>
            </a:r>
            <a:endParaRPr b="0" lang="en-US" sz="2000" spc="-1" strike="noStrike">
              <a:solidFill>
                <a:srgbClr val="000000"/>
              </a:solidFill>
              <a:latin typeface="Times New Roman"/>
            </a:endParaRPr>
          </a:p>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 posible asignar  byte -&gt; short </a:t>
            </a:r>
            <a:r>
              <a:rPr b="0" lang="es-ES" sz="2000" spc="-1" strike="noStrike">
                <a:solidFill>
                  <a:srgbClr val="000000"/>
                </a:solidFill>
                <a:latin typeface="Arial"/>
              </a:rPr>
              <a:t>-&gt;</a:t>
            </a:r>
            <a:r>
              <a:rPr b="0" lang="es-ES" sz="2000" spc="-1" strike="noStrike">
                <a:solidFill>
                  <a:srgbClr val="000000"/>
                </a:solidFill>
                <a:latin typeface="Arial"/>
                <a:ea typeface="Times New Roman"/>
              </a:rPr>
              <a:t> int </a:t>
            </a:r>
            <a:r>
              <a:rPr b="0" lang="es-ES" sz="2000" spc="-1" strike="noStrike">
                <a:solidFill>
                  <a:srgbClr val="000000"/>
                </a:solidFill>
                <a:latin typeface="Arial"/>
              </a:rPr>
              <a:t>-&gt;</a:t>
            </a:r>
            <a:r>
              <a:rPr b="0" lang="es-ES" sz="2000" spc="-1" strike="noStrike">
                <a:solidFill>
                  <a:srgbClr val="000000"/>
                </a:solidFill>
                <a:latin typeface="Arial"/>
                <a:ea typeface="Times New Roman"/>
              </a:rPr>
              <a:t> long </a:t>
            </a:r>
            <a:r>
              <a:rPr b="0" lang="es-ES" sz="2000" spc="-1" strike="noStrike">
                <a:solidFill>
                  <a:srgbClr val="000000"/>
                </a:solidFill>
                <a:latin typeface="Arial"/>
              </a:rPr>
              <a:t>-&gt;</a:t>
            </a:r>
            <a:r>
              <a:rPr b="0" lang="es-ES" sz="2000" spc="-1" strike="noStrike">
                <a:solidFill>
                  <a:srgbClr val="000000"/>
                </a:solidFill>
                <a:latin typeface="Arial"/>
                <a:ea typeface="Times New Roman"/>
              </a:rPr>
              <a:t> float </a:t>
            </a:r>
            <a:r>
              <a:rPr b="0" lang="es-ES" sz="2000" spc="-1" strike="noStrike">
                <a:solidFill>
                  <a:srgbClr val="000000"/>
                </a:solidFill>
                <a:latin typeface="Arial"/>
              </a:rPr>
              <a:t>-&gt;</a:t>
            </a:r>
            <a:r>
              <a:rPr b="0" lang="es-ES" sz="2000" spc="-1" strike="noStrike">
                <a:solidFill>
                  <a:srgbClr val="000000"/>
                </a:solidFill>
                <a:latin typeface="Arial"/>
                <a:ea typeface="Times New Roman"/>
              </a:rPr>
              <a:t> double</a:t>
            </a:r>
            <a:endParaRPr b="0" lang="en-US" sz="2000" spc="-1" strike="noStrike">
              <a:solidFill>
                <a:srgbClr val="000000"/>
              </a:solidFill>
              <a:latin typeface="Times New Roman"/>
            </a:endParaRPr>
          </a:p>
          <a:p>
            <a:pPr marL="457200" indent="-457200">
              <a:lnSpc>
                <a:spcPct val="8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e requiere casting explicito cuando existe una "potencial" perdida de exactitud.</a:t>
            </a:r>
            <a:endParaRPr b="0" lang="en-US" sz="2000" spc="-1" strike="noStrike">
              <a:solidFill>
                <a:srgbClr val="000000"/>
              </a:solidFill>
              <a:latin typeface="Times New Roman"/>
            </a:endParaRPr>
          </a:p>
        </p:txBody>
      </p:sp>
      <p:sp>
        <p:nvSpPr>
          <p:cNvPr id="262" name=""/>
          <p:cNvSpPr/>
          <p:nvPr/>
        </p:nvSpPr>
        <p:spPr>
          <a:xfrm>
            <a:off x="462960" y="609300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0" i="1" lang="en-US" sz="1400" spc="-1" strike="noStrike">
                <a:solidFill>
                  <a:srgbClr val="000000"/>
                </a:solidFill>
                <a:latin typeface="Arial"/>
              </a:rPr>
              <a:t>Cual es el error aquí?</a:t>
            </a:r>
            <a:endParaRPr b="0" lang="en-US" sz="1400" spc="-1" strike="noStrike">
              <a:solidFill>
                <a:srgbClr val="000000"/>
              </a:solidFill>
              <a:latin typeface="Times New Roman"/>
            </a:endParaRPr>
          </a:p>
        </p:txBody>
      </p:sp>
      <p:sp>
        <p:nvSpPr>
          <p:cNvPr id="263" name=""/>
          <p:cNvSpPr/>
          <p:nvPr/>
        </p:nvSpPr>
        <p:spPr>
          <a:xfrm>
            <a:off x="826920" y="3213000"/>
            <a:ext cx="7488360" cy="24130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p = (long) 12345.56;   // p == 12345</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g = p;</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signacion ilegal aunque u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t puede tener 12345</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har c = ‘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j = c;   // promocion automatica</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k = c;   // error, perdida de precis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k = (short) c;   // cast explicit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 = 12.35;   // cual es el error aqui?</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64"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cedencia de operadores</a:t>
            </a:r>
            <a:endParaRPr b="0" lang="en-US" sz="3600" spc="-1" strike="noStrike">
              <a:solidFill>
                <a:srgbClr val="000000"/>
              </a:solidFill>
              <a:latin typeface="Times New Roman"/>
            </a:endParaRPr>
          </a:p>
        </p:txBody>
      </p:sp>
      <p:sp>
        <p:nvSpPr>
          <p:cNvPr id="266" name=""/>
          <p:cNvSpPr/>
          <p:nvPr/>
        </p:nvSpPr>
        <p:spPr>
          <a:xfrm>
            <a:off x="324000" y="1125360"/>
            <a:ext cx="8424720" cy="539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operadores sufijo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expr++ </a:t>
            </a:r>
            <a:r>
              <a:rPr b="0" lang="es-PE" sz="1800" spc="-1" strike="noStrike">
                <a:solidFill>
                  <a:srgbClr val="000000"/>
                </a:solidFill>
                <a:latin typeface="Courier New"/>
                <a:ea typeface="Times New Roman"/>
              </a:rPr>
              <a:t>  </a:t>
            </a:r>
            <a:r>
              <a:rPr b="0" lang="es-PE" sz="1800" spc="-1" strike="noStrike">
                <a:solidFill>
                  <a:srgbClr val="000000"/>
                </a:solidFill>
                <a:latin typeface="Arial"/>
                <a:ea typeface="Times New Roman"/>
              </a:rPr>
              <a:t>expr--</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operadores unarios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expr   -expr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multiplicadores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suma/resta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relacionales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lt;   &gt;   &lt;=   &gt;=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igualdad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AND lógico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amp;&amp;</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OR lógico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condicional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asignación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a:t>
            </a:r>
            <a:r>
              <a:rPr b="0" lang="es-PE" sz="1800" spc="-1" strike="noStrike">
                <a:solidFill>
                  <a:srgbClr val="000000"/>
                </a:solidFill>
                <a:latin typeface="Arial"/>
                <a:ea typeface="Times New Roman"/>
              </a:rPr>
              <a:t>=   +=   -=   *=   /=   %=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Determina el orden en el cual se ejecutan los operadores</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Operadores con la misma precedencia se realizan de izquierda a derecha</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Usa el paréntesis para cambiar este orden.</a:t>
            </a:r>
            <a:br>
              <a:rPr sz="1800"/>
            </a:br>
            <a:endParaRPr b="0" lang="en-US" sz="1800" spc="-1" strike="noStrike">
              <a:solidFill>
                <a:srgbClr val="000000"/>
              </a:solidFill>
              <a:latin typeface="Times New Roman"/>
            </a:endParaRPr>
          </a:p>
          <a:p>
            <a:pPr marL="457200" indent="-457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var1 = 0;</a:t>
            </a:r>
            <a:endParaRPr b="0" lang="en-US" sz="1800" spc="-1" strike="noStrike">
              <a:solidFill>
                <a:srgbClr val="000000"/>
              </a:solidFill>
              <a:latin typeface="Times New Roman"/>
            </a:endParaRPr>
          </a:p>
          <a:p>
            <a:pPr marL="457200" indent="-457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1 = 2 + 3 * 4;</a:t>
            </a:r>
            <a:endParaRPr b="0" lang="en-US" sz="1800" spc="-1" strike="noStrike">
              <a:solidFill>
                <a:srgbClr val="000000"/>
              </a:solidFill>
              <a:latin typeface="Times New Roman"/>
            </a:endParaRPr>
          </a:p>
          <a:p>
            <a:pPr marL="457200" indent="-457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var1 = 12 – 6 + 3;</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67"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Ejercicio 1</a:t>
            </a:r>
            <a:endParaRPr b="0" lang="en-US" sz="3600" spc="-1" strike="noStrike">
              <a:solidFill>
                <a:srgbClr val="000000"/>
              </a:solidFill>
              <a:latin typeface="Times New Roman"/>
            </a:endParaRPr>
          </a:p>
        </p:txBody>
      </p:sp>
      <p:sp>
        <p:nvSpPr>
          <p:cNvPr id="269" name=""/>
          <p:cNvSpPr/>
          <p:nvPr/>
        </p:nvSpPr>
        <p:spPr>
          <a:xfrm>
            <a:off x="324000" y="907920"/>
            <a:ext cx="8424720" cy="56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ncuentre los errores en el siguiente códig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nt class = 20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hort texto = 4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3.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hort hola mun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4.</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nt boolean3 = boolean + boolean + boolean;</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5.</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long almuerzo = entrada + sopa + segundo  // falta postr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6.</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double viejo = 78.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7.</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doble nuevo = 0.1;</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8.</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boolean consecuezia = tru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9.</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boolean maximo = 7 &gt; 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0.</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char calle = "Via expresa";</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1.</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char rio = 'N';</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2.</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boolean causa = 7;</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3.</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boolean igualdad = "tru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4.</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double precio = S/.20.5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5.</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int uno = 3;</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6.</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long cinco = uno + uno + un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17.</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boolean comparacion = cinco &gt; uno;</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70"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oques en Java</a:t>
            </a:r>
            <a:endParaRPr b="0" lang="en-US" sz="3600" spc="-1" strike="noStrike">
              <a:solidFill>
                <a:srgbClr val="000000"/>
              </a:solidFill>
              <a:latin typeface="Times New Roman"/>
            </a:endParaRPr>
          </a:p>
        </p:txBody>
      </p:sp>
      <p:sp>
        <p:nvSpPr>
          <p:cNvPr id="272" name=""/>
          <p:cNvSpPr/>
          <p:nvPr/>
        </p:nvSpPr>
        <p:spPr>
          <a:xfrm>
            <a:off x="324000" y="1125360"/>
            <a:ext cx="8424720" cy="541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código se ejecuta secuencialmente por defecto</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n conjunto de sentencias requieren de llaves { } para agruparse como un bloque.</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bloque entre llaves { } se conoce también como sentencia compuesta.</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na sentencia simple es una expresión que termina con punto y coma.</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Courier New"/>
                <a:ea typeface="Times New Roman"/>
              </a:rPr>
              <a:t>var1  +=  var2++  +  4;</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Cada bloque se ejecuta como una única sentencia dentro del flujo.</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 i = 0;</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boolean termino = true;</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System.out.println("i = " + i);</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   </a:t>
            </a:r>
            <a:r>
              <a:rPr b="1" lang="es-PE" sz="2000" spc="-1" strike="noStrike">
                <a:solidFill>
                  <a:srgbClr val="000000"/>
                </a:solidFill>
                <a:latin typeface="Courier New"/>
                <a:ea typeface="Times New Roman"/>
              </a:rPr>
              <a:t>i++;</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73"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79280" y="-2700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 ELSE</a:t>
            </a:r>
            <a:endParaRPr b="0" lang="en-US" sz="3600" spc="-1" strike="noStrike">
              <a:solidFill>
                <a:srgbClr val="000000"/>
              </a:solidFill>
              <a:latin typeface="Times New Roman"/>
            </a:endParaRPr>
          </a:p>
        </p:txBody>
      </p:sp>
      <p:sp>
        <p:nvSpPr>
          <p:cNvPr id="275" name=""/>
          <p:cNvSpPr/>
          <p:nvPr/>
        </p:nvSpPr>
        <p:spPr>
          <a:xfrm>
            <a:off x="324000" y="736560"/>
            <a:ext cx="8424720" cy="580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ea typeface="Times New Roman"/>
              </a:rPr>
              <a:t>Esta sentencia provee una selección de procesos básico. Una expresión boleana controla que sentencia se ejecutara.</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ea typeface="Times New Roman"/>
              </a:rPr>
              <a:t>Si la expresión es true, se realizara la primera expresión es false se realizara la segunda.</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ea typeface="Times New Roman"/>
              </a:rPr>
              <a:t>La cláusula else es opcional.</a:t>
            </a:r>
            <a:endParaRPr b="0" lang="en-US" sz="1600" spc="-1" strike="noStrike">
              <a:solidFill>
                <a:srgbClr val="000000"/>
              </a:solidFill>
              <a:latin typeface="Times New Roman"/>
            </a:endParaRPr>
          </a:p>
          <a:p>
            <a:pPr marL="457200" indent="-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if ( i % 2 == 0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ystem.out.println("Es par");</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lse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ystem.out.println("Es impar");</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f  (diasDeAlquilerTranscurridos &gt; diasAlquilerContratados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Primero pagar moras por alquiler");</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else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Puede alquilar nuevas peliculas");</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ea typeface="Times New Roman"/>
              </a:rPr>
              <a:t>if ( numero &gt; 0 ) {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El numero es positivo");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Unicode MS"/>
                <a:ea typeface="Times New Roman"/>
              </a:rPr>
              <a:t>}</a:t>
            </a:r>
            <a:r>
              <a:rPr b="1" lang="es-PE"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if (mes &lt;= 7) </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El impuesto es 18%");</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else</a:t>
            </a:r>
            <a:endParaRPr b="0" lang="en-US" sz="1600" spc="-1" strike="noStrike">
              <a:solidFill>
                <a:srgbClr val="000000"/>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El impuesto es 19%");</a:t>
            </a:r>
            <a:endParaRPr b="0" lang="en-US" sz="1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76"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79280" y="115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anidados</a:t>
            </a:r>
            <a:endParaRPr b="0" lang="en-US" sz="3600" spc="-1" strike="noStrike">
              <a:solidFill>
                <a:srgbClr val="000000"/>
              </a:solidFill>
              <a:latin typeface="Times New Roman"/>
            </a:endParaRPr>
          </a:p>
        </p:txBody>
      </p:sp>
      <p:sp>
        <p:nvSpPr>
          <p:cNvPr id="278" name=""/>
          <p:cNvSpPr/>
          <p:nvPr/>
        </p:nvSpPr>
        <p:spPr>
          <a:xfrm>
            <a:off x="324000" y="762120"/>
            <a:ext cx="8424720" cy="617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Cuando se requieren muchas condiciones, se pueden anidar sentencias IF. </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Debe tener cuidado en el correcto uso de la sentencia ELSE</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ste enfoque es utilizado poco, ya que se crea un código algo complicado de entender</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f  (velocidad &gt;= 3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if (velocidad &gt; 10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Vamos muy rapi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els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Llegaremos a tiemp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els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Que lento vamos");</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f  (velocidad &gt;= 10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Vas muy rapi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else</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if (velocidad &gt; 30)</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Vas manejando bien.");</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els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Unicode MS"/>
                <a:ea typeface="Times New Roman"/>
              </a:rPr>
              <a:t>	</a:t>
            </a:r>
            <a:r>
              <a:rPr b="1" lang="es-PE" sz="1800" spc="-1" strike="noStrike">
                <a:solidFill>
                  <a:srgbClr val="000000"/>
                </a:solidFill>
                <a:latin typeface="Arial Unicode MS"/>
                <a:ea typeface="Times New Roman"/>
              </a:rPr>
              <a:t>                </a:t>
            </a:r>
            <a:r>
              <a:rPr b="1" lang="es-PE" sz="1800" spc="-1" strike="noStrike">
                <a:solidFill>
                  <a:srgbClr val="000000"/>
                </a:solidFill>
                <a:latin typeface="Courier New"/>
                <a:ea typeface="Times New Roman"/>
              </a:rPr>
              <a:t>System.out.println("Vas muy lent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98"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Compilación en Java</a:t>
            </a:r>
            <a:endParaRPr b="0" lang="en-US" sz="3600" spc="-1" strike="noStrike">
              <a:solidFill>
                <a:srgbClr val="000000"/>
              </a:solidFill>
              <a:latin typeface="Times New Roman"/>
            </a:endParaRPr>
          </a:p>
        </p:txBody>
      </p:sp>
      <p:pic>
        <p:nvPicPr>
          <p:cNvPr id="100" name="" descr=""/>
          <p:cNvPicPr/>
          <p:nvPr/>
        </p:nvPicPr>
        <p:blipFill>
          <a:blip r:embed="rId1"/>
          <a:stretch/>
        </p:blipFill>
        <p:spPr>
          <a:xfrm>
            <a:off x="1908000" y="1484280"/>
            <a:ext cx="5400720" cy="4430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7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anidados</a:t>
            </a:r>
            <a:endParaRPr b="0" lang="en-US" sz="3600" spc="-1" strike="noStrike">
              <a:solidFill>
                <a:srgbClr val="000000"/>
              </a:solidFill>
              <a:latin typeface="Times New Roman"/>
            </a:endParaRPr>
          </a:p>
        </p:txBody>
      </p:sp>
      <p:sp>
        <p:nvSpPr>
          <p:cNvPr id="281" name=""/>
          <p:cNvSpPr/>
          <p:nvPr/>
        </p:nvSpPr>
        <p:spPr>
          <a:xfrm>
            <a:off x="324000" y="836640"/>
            <a:ext cx="8424720" cy="5569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 preferible usar las llaves { } para separar los bloque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if (velocidad &gt;= 25)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if  (velocidad &gt; 100)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System.out.println("Vamos muy rapid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else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System.out.println("Llegaremos a tiemp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else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Times New Roman"/>
              </a:rPr>
              <a:t>	</a:t>
            </a:r>
            <a:r>
              <a:rPr b="1" lang="es-ES" sz="2000" spc="-1" strike="noStrike">
                <a:solidFill>
                  <a:srgbClr val="000000"/>
                </a:solidFill>
                <a:latin typeface="Courier New"/>
                <a:ea typeface="Times New Roman"/>
              </a:rPr>
              <a:t>System.out.println("Que lento es la movilidad");</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Unicode MS"/>
                <a:ea typeface="Times New Roman"/>
              </a:rPr>
              <a:t>}</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8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rrores comunes.</a:t>
            </a:r>
            <a:endParaRPr b="0" lang="en-US" sz="3600" spc="-1" strike="noStrike">
              <a:solidFill>
                <a:srgbClr val="000000"/>
              </a:solidFill>
              <a:latin typeface="Times New Roman"/>
            </a:endParaRPr>
          </a:p>
        </p:txBody>
      </p:sp>
      <p:sp>
        <p:nvSpPr>
          <p:cNvPr id="284" name=""/>
          <p:cNvSpPr/>
          <p:nvPr/>
        </p:nvSpPr>
        <p:spPr>
          <a:xfrm>
            <a:off x="324000" y="1125360"/>
            <a:ext cx="8424720" cy="533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ncuentre los errores en los siguientes ejemplos.</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nt x = 3, y = 5;</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f ( x &gt;= 0)</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y &lt; x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y es menor que x");</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lse</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x es negativo");</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nt x = 7;</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f ( x = 0)</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x es cero");</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x = 15, y = 24;</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f ( x %  2 == 0  &amp;&amp; y % 2 == 0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x e y son pares");</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8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operador condicional (?:) </a:t>
            </a:r>
            <a:endParaRPr b="0" lang="en-US" sz="3600" spc="-1" strike="noStrike">
              <a:solidFill>
                <a:srgbClr val="000000"/>
              </a:solidFill>
              <a:latin typeface="Times New Roman"/>
            </a:endParaRPr>
          </a:p>
        </p:txBody>
      </p:sp>
      <p:sp>
        <p:nvSpPr>
          <p:cNvPr id="287" name=""/>
          <p:cNvSpPr/>
          <p:nvPr/>
        </p:nvSpPr>
        <p:spPr>
          <a:xfrm>
            <a:off x="324000" y="1125360"/>
            <a:ext cx="8424720" cy="4764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s una alternativa a la estructura if..else</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f (mes &lt;= 7)</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	</a:t>
            </a:r>
            <a:r>
              <a:rPr b="1" lang="es-PE" sz="2000" spc="-1" strike="noStrike">
                <a:solidFill>
                  <a:srgbClr val="000000"/>
                </a:solidFill>
                <a:latin typeface="Courier New"/>
                <a:ea typeface="Times New Roman"/>
              </a:rPr>
              <a:t>impuesto = 0.18;</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else</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   </a:t>
            </a:r>
            <a:r>
              <a:rPr b="1" lang="es-PE" sz="2000" spc="-1" strike="noStrike">
                <a:solidFill>
                  <a:srgbClr val="000000"/>
                </a:solidFill>
                <a:latin typeface="Courier New"/>
                <a:ea typeface="Times New Roman"/>
              </a:rPr>
              <a:t>impuesto = 0.19;</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s una expresión que retorna un valor.</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la expresión logica es verdadera se obtiene el primer valor.</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la expresión logica es falsa se obtiene el segundo valor.</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Unicode MS"/>
                <a:ea typeface="Times New Roman"/>
              </a:rPr>
              <a:t>	</a:t>
            </a:r>
            <a:r>
              <a:rPr b="1" lang="es-PE" sz="2000" spc="-1" strike="noStrike">
                <a:solidFill>
                  <a:srgbClr val="000000"/>
                </a:solidFill>
                <a:latin typeface="Courier New"/>
                <a:ea typeface="Times New Roman"/>
              </a:rPr>
              <a:t>impuesto = ( mes &lt;= 7 ) ? 0.18 : 0.19;</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88"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sentencia SWITCH</a:t>
            </a:r>
            <a:endParaRPr b="0" lang="en-US" sz="3600" spc="-1" strike="noStrike">
              <a:solidFill>
                <a:srgbClr val="000000"/>
              </a:solidFill>
              <a:latin typeface="Times New Roman"/>
            </a:endParaRPr>
          </a:p>
        </p:txBody>
      </p:sp>
      <p:sp>
        <p:nvSpPr>
          <p:cNvPr id="290" name=""/>
          <p:cNvSpPr/>
          <p:nvPr/>
        </p:nvSpPr>
        <p:spPr>
          <a:xfrm>
            <a:off x="324000" y="1125360"/>
            <a:ext cx="8424720" cy="364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s usada cuando se requiere tomar una accion entre varias en base a una expresión.</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La expresión debe ser byte, char, short o int.</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No puede ser un long, double, float, String o cualquiere otro tipo.</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la expresión se iguala a una condicion, esta se ejecuta.</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Si no se iguala a ninguna condicion, se realiza la sentencia marcada con default.</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Las condiciones deben ser constantes.</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Use break para salir del switch</a:t>
            </a:r>
            <a:endParaRPr b="0" lang="en-US" sz="2000" spc="-1" strike="noStrike">
              <a:solidFill>
                <a:srgbClr val="000000"/>
              </a:solidFill>
              <a:latin typeface="Times New Roman"/>
            </a:endParaRPr>
          </a:p>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iempre coloque una opcion default.</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91"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sentencia SWITCH</a:t>
            </a:r>
            <a:endParaRPr b="0" lang="en-US" sz="3600" spc="-1" strike="noStrike">
              <a:solidFill>
                <a:srgbClr val="000000"/>
              </a:solidFill>
              <a:latin typeface="Times New Roman"/>
            </a:endParaRPr>
          </a:p>
        </p:txBody>
      </p:sp>
      <p:sp>
        <p:nvSpPr>
          <p:cNvPr id="293" name=""/>
          <p:cNvSpPr/>
          <p:nvPr/>
        </p:nvSpPr>
        <p:spPr>
          <a:xfrm>
            <a:off x="324000" y="1125360"/>
            <a:ext cx="8424720" cy="530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int dia</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switch (dia)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1:</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2:</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3:</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4:</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5:</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Tienes que ir a trabajar");</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break;</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6:</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se 7:</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Quedate en casa");</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break;</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default:</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En que planeta vives?");</a:t>
            </a:r>
            <a:r>
              <a:rPr b="1" lang="es-PE"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94"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LE</a:t>
            </a:r>
            <a:endParaRPr b="0" lang="en-US" sz="3600" spc="-1" strike="noStrike">
              <a:solidFill>
                <a:srgbClr val="000000"/>
              </a:solidFill>
              <a:latin typeface="Times New Roman"/>
            </a:endParaRPr>
          </a:p>
        </p:txBody>
      </p:sp>
      <p:sp>
        <p:nvSpPr>
          <p:cNvPr id="296" name=""/>
          <p:cNvSpPr/>
          <p:nvPr/>
        </p:nvSpPr>
        <p:spPr>
          <a:xfrm>
            <a:off x="324000" y="1125360"/>
            <a:ext cx="8424720" cy="3299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l while es la forma mas simple de un bucle.</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ene la siguiente forma:</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i = 1;                    // inicializa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while (i&lt;=10) {               // condicion de repeti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System.out.println(i*3.5);  // cuerpo</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i++;                       // itera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l cuerpo se realizara mientras la condición de repetición sea verdadera true</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297"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WHILE</a:t>
            </a:r>
            <a:endParaRPr b="0" lang="en-US" sz="3600" spc="-1" strike="noStrike">
              <a:solidFill>
                <a:srgbClr val="000000"/>
              </a:solidFill>
              <a:latin typeface="Times New Roman"/>
            </a:endParaRPr>
          </a:p>
        </p:txBody>
      </p:sp>
      <p:sp>
        <p:nvSpPr>
          <p:cNvPr id="299" name=""/>
          <p:cNvSpPr/>
          <p:nvPr/>
        </p:nvSpPr>
        <p:spPr>
          <a:xfrm>
            <a:off x="324000" y="1125360"/>
            <a:ext cx="8424720" cy="2964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Realiza la condicion de repetición al finalizar el bloque.</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ene la siguiente forma:</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int i = 1;                     // inicializa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do {                    </a:t>
            </a: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i*3.5); // cuerpo</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i++;                       // iteracio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while ( i &lt;= 10 )    </a:t>
            </a: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    // condicion</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00"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CICLO FOR</a:t>
            </a:r>
            <a:endParaRPr b="0" lang="en-US" sz="3600" spc="-1" strike="noStrike">
              <a:solidFill>
                <a:srgbClr val="000000"/>
              </a:solidFill>
              <a:latin typeface="Times New Roman"/>
            </a:endParaRPr>
          </a:p>
        </p:txBody>
      </p:sp>
      <p:sp>
        <p:nvSpPr>
          <p:cNvPr id="302" name=""/>
          <p:cNvSpPr/>
          <p:nvPr/>
        </p:nvSpPr>
        <p:spPr>
          <a:xfrm>
            <a:off x="324000" y="1125360"/>
            <a:ext cx="8424720" cy="5307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ombina en una sentencia la definición de un ciclo repetitivo.</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ra el caso del tipo de cambio, el código fuente será:</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or (int i=1; i&lt;=10; i++)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i*3.5);</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a inicialización y la iteración puede ser compuesta.</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or (int i=0, j=10; i&lt;j; i++, j--)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j-i);</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e pueden crear bucles infinitos.</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or (;;) {</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Hola mundo!");</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03"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RRORES COMUNES</a:t>
            </a:r>
            <a:endParaRPr b="0" lang="en-US" sz="3600" spc="-1" strike="noStrike">
              <a:solidFill>
                <a:srgbClr val="000000"/>
              </a:solidFill>
              <a:latin typeface="Times New Roman"/>
            </a:endParaRPr>
          </a:p>
        </p:txBody>
      </p:sp>
      <p:sp>
        <p:nvSpPr>
          <p:cNvPr id="305" name=""/>
          <p:cNvSpPr/>
          <p:nvPr/>
        </p:nvSpPr>
        <p:spPr>
          <a:xfrm>
            <a:off x="324000" y="1052640"/>
            <a:ext cx="8424720" cy="539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l trasbordador espacial se encuentra a una altura de 10 Km y esta en fase de aterrizaje.</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Caso 1</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int altura = 1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while (altura &gt; 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System.out.println(altura--);</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System.out.println("Hemos aterriza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ourier New"/>
                <a:ea typeface="Times New Roman"/>
              </a:rPr>
              <a:t>// Caso 2</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int altura = 1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while (altura &gt; 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System.out.println(altura);</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altura--;</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System.out.println("Hemos aterrizado");</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Caso 3</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int altura = 10;</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for (; altura &gt; 0; altura--);</a:t>
            </a:r>
            <a:endParaRPr b="0" lang="en-US" sz="1800" spc="-1" strike="noStrike">
              <a:solidFill>
                <a:srgbClr val="000000"/>
              </a:solidFill>
              <a:latin typeface="Times New Roman"/>
            </a:endParaRPr>
          </a:p>
          <a:p>
            <a:pPr marL="457200" indent="-457200"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System.out.println(altura);</a:t>
            </a:r>
            <a:endParaRPr b="0" lang="en-US" sz="1800" spc="-1" strike="noStrike">
              <a:solidFill>
                <a:srgbClr val="000000"/>
              </a:solidFill>
              <a:latin typeface="Times New Roman"/>
            </a:endParaRPr>
          </a:p>
          <a:p>
            <a:pPr marL="457200" indent="-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System.out.println("Hemos aterrizado");</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06"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SENTENCIA BREAK</a:t>
            </a:r>
            <a:endParaRPr b="0" lang="en-US" sz="3600" spc="-1" strike="noStrike">
              <a:solidFill>
                <a:srgbClr val="000000"/>
              </a:solidFill>
              <a:latin typeface="Times New Roman"/>
            </a:endParaRPr>
          </a:p>
        </p:txBody>
      </p:sp>
      <p:sp>
        <p:nvSpPr>
          <p:cNvPr id="308" name=""/>
          <p:cNvSpPr/>
          <p:nvPr/>
        </p:nvSpPr>
        <p:spPr>
          <a:xfrm>
            <a:off x="324000" y="1125360"/>
            <a:ext cx="8424720" cy="4975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En todo bucle, la sentencia BREAK transfiere el control fuera del bucle.</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Son necesarias cuando se trata de bucles infinitos.</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Un empleado ha llegado a su edad de jubilación (65) y ha trabajado desde los 25 años. Su CTS se deposita en un banco que le otorga interes por estos depositos. Un nuevo gobierno ha decretado que esta liquidación tendra un maximo de 250,000 soles</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while (edad &lt;= 65) {</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liquidación = (liquidación + salario)*(1+interes);</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if (liquidación &gt;= 250,000)  </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break;</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	</a:t>
            </a:r>
            <a:r>
              <a:rPr b="1" lang="es-ES" sz="1800" spc="-1" strike="noStrike">
                <a:solidFill>
                  <a:srgbClr val="000000"/>
                </a:solidFill>
                <a:latin typeface="Courier New"/>
                <a:ea typeface="Times New Roman"/>
              </a:rPr>
              <a:t>edad++;</a:t>
            </a:r>
            <a:endParaRPr b="0" lang="en-US" sz="1800" spc="-1" strike="noStrike">
              <a:solidFill>
                <a:srgbClr val="000000"/>
              </a:solidFill>
              <a:latin typeface="Times New Roman"/>
            </a:endParaRPr>
          </a:p>
          <a:p>
            <a:pPr marL="457200" indent="-457200"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01" name=""/>
          <p:cNvSpPr/>
          <p:nvPr/>
        </p:nvSpPr>
        <p:spPr>
          <a:xfrm>
            <a:off x="8229600" y="6583320"/>
            <a:ext cx="60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7174-1D77-4E39-BF9F-33D84BB984C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0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57200" y="115920"/>
            <a:ext cx="82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Características de un programa Java</a:t>
            </a:r>
            <a:endParaRPr b="0" lang="en-US" sz="3600" spc="-1" strike="noStrike">
              <a:solidFill>
                <a:srgbClr val="000000"/>
              </a:solidFill>
              <a:latin typeface="Times New Roman"/>
            </a:endParaRPr>
          </a:p>
        </p:txBody>
      </p:sp>
      <p:sp>
        <p:nvSpPr>
          <p:cNvPr id="104" name=""/>
          <p:cNvSpPr/>
          <p:nvPr/>
        </p:nvSpPr>
        <p:spPr>
          <a:xfrm>
            <a:off x="539640" y="836640"/>
            <a:ext cx="7925040" cy="3801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El nombre de la clase debe ser igual al nombre del archiv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El nombre del archivo tiene extensión java.</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Los comentarios se colocan entre /*  y  */ o se inician con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4. La clase se encierra entre {  y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5. Los métodos también se encierran entre {  y  }, como el método </a:t>
            </a:r>
            <a:r>
              <a:rPr b="1" lang="es-PE" sz="2000" spc="-1" strike="noStrike">
                <a:solidFill>
                  <a:srgbClr val="000000"/>
                </a:solidFill>
                <a:latin typeface="Arial"/>
                <a:ea typeface="Times New Roman"/>
              </a:rPr>
              <a:t>main</a:t>
            </a:r>
            <a:r>
              <a:rPr b="0" lang="es-PE" sz="2000" spc="-1" strike="noStrike">
                <a:solidFill>
                  <a:srgbClr val="000000"/>
                </a:solidFill>
                <a:latin typeface="Arial"/>
                <a:ea typeface="Times New Roman"/>
              </a:rPr>
              <a:t>.</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6. Las sentencias (acciones) se terminan con punto y coma.</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7. Se usa el punto para evocar atributos o métodos de una clase.</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8. Los argumentos de los métodos se colocan entre (  y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9. Se usa la identación para obtener un código mas legible.</a:t>
            </a:r>
            <a:endParaRPr b="0" lang="en-US" sz="2000" spc="-1" strike="noStrike">
              <a:solidFill>
                <a:srgbClr val="000000"/>
              </a:solidFill>
              <a:latin typeface="Times New Roman"/>
            </a:endParaRPr>
          </a:p>
        </p:txBody>
      </p:sp>
      <p:sp>
        <p:nvSpPr>
          <p:cNvPr id="105" name=""/>
          <p:cNvSpPr/>
          <p:nvPr/>
        </p:nvSpPr>
        <p:spPr>
          <a:xfrm>
            <a:off x="684360" y="4724280"/>
            <a:ext cx="76960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ea typeface="Times New Roman"/>
              </a:rPr>
              <a:t>C:\java&gt; notepad Hola.jav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Primer programa jav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public class Hol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public static void main(String[] arg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System.out.println("Hola desde jav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	</a:t>
            </a: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ourier New"/>
                <a:ea typeface="Times New Roman"/>
              </a:rPr>
              <a:t>}</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09"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79280" y="30492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SENTENCIA  CONTINUE</a:t>
            </a:r>
            <a:endParaRPr b="0" lang="en-US" sz="3600" spc="-1" strike="noStrike">
              <a:solidFill>
                <a:srgbClr val="000000"/>
              </a:solidFill>
              <a:latin typeface="Times New Roman"/>
            </a:endParaRPr>
          </a:p>
        </p:txBody>
      </p:sp>
      <p:sp>
        <p:nvSpPr>
          <p:cNvPr id="311" name=""/>
          <p:cNvSpPr/>
          <p:nvPr/>
        </p:nvSpPr>
        <p:spPr>
          <a:xfrm>
            <a:off x="324000" y="1125360"/>
            <a:ext cx="8424720" cy="3633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Se usa solo en ciclos FOR.</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Abandona la ejecución del cuerpo y continua a la siguiente iteración.</a:t>
            </a:r>
            <a:endParaRPr b="0" lang="en-US" sz="1800" spc="-1" strike="noStrike">
              <a:solidFill>
                <a:srgbClr val="000000"/>
              </a:solidFill>
              <a:latin typeface="Times New Roman"/>
            </a:endParaRPr>
          </a:p>
          <a:p>
            <a:pPr marL="457200" indent="-457200"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gn="just">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Mostrar todos los años bisiestos del siglo XXI.</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or ( int anio=2001; anio &lt;= 3000; anio++ )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anio % 100  == 0) &amp;&amp; (anio % 400 != 0) )</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ontinue;</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anio % 4 == 0)</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r>
              <a:rPr b="1" lang="es-PE" sz="1800" spc="-1" strike="noStrike">
                <a:solidFill>
                  <a:srgbClr val="000000"/>
                </a:solidFill>
                <a:latin typeface="Courier New"/>
                <a:ea typeface="Times New Roman"/>
              </a:rPr>
              <a:t>System.out.println(anio);</a:t>
            </a:r>
            <a:endParaRPr b="0" lang="en-US" sz="1800" spc="-1" strike="noStrike">
              <a:solidFill>
                <a:srgbClr val="000000"/>
              </a:solidFill>
              <a:latin typeface="Times New Roman"/>
            </a:endParaRPr>
          </a:p>
          <a:p>
            <a:pPr marL="457200" indent="-457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Times New Roman"/>
              </a:rPr>
              <a:t>}</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31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79280" y="306864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06" name=""/>
          <p:cNvSpPr/>
          <p:nvPr/>
        </p:nvSpPr>
        <p:spPr>
          <a:xfrm>
            <a:off x="8229600" y="6583320"/>
            <a:ext cx="60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44BD-3FCB-43B5-930E-4D7330A0D4C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07"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Ejecución de un programa Java</a:t>
            </a:r>
            <a:endParaRPr b="0" lang="en-US" sz="3600" spc="-1" strike="noStrike">
              <a:solidFill>
                <a:srgbClr val="000000"/>
              </a:solidFill>
              <a:latin typeface="Times New Roman"/>
            </a:endParaRPr>
          </a:p>
        </p:txBody>
      </p:sp>
      <p:sp>
        <p:nvSpPr>
          <p:cNvPr id="109" name=""/>
          <p:cNvSpPr/>
          <p:nvPr/>
        </p:nvSpPr>
        <p:spPr>
          <a:xfrm>
            <a:off x="609480" y="1143000"/>
            <a:ext cx="7925040" cy="4559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Para compilar un programa java se usa el </a:t>
            </a:r>
            <a:r>
              <a:rPr b="1" lang="es-PE" sz="2000" spc="-1" strike="noStrike">
                <a:solidFill>
                  <a:srgbClr val="000000"/>
                </a:solidFill>
                <a:latin typeface="Arial"/>
                <a:ea typeface="Times New Roman"/>
              </a:rPr>
              <a:t>javac.ex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java&gt;javac Hola.jav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Para ejecutar el programa ya compilado (seudo compilado) se usa el </a:t>
            </a:r>
            <a:r>
              <a:rPr b="1" lang="es-PE" sz="2000" spc="-1" strike="noStrike">
                <a:solidFill>
                  <a:srgbClr val="000000"/>
                </a:solidFill>
                <a:latin typeface="Arial"/>
                <a:ea typeface="Times New Roman"/>
              </a:rPr>
              <a:t>java.ex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java&gt;java Hol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Hola desde java</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4. Al ejecutar un programa java, el JVM empieza a buscar el método </a:t>
            </a:r>
            <a:r>
              <a:rPr b="1" lang="es-PE" sz="2000" spc="-1" strike="noStrike">
                <a:solidFill>
                  <a:srgbClr val="000000"/>
                </a:solidFill>
                <a:latin typeface="Arial"/>
                <a:ea typeface="Times New Roman"/>
              </a:rPr>
              <a:t>main</a:t>
            </a:r>
            <a:r>
              <a:rPr b="0" lang="es-PE" sz="2000" spc="-1" strike="noStrike">
                <a:solidFill>
                  <a:srgbClr val="000000"/>
                </a:solidFill>
                <a:latin typeface="Arial"/>
                <a:ea typeface="Times New Roman"/>
              </a:rPr>
              <a:t> de la clase principal para ejecutarlo.</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Se debe respetar las mayúsculas y minúsculas puesto que es "case sensitiv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10" name=""/>
          <p:cNvSpPr/>
          <p:nvPr/>
        </p:nvSpPr>
        <p:spPr>
          <a:xfrm>
            <a:off x="8229600" y="6583320"/>
            <a:ext cx="60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925B-40D5-410E-8D3C-CB7ACBAECA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11"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Variables</a:t>
            </a:r>
            <a:endParaRPr b="0" lang="en-US" sz="3600" spc="-1" strike="noStrike">
              <a:solidFill>
                <a:srgbClr val="000000"/>
              </a:solidFill>
              <a:latin typeface="Times New Roman"/>
            </a:endParaRPr>
          </a:p>
        </p:txBody>
      </p:sp>
      <p:sp>
        <p:nvSpPr>
          <p:cNvPr id="113" name=""/>
          <p:cNvSpPr/>
          <p:nvPr/>
        </p:nvSpPr>
        <p:spPr>
          <a:xfrm>
            <a:off x="609480" y="1143000"/>
            <a:ext cx="7925040" cy="5035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Es una unidad básica de almacenamiento.</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En Java debe ser declarada antes de utilizars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Cada variable tiene un tipo y un identificador.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4. Es un nombre simbólico con un valor.</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5. Las variables pueden ser iniciada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6. La plantilla de declaración de variables e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tipo  identificador = valor;</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7. Ejemplos de declaración de variable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      miEdad = 36;</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boolean  estaAprobado = true;</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double   costoMaximo  = 17.98;</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14" name=""/>
          <p:cNvSpPr/>
          <p:nvPr/>
        </p:nvSpPr>
        <p:spPr>
          <a:xfrm>
            <a:off x="8229600" y="6583320"/>
            <a:ext cx="60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478C-7A5E-4E4F-BE69-8F5B3889F35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15"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Estándares</a:t>
            </a:r>
            <a:endParaRPr b="0" lang="en-US" sz="3600" spc="-1" strike="noStrike">
              <a:solidFill>
                <a:srgbClr val="000000"/>
              </a:solidFill>
              <a:latin typeface="Times New Roman"/>
            </a:endParaRPr>
          </a:p>
        </p:txBody>
      </p:sp>
      <p:sp>
        <p:nvSpPr>
          <p:cNvPr id="117" name=""/>
          <p:cNvSpPr/>
          <p:nvPr/>
        </p:nvSpPr>
        <p:spPr>
          <a:xfrm>
            <a:off x="380880" y="1066680"/>
            <a:ext cx="8305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Nombres de archivos fuente: Cliente.java, Hola.java, Producto.java</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Nombres de programas, clases: Cliente, Hola, Producto.</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3. Nombres de métodos, funciones: obtenerCliente, imprimirHola, alquilarProducto.</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4. Nombres de variables: nombreCliente, limiteCreditoCliente.</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5. Nombres de constantes: PI, MÁXIMO_NUMERO_ITEMS, ANCHO_MINIMO.</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6. Java es “case-sensitive” por lo que:</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a:t>
            </a:r>
            <a:r>
              <a:rPr b="0" lang="es-PE" sz="2000" spc="-1" strike="noStrike">
                <a:solidFill>
                  <a:srgbClr val="000000"/>
                </a:solidFill>
                <a:latin typeface="Arial"/>
                <a:ea typeface="Times New Roman"/>
              </a:rPr>
              <a:t>cliente”  es diferente de “Cliente”  y es diferente de “CLIENT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18"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57200" y="484200"/>
            <a:ext cx="784872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Nombre de Variables</a:t>
            </a:r>
            <a:endParaRPr b="0" lang="en-US" sz="3600" spc="-1" strike="noStrike">
              <a:solidFill>
                <a:srgbClr val="000000"/>
              </a:solidFill>
              <a:latin typeface="Times New Roman"/>
            </a:endParaRPr>
          </a:p>
        </p:txBody>
      </p:sp>
      <p:sp>
        <p:nvSpPr>
          <p:cNvPr id="120" name=""/>
          <p:cNvSpPr/>
          <p:nvPr/>
        </p:nvSpPr>
        <p:spPr>
          <a:xfrm>
            <a:off x="539640" y="1346040"/>
            <a:ext cx="7925040" cy="3483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1. Deben empezar con una letra del alfabeto ingles o subrayad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2.  Los siguientes caracteres pueden ser dígito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3. No se deben usar palabras reservadas.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4. Las palabras reservadas son aquellas propias del lenguaje Java como:</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public, void, static, boolean, float, int, class, true, false, null, for, if, else, extends ...</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5. El estándar es iniciar con minúscula y usar mayúsculas para nuevos significados.</a:t>
            </a:r>
            <a:endParaRPr b="0" lang="en-US" sz="2000" spc="-1" strike="noStrike">
              <a:solidFill>
                <a:srgbClr val="000000"/>
              </a:solidFill>
              <a:latin typeface="Times New Roman"/>
            </a:endParaRPr>
          </a:p>
          <a:p>
            <a:pPr marL="457200" indent="-45720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6. Ejemplos de nombre de variables</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539640" y="5200560"/>
            <a:ext cx="9577440" cy="1252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22" name=""/>
          <p:cNvSpPr/>
          <p:nvPr/>
        </p:nvSpPr>
        <p:spPr>
          <a:xfrm>
            <a:off x="335268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7200" y="3049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Tipos de Variables</a:t>
            </a:r>
            <a:endParaRPr b="0" lang="en-US" sz="3600" spc="-1" strike="noStrike">
              <a:solidFill>
                <a:srgbClr val="000000"/>
              </a:solidFill>
              <a:latin typeface="Times New Roman"/>
            </a:endParaRPr>
          </a:p>
        </p:txBody>
      </p:sp>
      <p:sp>
        <p:nvSpPr>
          <p:cNvPr id="124" name=""/>
          <p:cNvSpPr/>
          <p:nvPr/>
        </p:nvSpPr>
        <p:spPr>
          <a:xfrm>
            <a:off x="609480" y="1143000"/>
            <a:ext cx="7925040" cy="5195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1. Los principales tipos de variables son:</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int</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Desde   -2^31  hasta  +2^31   (literal: 7)</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long</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Desde   -2^63  hasta  +2^63    (literal: 7L)</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float</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Es un numero decimal de 32 bits.  (literal: 7.0f)</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double</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Es un numero decimal de 64 bits.  (literal: 7.0D)</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char</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Es un solo carácter, como letra o digito o carácter especial.</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literal:  ‘A’)</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ourier New"/>
                <a:ea typeface="Times New Roman"/>
              </a:rPr>
              <a:t>boolean</a:t>
            </a:r>
            <a:r>
              <a:rPr b="0" lang="es-PE" sz="2000" spc="-1" strike="noStrike">
                <a:solidFill>
                  <a:srgbClr val="000000"/>
                </a:solidFill>
                <a:latin typeface="Courier New"/>
                <a:ea typeface="Times New Roman"/>
              </a:rPr>
              <a:t> </a:t>
            </a:r>
            <a:r>
              <a:rPr b="0" lang="es-PE" sz="2000" spc="-1" strike="noStrike">
                <a:solidFill>
                  <a:srgbClr val="000000"/>
                </a:solidFill>
                <a:latin typeface="Arial"/>
                <a:ea typeface="Times New Roman"/>
              </a:rPr>
              <a:t>Almacena valores lógicos true o false</a:t>
            </a:r>
            <a:r>
              <a:rPr b="0" lang="es-PE"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Courier New"/>
                <a:ea typeface="Times New Roman"/>
              </a:rPr>
              <a:t>	</a:t>
            </a:r>
            <a:r>
              <a:rPr b="0" lang="es-PE" sz="2000" spc="-1" strike="noStrike">
                <a:solidFill>
                  <a:srgbClr val="000000"/>
                </a:solidFill>
                <a:latin typeface="Courier New"/>
                <a:ea typeface="Times New Roman"/>
              </a:rPr>
              <a:t>	</a:t>
            </a:r>
            <a:r>
              <a:rPr b="0" lang="es-PE" sz="2000" spc="-1" strike="noStrike">
                <a:solidFill>
                  <a:srgbClr val="000000"/>
                </a:solidFill>
                <a:latin typeface="Courier New"/>
                <a:ea typeface="Times New Roman"/>
              </a:rPr>
              <a:t>	</a:t>
            </a:r>
            <a:r>
              <a:rPr b="0" lang="es-PE" sz="2000" spc="-1" strike="noStrike">
                <a:solidFill>
                  <a:srgbClr val="000000"/>
                </a:solidFill>
                <a:latin typeface="Arial"/>
              </a:rPr>
              <a:t>(literal:  false)</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2. Las cadenas no son un tipo de variable sino una Clase de tipo String</a:t>
            </a:r>
            <a:endParaRPr b="0" lang="en-US" sz="2000" spc="-1" strike="noStrike">
              <a:solidFill>
                <a:srgbClr val="000000"/>
              </a:solidFill>
              <a:latin typeface="Times New Roman"/>
            </a:endParaRPr>
          </a:p>
          <a:p>
            <a:pPr marL="457200" indent="-45720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	</a:t>
            </a:r>
            <a:r>
              <a:rPr b="0" lang="es-PE" sz="2000" spc="-1" strike="noStrike">
                <a:solidFill>
                  <a:srgbClr val="000000"/>
                </a:solidFill>
                <a:latin typeface="Arial"/>
                <a:ea typeface="Times New Roman"/>
              </a:rPr>
              <a:t>(literal: “A”)</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7T01:30:48Z</dcterms:created>
  <dc:creator>ANGEL CHATA</dc:creator>
  <dc:description/>
  <dc:language>en-US</dc:language>
  <cp:lastModifiedBy>Maquina</cp:lastModifiedBy>
  <dcterms:modified xsi:type="dcterms:W3CDTF">2008-04-04T03:38:10Z</dcterms:modified>
  <cp:revision>206</cp:revision>
  <dc:subject/>
  <dc:title>Presentación de PowerPoint</dc:title>
</cp:coreProperties>
</file>