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13F-0EA3-45DC-937C-1D9FDE76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B64-FA64-4C6A-A532-823B9DC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D35-5DFD-41C8-AF06-C9114B33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528-F70B-4874-BB47-7304F263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47F-C129-4D49-B7D7-AE73B2FC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B08-7D2D-4B6E-A73A-1238FA6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21A-26C0-4238-8C2E-34B794FA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0D4-83EE-4F12-A88E-8E2C2CE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AAC-3A38-475B-B8CE-8E3E26B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1AD-78F1-43DA-924A-880F0D1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416-84FF-4C90-AE45-8A531C1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04C-6511-49AE-8459-476D893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FA238-3191-44D7-8EFA-1412CED734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40BB-F52A-4A02-8B15-3B6445A80CF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9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맛있다 군만두</cp:lastModifiedBy>
  <dcterms:modified xsi:type="dcterms:W3CDTF">2023-07-13T09:55:51Z</dcterms:modified>
  <cp:revision>4</cp:revision>
  <dc:subject/>
  <dc:title>슬라이드 1</dc:title>
</cp:coreProperties>
</file>