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2FB-F6AB-43F0-BFCB-F0EDC92B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D51-E369-4158-9AA9-DEE23C8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166-1619-4066-B47B-BD259910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EBC-7284-4F13-9C5D-C7B4F49B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60A-DA3E-47CA-ADCD-91701759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B8E-2D14-4D27-B337-79D1A88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489-3525-42F8-8D8C-2EF5696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851-8F25-4C3E-A3C6-CCC1C27C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E1D-E79E-4700-8CE9-CE1661D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DAB-F54E-4945-B853-272D5F28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F9B-CD24-4184-ADDA-B869E93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54E-B6F5-4201-927D-5A599946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C12DB-694D-41E9-A676-3D0B83AB81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1125E-3B45-40A5-9375-A40DFB6022D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14" descr=""/>
          <p:cNvPicPr/>
          <p:nvPr/>
        </p:nvPicPr>
        <p:blipFill>
          <a:blip r:embed="rId9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1:41:51Z</dcterms:created>
  <dc:creator>최봉수</dc:creator>
  <dc:description/>
  <dc:language>en-US</dc:language>
  <cp:lastModifiedBy>맛있다 군만두</cp:lastModifiedBy>
  <dcterms:modified xsi:type="dcterms:W3CDTF">2023-07-13T09:55:51Z</dcterms:modified>
  <cp:revision>4</cp:revision>
  <dc:subject/>
  <dc:title>슬라이드 1</dc:title>
</cp:coreProperties>
</file>