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f4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y/imgres?imgurl=http://www.catholic-forum.com/saints/ncd05228.jpg&amp;imgrefurl=http://www.catholic-forum.com/saints/ncd05228.htm&amp;h=300&amp;w=187&amp;sz=24&amp;tbnid=3RqbMeXQoDMJ:&amp;tbnh=111&amp;tbnw=69&amp;hl=en&amp;start=3&amp;prev=/images%3Fq%3Dsemmelweis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f4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5"/>
          <p:cNvSpPr/>
          <p:nvPr/>
        </p:nvSpPr>
        <p:spPr>
          <a:xfrm>
            <a:off x="1905120" y="3581280"/>
            <a:ext cx="4876560" cy="25146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Rectangle 2"/>
          <p:cNvSpPr/>
          <p:nvPr/>
        </p:nvSpPr>
        <p:spPr>
          <a:xfrm>
            <a:off x="1143000" y="1828800"/>
            <a:ext cx="7149960" cy="113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1828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EALTH CARE ASSOCIATED INFECTIONS AND ITS CONTROL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2286000" y="380988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f Victor L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ternational Medical Univers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90720" y="3808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PREAD OF INFECT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04920" y="1752480"/>
            <a:ext cx="8610480" cy="4953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ir-born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kin scales, droplet nucle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ands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&amp; cloth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oplet contact followed by autoinocul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nical equip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dpans, bowls, jugs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83212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61880" y="4438800"/>
            <a:ext cx="1379520" cy="2127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91440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3808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996840" y="692280"/>
            <a:ext cx="7150320" cy="1130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PREAD OF INFECT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9144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47840" y="2622600"/>
            <a:ext cx="83563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The hands are the most importan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vehicle of transmission of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HCAI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90520" y="5148360"/>
            <a:ext cx="18144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3" name="Picture 14" descr=""/>
          <p:cNvPicPr/>
          <p:nvPr/>
        </p:nvPicPr>
        <p:blipFill>
          <a:blip r:embed="rId2"/>
          <a:stretch/>
        </p:blipFill>
        <p:spPr>
          <a:xfrm>
            <a:off x="1604880" y="4438800"/>
            <a:ext cx="1379520" cy="212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2747880" y="4438800"/>
            <a:ext cx="1379520" cy="212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4"/>
          <a:stretch/>
        </p:blipFill>
        <p:spPr>
          <a:xfrm>
            <a:off x="3890880" y="4438800"/>
            <a:ext cx="1379520" cy="212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5"/>
          <a:stretch/>
        </p:blipFill>
        <p:spPr>
          <a:xfrm>
            <a:off x="5033880" y="4438800"/>
            <a:ext cx="1379520" cy="2127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6"/>
          <a:stretch/>
        </p:blipFill>
        <p:spPr>
          <a:xfrm>
            <a:off x="6176880" y="4438800"/>
            <a:ext cx="1379520" cy="212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"/>
          <p:cNvPicPr/>
          <p:nvPr/>
        </p:nvPicPr>
        <p:blipFill>
          <a:blip r:embed="rId7"/>
          <a:stretch/>
        </p:blipFill>
        <p:spPr>
          <a:xfrm>
            <a:off x="7319880" y="4438800"/>
            <a:ext cx="137952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861840" y="666720"/>
            <a:ext cx="74203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mmon infec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Urinary tract infe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urgical wound infe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ower respiratory infe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raumatic wounds and burns infe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mary bacteraemia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83808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914400" y="685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91440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8380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ES OF INFECTI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42800" y="2370240"/>
            <a:ext cx="1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441360" y="4273560"/>
            <a:ext cx="79056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ypes of infections : National Surveillance in Malays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6"/>
          <p:cNvSpPr/>
          <p:nvPr/>
        </p:nvSpPr>
        <p:spPr>
          <a:xfrm>
            <a:off x="232200" y="2819520"/>
            <a:ext cx="485280" cy="2057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06668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0666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7360" y="2063880"/>
            <a:ext cx="8597880" cy="4178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06668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0666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556160" y="3154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91440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91440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106668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1066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6668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1066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990720" y="4572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91440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91440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1073160" y="539640"/>
            <a:ext cx="7149960" cy="113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OST OF INFECTI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15160" y="2141640"/>
            <a:ext cx="51465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ted Kingdo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15 million pounds (1988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ted States of Americ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5 billion dollars (1987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4.5 billion dollars (1995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lays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517680" y="4044960"/>
            <a:ext cx="79056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3" name="Picture 24" descr=""/>
          <p:cNvPicPr/>
          <p:nvPr/>
        </p:nvPicPr>
        <p:blipFill>
          <a:blip r:embed="rId1"/>
          <a:stretch/>
        </p:blipFill>
        <p:spPr>
          <a:xfrm>
            <a:off x="5962680" y="3029040"/>
            <a:ext cx="227952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58760" y="2139840"/>
            <a:ext cx="5092560" cy="38736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225440" y="615960"/>
            <a:ext cx="6693120" cy="1206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TROL OF HCAI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586480" y="3166920"/>
            <a:ext cx="3189240" cy="2027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54080" y="2135160"/>
            <a:ext cx="517824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and hygiene is th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ingle most importan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easure for contro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f nosocomial infecti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ES OF HAND HYGIENE PROCED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and washing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and washing is usually limited to hands and wrists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ands are washed for a minimum of 10 – 15 seconds with soap (plain or antimicrobial) and water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ransient micro-organisms are mechanically removed by rinsing.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and antisepsis/decontamina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and antisepsis removes or destroys transient micro-organisms and confers a prolonged effect. 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wo ways: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ash hands and forearms with antimicrobial soap and water, for 15-30 seconds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Decontaminate hands with a waterless, alcohol-based hand gel or hand rub for 15-30 seconds. Appropriate for hands that are not soiled with protein matter or fat.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ES OF HAND HYGIENE PROCED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urgical hand antisepsi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emoves or destroys transient micro-organisms and confers a prolonged effect.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ands and forearms are washed thoroughly with an antiseptic soap for a minimum of 2-3 minutes.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ands are dried using a sterile towel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equired before performing invasive procedure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AND WASHING TECHNIQU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676520" y="6400800"/>
            <a:ext cx="579096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urce: World Health Organization. Regional Office for Western Pacific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1785960" y="1981080"/>
            <a:ext cx="55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fin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infection acquired by patients or members of staff while in a health care set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es not include infections which manifest in a health care setting but acquired outside the health care set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infections acquired in a health care setting but manifest after discha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EALTH CARE ASSOCIATED INFEC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MPOUNDS FOR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AND ANTI-SEPSI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ecommended by WHO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2%-4% chlorhexidine,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5%-7.5% povidone iodine,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% triclosan, or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70% alcoholic hand rubs.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O FIRST GLOBAL PATIENT SAFETY CHALLENG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049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ean care is safer car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lcohol-based hand rubs must be available at the point of car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effective as washing with soap or antiseptic and wa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ore convenient and less time consuming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4648320" y="2484360"/>
            <a:ext cx="35049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THER MEAS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se aseptic techniques when performing proced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 the duration of in-situ catheters (urinary and intravascular) to shortest possi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ticulous care of lines, ventilator tubing, catheters and woun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THER MEAS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solation of infectious patients and immuno-compromised pati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 isolation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tective isolation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se of single rooms with bathroom attache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se of positive or negative pressure rooms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tect yourself appropriately through good practices and using personal protective equipment (STANDARD PRECAUTION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ACTISE STANDARD PRECAU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List of precautions"/>
          <p:cNvPicPr/>
          <p:nvPr/>
        </p:nvPicPr>
        <p:blipFill>
          <a:blip r:embed="rId2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1430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143000" y="22860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144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9144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990720" y="5335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11040" y="2216160"/>
            <a:ext cx="4407120" cy="4102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990720" y="5335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4479840" y="33066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83808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8380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91440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83808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996840" y="692280"/>
            <a:ext cx="7150320" cy="1130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ROTECT YOURSELF THROUGH IMMUNIS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443160" y="2252520"/>
            <a:ext cx="31518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Immunisatio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C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patitis 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tan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ubell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cell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441360" y="4197240"/>
            <a:ext cx="79056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6" name="Picture 30" descr=""/>
          <p:cNvPicPr/>
          <p:nvPr/>
        </p:nvPicPr>
        <p:blipFill>
          <a:blip r:embed="rId1"/>
          <a:stretch/>
        </p:blipFill>
        <p:spPr>
          <a:xfrm>
            <a:off x="6005520" y="2486160"/>
            <a:ext cx="109368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ng HCAI is a very important aspect of patient safe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health care personnel must practise the highest standards of infection control as HCA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use significant morbidity and mortality to patients and health care staff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ntribute to increasing prevalence of antibiotic resistanc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re difficult and expensive to manag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n result in medical litigation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OSOCOMIAL OR HOSPITAL ACQUIRED INFEC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ld term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socomium = Hospit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creasing day-care and ambulatory care in modern medical practic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hronic care facilities, nursing hom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fining definitions to hospitals only may not reflect the true situa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fection control is also important in non-hospital settings – hence health-care associated infe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2960" indent="0">
              <a:lnSpc>
                <a:spcPct val="7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066680" y="609480"/>
            <a:ext cx="7086600" cy="1143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fd00"/>
                </a:solidFill>
                <a:uFillTx/>
                <a:latin typeface="Arial"/>
              </a:rPr>
              <a:t>History of Nosocomial Infec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7162920" cy="4572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gnaz Semmelweis, (1840s) demonstrated importance of hand hygiene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 progress for next centur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76, the Joint Commission on Accreditation of Healthcare Organizations - standards for infection contro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ealth-care associated infections still on the increase - emerging infec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idered a patient safety issue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0" name="Picture 8" descr="ncd052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57400"/>
            <a:ext cx="1941480" cy="31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838080" y="1905120"/>
            <a:ext cx="7467840" cy="4267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38080" y="533520"/>
            <a:ext cx="7467840" cy="13716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Reasons for Re-emergen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tibiotic resistance : HCAI becoming more difficult to tre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creased numbers of vulnerable patien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gress in medical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ing day-care &amp; ambulatory care – only the very ill are in hospit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ailure of staff to comply with infection control procedur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78680" y="3130560"/>
            <a:ext cx="1968480" cy="2959200"/>
          </a:xfrm>
          <a:prstGeom prst="rect">
            <a:avLst/>
          </a:prstGeom>
          <a:solidFill>
            <a:srgbClr val="8cf4ea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irtually all microorganisms can cause nosocomial infe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irus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acteria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ung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arasi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AUSES OF HCAI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6343560" y="3233880"/>
            <a:ext cx="1670040" cy="27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16292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c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am +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phylococcus aureus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phylococcus epidermidis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nterococcus sp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am -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nterobacteriaceae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seudomonas aeruginosa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inetobacter baumanni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ycobacterium tuberculo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149480" y="768240"/>
            <a:ext cx="7149960" cy="113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BACTER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204920" y="5881680"/>
            <a:ext cx="18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5" name="Picture 24" descr="58705-004"/>
          <p:cNvPicPr/>
          <p:nvPr/>
        </p:nvPicPr>
        <p:blipFill>
          <a:blip r:embed="rId1"/>
          <a:stretch/>
        </p:blipFill>
        <p:spPr>
          <a:xfrm>
            <a:off x="5562720" y="2133720"/>
            <a:ext cx="26953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04960" cy="41148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rus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lood borne infections : HBV, HCV, HIV, CMV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s: rubella, varicella, SAR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ng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ndida 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pergillu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50496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91440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91440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073160" y="692280"/>
            <a:ext cx="7149960" cy="1130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066680" y="685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THER PATHOGE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" name="Picture 16" descr="800px-Hepatitis_B_virus_01"/>
          <p:cNvPicPr/>
          <p:nvPr/>
        </p:nvPicPr>
        <p:blipFill>
          <a:blip r:embed="rId2"/>
          <a:stretch/>
        </p:blipFill>
        <p:spPr>
          <a:xfrm>
            <a:off x="4648320" y="1981080"/>
            <a:ext cx="382572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1440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144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8380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83808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996840" y="2063880"/>
            <a:ext cx="7150320" cy="4101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996840" y="692280"/>
            <a:ext cx="7150320" cy="1130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OURCES OF INFEC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dogenou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ource is the normal flora or colonisers of skin and other epithelial surfa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ogenou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ther persons (cross-infectio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animate objects (fomite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23:44:50Z</dcterms:created>
  <dc:creator>HUKM</dc:creator>
  <dc:description/>
  <dc:language>en-US</dc:language>
  <cp:lastModifiedBy>USER</cp:lastModifiedBy>
  <dcterms:modified xsi:type="dcterms:W3CDTF">2010-04-30T02:40:47Z</dcterms:modified>
  <cp:revision>27</cp:revision>
  <dc:subject/>
  <dc:title>NOSOCOMIAL INFECTION</dc:title>
</cp:coreProperties>
</file>