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bomb.wav" ContentType="audio/x-wav"/>
  <Override PartName="/ppt/media/explode.wav" ContentType="audio/x-wav"/>
  <Override PartName="/ppt/media/image6.png" ContentType="image/png"/>
  <Override PartName="/ppt/media/image31.png" ContentType="image/png"/>
  <Override PartName="/ppt/media/image27.png" ContentType="image/png"/>
  <Override PartName="/ppt/media/image4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E75-AF14-462B-AD87-EF96A632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C40-1F96-4D92-BD3E-573EFE6E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270-FEE4-43CB-9068-78D0843C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859-7882-4C32-BC3F-AFCDFB5D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0690-24A7-45E0-B5BA-27E13334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D010-41CB-466B-BFEA-4B7C6004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3A6B-61FD-4E60-9308-CF646FFE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DEFE-196F-4F48-9AB1-3476641E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7A2-BC04-4177-A8A4-341DFF7F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CFED-4726-4EA0-8D07-8D34B22F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851C-A38C-44B7-8057-F9C17E5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148-99CC-4403-B304-7737C039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EB40-9CAF-4A5C-A081-8EA671E1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AA30-0E9F-4685-9B93-47DE22D4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DE30-3D7C-4CE2-ADF9-A187F136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7CFD-9335-4521-982F-76795036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8DCC-B76A-4B82-88DF-FC0B1A0B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16DE2-9B66-4554-84D2-E2FF9C70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CE54F-B08B-44A5-91DC-D9952271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24F17-E784-47C8-B478-62470888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62924-9C9D-4B47-9A39-A9EEB1E4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66D88-BD23-4478-9D8F-60E927A3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EBC-EEC2-49CC-8DD3-EC3103D2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372A4-A9B6-480F-8490-54047121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9512E-5AEA-42EF-82C2-FA7CE25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11A36-7A42-463E-8ADC-1F7054CF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86251-6F12-4BD6-B8C2-A8CD89F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E3664-6BD2-456E-AA02-EDBAF1EC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524F2-10F3-44D6-8CAC-451C4CF4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CB22F-52CB-43C3-B9CC-590AC276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ABA-9EEA-481E-B807-77851A4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790-527F-4926-8879-945D6F8D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9A5-C31C-4F8F-89D4-B33369E9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76A-4449-4CD3-A12E-E15C6C6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F41-D923-48D4-8747-50CF187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C48-0269-4191-91A8-28F4CA04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20AB-34D3-4ECC-9BE7-A5E789345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D7D5-3092-4BD3-951D-B7C891537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2F7E-9191-41B3-A2CE-7E4B0C431B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13.xml"/><Relationship Id="rId6" Type="http://schemas.openxmlformats.org/officeDocument/2006/relationships/image" Target="../media/image6.png"/><Relationship Id="rId7" Type="http://schemas.openxmlformats.org/officeDocument/2006/relationships/slide" Target="slide3.xml"/><Relationship Id="rId8" Type="http://schemas.openxmlformats.org/officeDocument/2006/relationships/image" Target="../media/image7.png"/><Relationship Id="rId9" Type="http://schemas.openxmlformats.org/officeDocument/2006/relationships/slide" Target="slide7.xml"/><Relationship Id="rId10" Type="http://schemas.openxmlformats.org/officeDocument/2006/relationships/image" Target="../media/image8.png"/><Relationship Id="rId11" Type="http://schemas.openxmlformats.org/officeDocument/2006/relationships/slide" Target="slide18.xml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" Target="slide2.xml"/><Relationship Id="rId4" Type="http://schemas.openxmlformats.org/officeDocument/2006/relationships/image" Target="../media/image17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7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" Target="slide24.xml"/><Relationship Id="rId6" Type="http://schemas.openxmlformats.org/officeDocument/2006/relationships/image" Target="../media/image15.png"/><Relationship Id="rId7" Type="http://schemas.openxmlformats.org/officeDocument/2006/relationships/slide" Target="slide2.xml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195640" y="2060640"/>
            <a:ext cx="5190840" cy="17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ld Wa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 rot="21098400">
            <a:off x="2339640" y="4149360"/>
            <a:ext cx="487692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492360" y="1197000"/>
            <a:ext cx="222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etry 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828360" cy="7413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 rot="21347400">
            <a:off x="1618920" y="1052640"/>
            <a:ext cx="6438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them for doomed yout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348000" y="404640"/>
            <a:ext cx="2590920" cy="4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fred Ow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449440"/>
            <a:ext cx="78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What passing-bells for these who die as cattl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Only the monstrous anger of their gu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Only the stuttering rifles' rapid rat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an patter out their hasty oris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No mockeries now for them; no prayers nor bel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Nor any voice of mourning save the choi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The shrill, demented choirs of wailing shel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nd bugles calling for them from sad sh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9640" y="23166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empus Sans ITC"/>
              </a:rPr>
              <a:t>What candles may be held to speed them a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empus Sans ITC"/>
              </a:rPr>
              <a:t>Not in the hands of boys, but in their ey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empus Sans ITC"/>
              </a:rPr>
              <a:t>Shall shine the holy glimmers of good-by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empus Sans ITC"/>
              </a:rPr>
              <a:t>The pallor of girls' brows shall be their pall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empus Sans ITC"/>
              </a:rPr>
              <a:t>Their flowers the tenderness of patient mi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empus Sans ITC"/>
              </a:rPr>
              <a:t>And each slow dusk a drawing-down of blinds</a:t>
            </a:r>
            <a:r>
              <a:rPr b="1" lang="it-IT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9640" y="333360"/>
            <a:ext cx="17989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fred Ow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 rot="21347400">
            <a:off x="5292360" y="620280"/>
            <a:ext cx="35593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them for doomed yout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 rot="356400">
            <a:off x="5019120" y="3643560"/>
            <a:ext cx="39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cript MT Bold"/>
              </a:rPr>
              <a:t>Christian funeral ritual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1195600">
            <a:off x="368640" y="5651640"/>
            <a:ext cx="54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cript MT Bold"/>
              </a:rPr>
              <a:t>Infernal noise to mournful silenc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0919600">
            <a:off x="324000" y="496800"/>
            <a:ext cx="62640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cript MT Bold"/>
              </a:rPr>
              <a:t>"I can see no excuse for deceiving you about these last four days. I have suffered seventh hell. – I have not been at the front. – I have been in front of it. – I held an advanced post, that is, a "dug-out" in the middle of No Man's Land.We had a march of three miles over shelled road, then nearly three along a flooded trench. After that we came to where the trenches had been blown flat out and had to go over the top. “ he wrote to his mother.</a:t>
            </a:r>
            <a:r>
              <a:rPr b="0" lang="it-IT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166400">
            <a:off x="6696360" y="126720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cript MT Bold"/>
              </a:rPr>
              <a:t>Strong catho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91000">
            <a:off x="1622880" y="4583520"/>
            <a:ext cx="73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cript MT Bold"/>
              </a:rPr>
              <a:t>A funeral, that is the common destiny for soldiers</a:t>
            </a:r>
            <a:r>
              <a:rPr b="1" lang="it-IT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6013440"/>
            <a:ext cx="825480" cy="844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172360" y="6093000"/>
            <a:ext cx="64764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59280" y="906840"/>
            <a:ext cx="31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Times New Roman"/>
              </a:rPr>
              <a:t>(Bosco di Courton luglio 1918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 rot="21051000">
            <a:off x="3131640" y="1844640"/>
            <a:ext cx="26640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ldati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843280" y="404640"/>
            <a:ext cx="364320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useppe Ungaret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2984040" y="3299760"/>
            <a:ext cx="3166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Si sta come</a:t>
            </a: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d'autunno</a:t>
            </a: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sugli alberi</a:t>
            </a: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le foglie.</a:t>
            </a: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6013440"/>
            <a:ext cx="825480" cy="844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8317080" y="6165720"/>
            <a:ext cx="647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419640" y="1125360"/>
            <a:ext cx="21952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athSoftText"/>
              </a:rPr>
              <a:t>S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athSoftText"/>
              <a:ea typeface="MathSoftTex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3124080"/>
            <a:ext cx="723888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Children's Crusa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080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80880"/>
            <a:ext cx="45720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Children's Crusade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Young men, soldiers, Nineteen Fourtee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Marching through countries they'd never see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Virgins with rifles, a game of charad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All for a Children's Crusade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Pawns in the game are not victims of chanc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Strewn on the fields of Belgium and Franc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Poppies for young men, death's bitter trad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All of those young lives betrayed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80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380880"/>
            <a:ext cx="41148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 Crociata dei Fanciulli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iovani uomini, soldati, 191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rciano per continenti che non hanno mai vis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ergini con le carabine, un gioco di societ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utto per una crociata dei bambini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e pedine nel gioco non sono vittime della scel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arpagliate nei campi del Belgio e della Franc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paveri per i giovani soldati, l'amaro commercio della mor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utte quelle giovani vite tradit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99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762120"/>
            <a:ext cx="3962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children of England would never be slav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y're trapped on the wire and dying in wav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flowers of England face down in the mu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nd stained in the blood of a whole generation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orpulent generals safe behind li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History's lessons drowned in red win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oppies for young men, death's bitter tra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ll of those young lives betray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ll for a Children's Crusad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762120"/>
            <a:ext cx="38862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 bambini dell'Inghilterra non sarebbero mai schiavi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Sono intrappolati nel filo metallico e muoiono nelle on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 fiori di Inghilterra sono rivolti nel fang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E si macchiano col sangue di un’intera generazion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Obesi generali al sicuro dietro le line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e lezioni di storia affogavano nel vino ross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Papaveri per i giovani soldati, l'amaro commercio della mort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utte quelle giovani vite tradit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utto per una crociata dei bambin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99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609480"/>
            <a:ext cx="43434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 children of England would never be slav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y're trapped on the wire and dying in wav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 flower of England face down in the mu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And stained in the blood of a whole generation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Midnight in Soho, Nineteen Eighty-four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Fixing in doorways, opium slav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Poppies for young men, such bitter trad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All of those young lives betray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All for a Children's Crus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609480"/>
            <a:ext cx="4038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I bambini dell'Inghilterra non sarebbero mai schiav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Sono intrappolati nel filo metallico e muoiono nelle ond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I fiori di Inghilterra sono rivolti nel fang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E si macchiano col sangue di un’intera generazione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Mezzanotte in Soho, 1984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Loro fissano l'entrata, schiavi dell'oppi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Papaveri per i giovani soldati, simile ad un amaro commerci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Tutte quelle giovani vite tradit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Tutto per una crociata dei bamb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013440"/>
            <a:ext cx="825480" cy="844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8244000" y="616572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39640" y="5734080"/>
            <a:ext cx="10080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2440080"/>
            <a:ext cx="2421000" cy="4417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2700360" y="2492280"/>
            <a:ext cx="601488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La Guerra di Pier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51280" y="981000"/>
            <a:ext cx="345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athSoftText"/>
              </a:rPr>
              <a:t>Fabrizio de Andr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athSoftText"/>
              <a:ea typeface="MathSoftText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649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0" y="620640"/>
            <a:ext cx="4572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ermati Piero, fermati adess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scia che il vento ti passi un po' addoss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i morti in battaglia ti porti la voc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i diede la vita ebbe in cambio una croce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 tu non lo udisti e il tempo passav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 le stagioni a passo di giav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d arrivasti a passar la frontier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un bel giorno di primavera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mentre marciavi con l'anima in spall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desti un uomo in fondo alla vall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e aveva il tuo stesso identico umo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 la divisa di un altro col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549360"/>
            <a:ext cx="417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rmi sepolto in un campo di gra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è la rosa non è il tulipa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 ti fan veglia dall'ombra dei foss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 sono mille papaveri rossi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ngo le sponde del mio torren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glio che scendano i lucci argentat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più i cadaveri dei soldat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ati in braccio dalla corrent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ì dicevi ed era d’inver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come gli altri verso l'infer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 ne vai triste come chi de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vento ti sputa in faccia la ne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1110400">
            <a:off x="5003640" y="692280"/>
            <a:ext cx="2517840" cy="345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614000">
            <a:off x="2340000" y="1268280"/>
            <a:ext cx="3024000" cy="245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879000">
            <a:off x="5003280" y="3978000"/>
            <a:ext cx="2516400" cy="287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26028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World War One Poetry and S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21047400">
            <a:off x="0" y="1052280"/>
            <a:ext cx="2681280" cy="2909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 rot="20681400">
            <a:off x="2700360" y="3760560"/>
            <a:ext cx="2425680" cy="30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 rot="595800">
            <a:off x="323640" y="3573360"/>
            <a:ext cx="22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549360"/>
            <a:ext cx="4176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paragli Piero, sparagli or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dopo un colpo sparagli ancor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ino a che tu non lo vedrai esangu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dere in terra a coprire il suo sangue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se gli sparo in fronte o nel cuo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ltanto il tempo avrà per mori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 il tempo a me resterà per vede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dere gli occhi di un uomo che muore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mentre gli usi questa premur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ello si volta, ti vede e ha paur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d imbracciata l'artiglier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ti ricambia la cortesia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836640"/>
            <a:ext cx="431928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desti a terra senza un lame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ti accorgesti in un solo mome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 il tempo non ti sarebbe basta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iedere perdono per ogni peccato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desti a terra senza un lame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ti accorgesti in un solo mome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 la tua vita finiva quel gior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non ci sarebbe stato un ritorno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netta mia crepare di maggi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 vuole tanto troppo coraggi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netta bella dritto all'infer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rei preferito andarci in inv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30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911840" y="33480"/>
            <a:ext cx="423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mentre il grano ti stava a senti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tro alle mani stringevi il fuci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tro alla bocca stringevi paro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ppo gelate per sciogliersi al sole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rmi sepolto in un campo di gran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è la rosa non è il tulipan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 ti fan veglia dall'ombra dei foss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 sono mille papaveri ros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084720"/>
            <a:ext cx="755640" cy="773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8317080" y="616572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24000" y="404640"/>
            <a:ext cx="649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205000"/>
            <a:ext cx="392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The children of England would never be slav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They're trapped on the wire and dying in wav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The flower of England face down in the mud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And stained in the blood of a whole gener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1916280"/>
            <a:ext cx="4321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Lungo le sponde del mio torren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voglio che scendano i lucci argenta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non più i cadaveri dei solda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ortati in braccio dalla corrente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sì dicevi ed era d’inver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 come gli altri verso l'infer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e ne vai triste come chi dev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il vento ti sputa in faccia la 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59280" y="260280"/>
            <a:ext cx="31366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s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4360" y="1197000"/>
            <a:ext cx="204948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ildren's Crus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88000" y="1268280"/>
            <a:ext cx="204948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Guerra di Pie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643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363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0072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2781360"/>
            <a:ext cx="395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oppies for young men, death's bitter trad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ll of those young lives betray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ll for a Children's Cru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59280" y="260280"/>
            <a:ext cx="31366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s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4360" y="1268280"/>
            <a:ext cx="204948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ildren's Crus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0" y="1268280"/>
            <a:ext cx="204948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Guerra di Pie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2492280"/>
            <a:ext cx="442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ormi sepolto in un campo di gran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on è la rosa non è il tulipan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he ti fan veglia dall'ombra dei fossi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 sono mille papaveri ros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6013440"/>
            <a:ext cx="825480" cy="844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317080" y="616572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46836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46432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287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81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 rot="21127800">
            <a:off x="1472760" y="2457360"/>
            <a:ext cx="6191280" cy="16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574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LUSI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574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862800">
            <a:off x="4209840" y="0"/>
            <a:ext cx="4933800" cy="3724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 rot="20436000">
            <a:off x="-323640" y="188640"/>
            <a:ext cx="5077080" cy="3814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20990400">
            <a:off x="4140360" y="2763360"/>
            <a:ext cx="5441760" cy="4094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 rot="601800">
            <a:off x="0" y="3573360"/>
            <a:ext cx="5132520" cy="3646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268360" y="2421000"/>
            <a:ext cx="48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ths of Gl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280040" cy="3252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388360" y="6084720"/>
            <a:ext cx="755640" cy="773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5710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47640" y="2060640"/>
            <a:ext cx="5977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The End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268360" y="2060640"/>
            <a:ext cx="495792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Waste L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050920" y="4653000"/>
            <a:ext cx="555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burial of the de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640" y="907920"/>
            <a:ext cx="15145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.S. Eli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70720" y="1798560"/>
            <a:ext cx="68054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April is the cruellest month, breeding</a:t>
            </a:r>
            <a:br>
              <a:rPr sz="2800"/>
            </a:br>
            <a:r>
              <a:rPr b="1" i="1" lang="en" sz="3200" spc="-1" strike="noStrike" u="sng">
                <a:solidFill>
                  <a:srgbClr val="000000"/>
                </a:solidFill>
                <a:uFillTx/>
                <a:latin typeface="Tempus Sans ITC"/>
              </a:rPr>
              <a:t>Lilacs</a:t>
            </a:r>
            <a:r>
              <a:rPr b="1" lang="en" sz="2800" spc="-1" strike="noStrike" u="sng">
                <a:solidFill>
                  <a:srgbClr val="000000"/>
                </a:solidFill>
                <a:uFillTx/>
                <a:latin typeface="Tempus Sans ITC"/>
              </a:rPr>
              <a:t> </a:t>
            </a: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out of the dead land, mixing</a:t>
            </a:r>
            <a:br>
              <a:rPr sz="2800"/>
            </a:b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Memory and desire, stirring</a:t>
            </a:r>
            <a:br>
              <a:rPr sz="2800"/>
            </a:br>
            <a:r>
              <a:rPr b="1" i="1" lang="en" sz="3200" spc="-1" strike="noStrike" u="sng">
                <a:solidFill>
                  <a:srgbClr val="000000"/>
                </a:solidFill>
                <a:uFillTx/>
                <a:latin typeface="Tempus Sans ITC"/>
              </a:rPr>
              <a:t>Dull roots</a:t>
            </a: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 with spring rain.</a:t>
            </a:r>
            <a:br>
              <a:rPr sz="2800"/>
            </a:b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Winter kept us warm, covering</a:t>
            </a:r>
            <a:br>
              <a:rPr sz="2800"/>
            </a:b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Earth in </a:t>
            </a:r>
            <a:r>
              <a:rPr b="1" i="1" lang="en" sz="3200" spc="-1" strike="noStrike" u="sng">
                <a:solidFill>
                  <a:srgbClr val="000000"/>
                </a:solidFill>
                <a:uFillTx/>
                <a:latin typeface="Tempus Sans ITC"/>
              </a:rPr>
              <a:t>forgetful snow,</a:t>
            </a: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 feeding</a:t>
            </a:r>
            <a:br>
              <a:rPr sz="2800"/>
            </a:b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A little life with dried tu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8120" y="639720"/>
            <a:ext cx="89924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Unreal City,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Under the </a:t>
            </a:r>
            <a:r>
              <a:rPr b="1" i="1" lang="en" sz="3200" spc="-1" strike="noStrike" u="sng">
                <a:solidFill>
                  <a:srgbClr val="ffffff"/>
                </a:solidFill>
                <a:uFillTx/>
                <a:latin typeface="Tempus Sans ITC"/>
              </a:rPr>
              <a:t>brown fog</a:t>
            </a: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 of a winter dawn,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A crowd flowed over London Bridge, so many,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I had not thought death had undone so many.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Sighs, short and infrequent, were exhaled,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And each man fixed his eyes before his feet.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Flowed up the hill and down King William Street,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To where Saint Mary Woolnoth kept the hours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With a dead sound on the final stroke of nine.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There I saw one I knew, and stopped him, crying "Stetson!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"You who were with me in the ships at Mylae!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"That </a:t>
            </a:r>
            <a:r>
              <a:rPr b="1" i="1" lang="en" sz="3200" spc="-1" strike="noStrike" u="sng">
                <a:solidFill>
                  <a:srgbClr val="ffffff"/>
                </a:solidFill>
                <a:uFillTx/>
                <a:latin typeface="Tempus Sans ITC"/>
              </a:rPr>
              <a:t>corpse you planted</a:t>
            </a: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 last year in your garden,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"Has it begun to sprout? Will it bloom this year?</a:t>
            </a:r>
            <a:br>
              <a:rPr sz="2400"/>
            </a:br>
            <a:r>
              <a:rPr b="1" lang="en" sz="2400" spc="-1" strike="noStrike">
                <a:solidFill>
                  <a:srgbClr val="ffffff"/>
                </a:solidFill>
                <a:latin typeface="Tempus Sans ITC"/>
              </a:rPr>
              <a:t>"Or has the sudden frost disturbed its b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225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16000" y="3971880"/>
            <a:ext cx="4248000" cy="2886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4640" y="1994040"/>
            <a:ext cx="873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"Oh keep the Dog far hence, that's friend to men,</a:t>
            </a:r>
            <a:br>
              <a:rPr sz="2800"/>
            </a:b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"Or with his nails he'll dig it up again!</a:t>
            </a:r>
            <a:br>
              <a:rPr sz="2800"/>
            </a:br>
            <a:r>
              <a:rPr b="1" lang="en" sz="2800" spc="-1" strike="noStrike">
                <a:solidFill>
                  <a:srgbClr val="000000"/>
                </a:solidFill>
                <a:latin typeface="Tempus Sans ITC"/>
              </a:rPr>
              <a:t>"You! hypocrite lecteur!—mon semblable,—mon frere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571760" cy="178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39640" y="4437000"/>
            <a:ext cx="1571760" cy="1781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72360" y="594828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020000" y="5734080"/>
            <a:ext cx="8445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3600" y="2995920"/>
            <a:ext cx="886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The Bishop tells us: 'When the boys come back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'They will not be the same; for they'll have fought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'In a just cause: they lead the last attack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'On Anti-Christ; their comrades' blood has bought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'New right to breed an honourable race,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'They have challenged Death and dared him face to face.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 rot="20901600">
            <a:off x="3635280" y="1628640"/>
            <a:ext cx="20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79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y</a:t>
            </a:r>
            <a:endParaRPr b="0" i="1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79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03640" y="620640"/>
            <a:ext cx="31687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rial Black"/>
              </a:rPr>
              <a:t>Siegfried Sassoon</a:t>
            </a:r>
            <a:endParaRPr b="0" lang="en-US" sz="2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150300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'We're none of us the same!' the boys reply.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'For George lost both his legs; and Bill's stone blind;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'Poor Jim's shot through the lungs and like to die;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'And Bert's gone syphilitic: you'll not find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'A chap who's served that hasn't found some change.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' And the Bishop said: 'The ways of God are strange!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404640"/>
            <a:ext cx="216072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 Black"/>
              </a:rPr>
              <a:t>Siegfried Sassoon</a:t>
            </a:r>
            <a:endParaRPr b="0" lang="en-US" sz="20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 rot="20901600">
            <a:off x="7308720" y="54900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609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609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20734200">
            <a:off x="3158640" y="5064480"/>
            <a:ext cx="47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cript MT Bold"/>
              </a:rPr>
              <a:t>Illusion of the soldiers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0758200">
            <a:off x="1566000" y="441720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cript MT Bold"/>
              </a:rPr>
              <a:t>Idealism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98800">
            <a:off x="5807160" y="1817280"/>
            <a:ext cx="28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Imperialis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382000">
            <a:off x="729000" y="119088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What am I  fighting for ?</a:t>
            </a:r>
            <a:r>
              <a:rPr b="0" lang="it-IT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02800">
            <a:off x="2050560" y="2923560"/>
            <a:ext cx="61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cript MT Bold"/>
              </a:rPr>
              <a:t>Sassoon describes the truth with an original brutality</a:t>
            </a:r>
            <a:r>
              <a:rPr b="0" lang="it-IT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404640"/>
            <a:ext cx="18734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egfried Sasso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 rot="20901600">
            <a:off x="7524360" y="404640"/>
            <a:ext cx="12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5734080"/>
            <a:ext cx="825480" cy="84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647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9:25:44Z</dcterms:created>
  <dc:creator>Edoardo amaldi</dc:creator>
  <dc:description/>
  <dc:language>en-US</dc:language>
  <cp:lastModifiedBy>ATTILIO GALIMBERTI</cp:lastModifiedBy>
  <dcterms:modified xsi:type="dcterms:W3CDTF">2007-11-13T21:42:12Z</dcterms:modified>
  <cp:revision>15</cp:revision>
  <dc:subject/>
  <dc:title>Presentazione di PowerPoint</dc:title>
</cp:coreProperties>
</file>