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4F0FD-69CD-4318-ABB8-24ABCFF14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5555B-9FFF-490D-9F2A-3B5584939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1E85E-5368-4C4B-BCA8-3C93334EA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D61AC-1660-4699-BD6C-930B754E4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47FB0-A123-4821-BABD-8B9044D4B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DB55A-E630-488B-93DD-6AD815AC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FEE2C-0C28-4DB0-B2A4-94ECBE0D3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01A73-3C3E-41D0-88E8-52245318E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A7F50-570D-47F1-93A0-E889F66CE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064A2-3A01-4FFF-ABC2-37E0B00A4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1F0D-B455-4691-9200-D6EBD9E6F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C721-2798-42D4-A9F6-6184FCDB2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5DA2-2622-464E-8B5D-8E3114AD5F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ternet, Intranet, Ekstrane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mponen LA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omponen hardware yang dibutuhkan untuk membangun Intranet :</a:t>
            </a:r>
            <a:endParaRPr b="0" lang="en-US" sz="3200" spc="-1" strike="noStrike">
              <a:solidFill>
                <a:srgbClr val="000000"/>
              </a:solidFill>
              <a:latin typeface="Calibri"/>
            </a:endParaRPr>
          </a:p>
          <a:p>
            <a:pPr lvl="1" marL="743040" indent="-285840" algn="just">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puter Server</a:t>
            </a:r>
            <a:endParaRPr b="0" lang="en-US" sz="2800" spc="-1" strike="noStrike">
              <a:solidFill>
                <a:srgbClr val="000000"/>
              </a:solidFill>
              <a:latin typeface="Calibri"/>
            </a:endParaRPr>
          </a:p>
          <a:p>
            <a:pPr lvl="1" marL="743040" indent="-285840" algn="just">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puter Workstation</a:t>
            </a:r>
            <a:endParaRPr b="0" lang="en-US" sz="2800" spc="-1" strike="noStrike">
              <a:solidFill>
                <a:srgbClr val="000000"/>
              </a:solidFill>
              <a:latin typeface="Calibri"/>
            </a:endParaRPr>
          </a:p>
          <a:p>
            <a:pPr lvl="1" marL="743040" indent="-285840" algn="just">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work Interface Card (NIC)</a:t>
            </a:r>
            <a:endParaRPr b="0" lang="en-US" sz="2800" spc="-1" strike="noStrike">
              <a:solidFill>
                <a:srgbClr val="000000"/>
              </a:solidFill>
              <a:latin typeface="Calibri"/>
            </a:endParaRPr>
          </a:p>
          <a:p>
            <a:pPr lvl="1" marL="743040" indent="-285840" algn="just">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work C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a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kstation adalah komputer yang digunakan oleh setiap orang untuk mengakses komputer pusat tetapi pada lingkungan networking yang ad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kstation tidak dapat menjalankan tugas pemrosesan, tugas pemrosesan seluruhnya dilakukan oleh server sehingga beban pemrosesan dan lalu lintas network terpusat pada server.</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tilah workstation juga sering disebut sebagai clien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 (Network Interface Card)</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 atau sering juga disebut adapter card adalah sebuah kartu elektronik yang dipasang pada semua komputer yang ingin dihubungkan pada suatu network (termasuk komputer server – clien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 inilah yang berfungsi menghubungkan komputer – komputer pada suatu LAN dan mengijinkan semua komputer tersebut dapat saling berkomunikas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work Cabl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abel ini berfungsi menghubungkan antar NIC yang dipasang pada setiap kompute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nis – jenis kabel yang digunakan untuk network adalah :</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bel Twisted pair, dibagi menjadi dua, yaitu :</a:t>
            </a:r>
            <a:endParaRPr b="0" lang="en-US" sz="2600" spc="-1" strike="noStrike">
              <a:solidFill>
                <a:srgbClr val="000000"/>
              </a:solidFill>
              <a:latin typeface="Calibri"/>
            </a:endParaRPr>
          </a:p>
          <a:p>
            <a:pPr lvl="2" marL="1143000" indent="-22860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ielded Twisted Pair (STP)</a:t>
            </a:r>
            <a:endParaRPr b="0" lang="en-US" sz="2200" spc="-1" strike="noStrike">
              <a:solidFill>
                <a:srgbClr val="000000"/>
              </a:solidFill>
              <a:latin typeface="Calibri"/>
            </a:endParaRPr>
          </a:p>
          <a:p>
            <a:pPr lvl="2" marL="1143000" indent="-22860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shieled Twisted Pair (UTP)</a:t>
            </a:r>
            <a:endParaRPr b="0" lang="en-US" sz="2200" spc="-1" strike="noStrike">
              <a:solidFill>
                <a:srgbClr val="000000"/>
              </a:solidFill>
              <a:latin typeface="Calibri"/>
            </a:endParaRPr>
          </a:p>
          <a:p>
            <a:pPr lvl="1" marL="743040" indent="-28584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bel Coacsial</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bel Serat Optik</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rele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si Ekstranet</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anet atau Ekstranet adalah jaringan pribadi yang menggunakan protokol internet dan sistem telekomunikasi publik untuk membagi sebagian informasi bisnis atau operasi secara aman kepada penyalur (supplier), penjual (vendor), mitra (partner), pelanggan dan lain-l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713880"/>
            <a:ext cx="8229600" cy="5411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anet dapat juga diartikan sebagai intranet sebuah perusahaan yang dilebarkan bagi pengguna di luar perusahaan. Perusahaan yang membangun extranet dapat bertukar data bervolume besar dengan EDI (Electronic Data Interchange), berkolaborasi dengan perusahaan lain dalam suatu jaringan kerjasama dan lain- lain.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oh aplikasi yang dapat digunakan untuk extranet adalah Lotus N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omponen dan Struktur Ekstranet</a:t>
            </a:r>
            <a:endParaRPr b="0" lang="en-US" sz="4000" spc="-1" strike="noStrike">
              <a:solidFill>
                <a:srgbClr val="000000"/>
              </a:solidFill>
              <a:latin typeface="Calibri"/>
            </a:endParaRPr>
          </a:p>
        </p:txBody>
      </p:sp>
      <p:sp>
        <p:nvSpPr>
          <p:cNvPr id="67" name=""/>
          <p:cNvSpPr txBox="1"/>
          <p:nvPr/>
        </p:nvSpPr>
        <p:spPr>
          <a:xfrm>
            <a:off x="457200" y="2285640"/>
            <a:ext cx="8229600" cy="38401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kstranet mempunyai dasar  intrastruktur sama dengan internet, seperti TCP/IP Protocols, server, e-mail dan browser Web. Tetapi ekstranet menggunakan Virtual Private Network (VPN) untuk membuat komunikasi melalui internet lebih am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untungan Penggunaan Ekstranet</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untungan yang kita perolah diantaranya sebagai beriku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erlukan lebih sedikit pekerja help-desk karena dengan mengotomatisasi inquiry system, pelanggan hanya menghubungi basis data untuk mencari informasi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ingkatkan kualitas, karena dengan komunikasi antar komputer dapat mengurangi error pada masukan data (data ent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gurangi biaya komunikasi dan transportasi maupun administratif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es dan arus informasi lebih cepat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gurangi pekerjaan yang menggunakan kertas dan pengiriman barang tepat waktu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ingkatan secara keseluruhan pada efektifitas bisni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katakan Ekstranet apabila sebuah badan usaha atau bisnis tersebut mengekspose sebagian dari internal jaringan ke komunitas di luar agar dapat di akses jaringan luar (internet) adalah firewall dan rou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efinisi </a:t>
            </a:r>
            <a:r>
              <a:rPr b="0" lang="en-US" sz="3600" spc="-1" strike="noStrike">
                <a:solidFill>
                  <a:srgbClr val="000000"/>
                </a:solidFill>
                <a:latin typeface="Calibri"/>
                <a:ea typeface="Times New Roman"/>
              </a:rPr>
              <a:t>Internet</a:t>
            </a:r>
            <a:endParaRPr b="0" lang="en-US" sz="36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Interne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yang berasal dari kata Interconnection Networking yang mempunyai arti hubungan komputer dengan berbagai tipe yang membentuk sistem jaringan yang mencakup seluruh dunia (jaringan komputer global) dengan melalui jalur telekomunikasi seperti telepon, radio link, satelit dan lainny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lemahan ekstranet: </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iaya tinggi pada awal pengembanga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mbutuhkan staf ahli untuk mengembangkan ekstrane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mbuat kontrak selama beberapa waktu untuk perencanaan, pengembangan, review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an pelaksanaa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lakukan pemeliharaan teratur, upgrade, dan lain-l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ga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laskan tentang jenis – jenis kabel yang digunakan untuk kebutuhan jaring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ikan contoh implementasi penggunaan ekstrane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et merupakan hubungan antar berbagai jenis komputer dan jaringan di dunia yang berbeda sistem operasi maupun aplikasinya di mana hubungan tersebut memanfaatkan kemajuan media komunikasi (telepon dan satelit) yang menggunakan protokol standar dalam berkomunikasi yaitu protokol TCP/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silitas Interne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asilitas-Fasilitas yang dapat di manfaatkan dengan menggunakan internet,diantaranya :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eb, adalah fasilitas hypertext untuk menampilkan data berupa teks, gambar, bunyi, animasi dan data multimedia lainnya, yang diantara data tersebut saling berhubungan satu sama lain.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E-Mail (Electronic Mail), dengan fasilitas ini Anda dapat mengirim dan menerima surat elektronik (e-mail) pada/dari pemakai komputer lain yang terhubung di internet, dan dapat menyertakan file sebagai lampiran (attachmen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928440"/>
            <a:ext cx="8229600" cy="5197320"/>
          </a:xfrm>
          <a:prstGeom prst="rect">
            <a:avLst/>
          </a:prstGeom>
          <a:noFill/>
          <a:ln w="0">
            <a:noFill/>
          </a:ln>
        </p:spPr>
        <p:txBody>
          <a:bodyPr anchor="t">
            <a:normAutofit/>
          </a:bodyPr>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sgroup, fasilitas ini digunakan untuk mendistribusikan artikel, berita, tanggapan, surat, penawaran ataupun file ke pemakai internet lain yang tergabung dengan kelompok diskusi untuk topik tertentu. </a:t>
            </a:r>
            <a:endParaRPr b="0" lang="en-US" sz="2800" spc="-1" strike="noStrike">
              <a:solidFill>
                <a:srgbClr val="000000"/>
              </a:solidFill>
              <a:latin typeface="Calibri"/>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TP (File Transfer Protocol), fasilitas ini digunakan untuk menghubungkan ke server computer tertentu dan bila perlu menyalin (download) file yang Anda butuhkan dari server tersebut dan menyimpannya di komputer And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si Intranet</a:t>
            </a:r>
            <a:endParaRPr b="0" lang="en-US" sz="4400" spc="-1" strike="noStrike">
              <a:solidFill>
                <a:srgbClr val="000000"/>
              </a:solidFill>
              <a:latin typeface="Calibri"/>
            </a:endParaRPr>
          </a:p>
        </p:txBody>
      </p:sp>
      <p:sp>
        <p:nvSpPr>
          <p:cNvPr id="49" name=""/>
          <p:cNvSpPr txBox="1"/>
          <p:nvPr/>
        </p:nvSpPr>
        <p:spPr>
          <a:xfrm>
            <a:off x="457200" y="1500120"/>
            <a:ext cx="8229600" cy="46260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ranet adalah Jaringan Komputer yang khusus untuk penggunaan pada lingkungan di dalam batasan suatu Organisasi.</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lihat dari sudut teknisinya, Intranet didefinisikan sebagai penggunaan teknologi Internet dan WWW di dalam sebuah jaringan komputer lokal (LAN).</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 adalah sekumpulan komputer – komputer yang saling dihubungkan pada suatu daerah atau lokasi tertentu.</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faat Intranet</a:t>
            </a:r>
            <a:endParaRPr b="0" lang="en-US" sz="4400" spc="-1" strike="noStrike">
              <a:solidFill>
                <a:srgbClr val="000000"/>
              </a:solidFill>
              <a:latin typeface="Calibri"/>
            </a:endParaRPr>
          </a:p>
        </p:txBody>
      </p:sp>
      <p:sp>
        <p:nvSpPr>
          <p:cNvPr id="51" name=""/>
          <p:cNvSpPr txBox="1"/>
          <p:nvPr/>
        </p:nvSpPr>
        <p:spPr>
          <a:xfrm>
            <a:off x="457200" y="1500120"/>
            <a:ext cx="8229600" cy="47865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rusahaan dapat mengatasi masalah utama yaitu tentang penyebaran informasi antar sesama karyawan dengan cara yang cepat, mudah, dan efektif. Tidak terikat oleh program atau hardware tertentu sehingga dapat melatih dan mendidik para pegawai perusahaa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tara sesama karyawan dapat mengirimkan memo ke rekan kerja yang lain tanpa harus meninggalkan mejany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tiap karyawan bisa mengirimkan beberapa dokumen melalui komputer dengan demikian tidak perlu mencetak dokumen tersebu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dmin dapat meletakkan file – file program yang bisa digunakan oleh karyawan pada suatu folder bersama, sehingga dapat di – download oleh yang memerlukanny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angkat Keras Intrane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a:t>
            </a:r>
            <a:endParaRPr b="0" lang="en-US" sz="3000" spc="-1" strike="noStrike">
              <a:solidFill>
                <a:srgbClr val="000000"/>
              </a:solidFill>
              <a:latin typeface="Calibri"/>
            </a:endParaRPr>
          </a:p>
          <a:p>
            <a:pPr lvl="1" marL="743040" indent="-28584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ranet sebenarnya adalah sebuah jaringan komputer lokal (LAN) yang diberikan teknologi internet atau WWW.</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tuk membangun intranet, LAN harus memiliki sebuah jaringan komputer lokal terlebih dahulu.</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N terdiri dari beberapa komputer, dimana saling terhubung di dalam satu lokasi.</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ua komputer di dalam LAN dapat saling berhubungan dan mengakses sumber – sumber daya yang ada pada komputer lain misal data pada server, data pada komputer lain, printer, periferal lain, dsb.</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ent - Server</a:t>
            </a:r>
            <a:endParaRPr b="0" lang="en-US" sz="3200" spc="-1" strike="noStrike">
              <a:solidFill>
                <a:srgbClr val="000000"/>
              </a:solidFill>
              <a:latin typeface="Calibri"/>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puter server dapat didefinisikan sebagai komputer pusat yang memberikan suatu data atau dokumen, sedangkan komputer yang meminta dokumen disebut sebagai client.</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puter client biasanya berupa PC biasa dan digunakan oleh user untuk meminta informasi dari server sedangkan komputer server digunakan untuk menyimpan data dan program serta menyediakan pelayanan network kepada client.</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ika kedua komputer disatukan maka akan didapat sebuah model jaringan komputer client – serv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3T05:36:47Z</dcterms:created>
  <dc:creator>Kid</dc:creator>
  <dc:description/>
  <dc:language>en-US</dc:language>
  <cp:lastModifiedBy>Axioo</cp:lastModifiedBy>
  <dcterms:modified xsi:type="dcterms:W3CDTF">2011-10-14T04:19:49Z</dcterms:modified>
  <cp:revision>9</cp:revision>
  <dc:subject/>
  <dc:title>Internet, Intranet, Ekstranet</dc:title>
</cp:coreProperties>
</file>