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0E1D-ABF4-44D4-B533-2B99F5E3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A45-F49D-4D44-966C-0795005B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( 1 –y 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[x – ( 1 – y )][x + ( 1 – y )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+ y = 1 atau x – y =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3A30-9F3C-4ABD-A908-BBFEA2CA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( 1 –y 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[x – ( 1 – y )][x + ( 1 – y )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+ y = 1 atau x – y = -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AE3-E717-4930-9FD8-31B28C33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30F-01FA-4E07-B4D5-38A0F92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60A-425F-47E8-9F90-53B78659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6D3-A925-449A-9F1A-044B05EE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230-CADB-4AE3-88CB-69A04083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25E-058F-40B8-8330-C208FCE2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88B-9BBD-4DAD-85AE-548D82E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2FE-F92B-475D-95ED-3D7F56E2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086-F732-47ED-ADE5-BEA58268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3FC-A647-4638-ADDA-9DA5767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331-56E2-4FD6-8CDB-34D5C0A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F2C-7217-4138-ADC6-DB5033D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D4F-F57D-476E-BAB7-D9460B34639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9FB6F524-8125-4892-87B2-0A30A5E910A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DBB-73EE-43B5-A014-5F133328A17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B870F91-4424-4842-871A-8708B90F778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907920" y="2792520"/>
            <a:ext cx="7523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6EF-B27C-47EB-BE8C-5148A9DC001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AD92CFF5-8CB3-44B1-BFC4-BB12C8CC959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mit dan Kekontinu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3500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3562200" y="1700280"/>
                <a:ext cx="187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1116000" y="2908440"/>
                <a:ext cx="7343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Rectangle 14"/>
          <p:cNvSpPr/>
          <p:nvPr/>
        </p:nvSpPr>
        <p:spPr>
          <a:xfrm>
            <a:off x="1116000" y="970560"/>
            <a:ext cx="7272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isal f(z) = U(x,y) + i V(x,y),  z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= x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iy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dan w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= u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+ iv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 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, 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4572000" y="2276640"/>
            <a:ext cx="431640" cy="36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068120" y="4218480"/>
            <a:ext cx="4734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f(z) dikatakan kontinu di z</a:t>
            </a:r>
            <a:r>
              <a:rPr b="0" lang="sv-SE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7"/>
              <p:cNvSpPr txBox="1"/>
              <p:nvPr/>
            </p:nvSpPr>
            <p:spPr>
              <a:xfrm>
                <a:off x="5715000" y="4249800"/>
                <a:ext cx="20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Rectangle 18"/>
          <p:cNvSpPr/>
          <p:nvPr/>
        </p:nvSpPr>
        <p:spPr>
          <a:xfrm>
            <a:off x="1044720" y="4970520"/>
            <a:ext cx="72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isal f(z) = U(x,y) + i V(x,y), maka f(z) kontinu di z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= (x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) bila dan hanya bila U(x,y) dan V(x,y) kontinu  di  (x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86B6-B19D-4A3D-AA47-D81B3C4F653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4EFB98D-1505-458B-B1BE-19786DC3470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042920" y="922680"/>
            <a:ext cx="412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ri f(z)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nyata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116000" y="1413000"/>
                <a:ext cx="29512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Text Box 7"/>
          <p:cNvSpPr/>
          <p:nvPr/>
        </p:nvSpPr>
        <p:spPr>
          <a:xfrm>
            <a:off x="1563480" y="2127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1116000" y="2637000"/>
                <a:ext cx="3672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z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10"/>
          <p:cNvSpPr/>
          <p:nvPr/>
        </p:nvSpPr>
        <p:spPr>
          <a:xfrm>
            <a:off x="1039680" y="3524400"/>
            <a:ext cx="7493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erhitungan turunan f(z) dengan melihat kemungkinan notasi f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secara eksplisit dalam peubah 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sebag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f(z) = U(x,y) + i V(x,y),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(z) dinyatakan dalam sebag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f(z) = U(r,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 + i V(r,</a:t>
            </a:r>
            <a:r>
              <a:rPr b="0" lang="en-US" sz="2000" spc="-1" strike="noStrike">
                <a:solidFill>
                  <a:srgbClr val="006666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73F-FA24-42B8-8BD2-D38E803BB79A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342B30F-BF42-49DB-AE2C-AC4B2050D9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971640" y="98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(z) dinyatakan secara eksplisit dalam peubah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1116000" y="1989000"/>
                <a:ext cx="1720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1103400" y="3141720"/>
                <a:ext cx="3324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3"/>
              <p:cNvSpPr txBox="1"/>
              <p:nvPr/>
            </p:nvSpPr>
            <p:spPr>
              <a:xfrm>
                <a:off x="1116000" y="4086360"/>
                <a:ext cx="3479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4"/>
              <p:cNvSpPr txBox="1"/>
              <p:nvPr/>
            </p:nvSpPr>
            <p:spPr>
              <a:xfrm>
                <a:off x="1116000" y="4824360"/>
                <a:ext cx="3600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6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1047600" y="143676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turunan yang digunak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5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033C-11D3-42F2-817F-B24B132C24C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E2953D3-B039-41D9-B693-227857FD2E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395280" y="2060640"/>
                <a:ext cx="1655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395280" y="2492280"/>
                <a:ext cx="151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236520" y="1484280"/>
                <a:ext cx="2408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50920" y="3141720"/>
                <a:ext cx="1739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/>
                          <m: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i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123840" y="105948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oh : Tentukan turunan pertama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5240160" y="2214720"/>
                <a:ext cx="26956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ra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z</m:t>
                    </m:r>
                    <m:r>
                      <m:t xml:space="preserve">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5076720" y="1500120"/>
                <a:ext cx="3384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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Text Box 16"/>
          <p:cNvSpPr/>
          <p:nvPr/>
        </p:nvSpPr>
        <p:spPr>
          <a:xfrm>
            <a:off x="2193120" y="209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2193120" y="2600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2700360" y="1916280"/>
                <a:ext cx="180036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rad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0"/>
              <p:cNvSpPr txBox="1"/>
              <p:nvPr/>
            </p:nvSpPr>
            <p:spPr>
              <a:xfrm>
                <a:off x="2627280" y="263700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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4356000" y="4221000"/>
                <a:ext cx="4537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Rectangle 2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4"/>
              <p:cNvSpPr txBox="1"/>
              <p:nvPr/>
            </p:nvSpPr>
            <p:spPr>
              <a:xfrm>
                <a:off x="349200" y="4014720"/>
                <a:ext cx="1486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29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0"/>
              <p:cNvSpPr txBox="1"/>
              <p:nvPr/>
            </p:nvSpPr>
            <p:spPr>
              <a:xfrm>
                <a:off x="4854600" y="3068640"/>
                <a:ext cx="3627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33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2"/>
              <p:cNvSpPr txBox="1"/>
              <p:nvPr/>
            </p:nvSpPr>
            <p:spPr>
              <a:xfrm>
                <a:off x="415800" y="4581360"/>
                <a:ext cx="14194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34"/>
          <p:cNvSpPr/>
          <p:nvPr/>
        </p:nvSpPr>
        <p:spPr>
          <a:xfrm>
            <a:off x="2046240" y="41115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’(z) = 2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2046240" y="46879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’(z) = 2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F8B-455D-48F2-8E8F-99932232053B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9245461D-0795-4DE2-8D9E-676F73216E5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ukan turunan pertama dari fung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2i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z + 2i) / ( i – 2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3 + iz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lah nilai turunan pertama di nilai yang diberik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i/(z + 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1 – 2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i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z = 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z – zi) / (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) di z = 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F32F-2F40-4D68-8A06-C7CAEB81171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B99F212-5965-4CD2-805B-E19BB70B944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4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26920" y="1077840"/>
            <a:ext cx="5832720" cy="3988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dinyatakan sebagai  f(z) = U(x,y) + i V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755640" y="2637000"/>
                <a:ext cx="34560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</m:t>
                        </m:r>
                      </m:e>
                      <m:e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Rectangle 12"/>
          <p:cNvSpPr/>
          <p:nvPr/>
        </p:nvSpPr>
        <p:spPr>
          <a:xfrm>
            <a:off x="682560" y="1773360"/>
            <a:ext cx="712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U(x,y) + i V(x,y) dapat diturunkan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i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la berlaku Persamaan Cauchy Riemann (PCR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773280" y="4941720"/>
                <a:ext cx="5670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5"/>
          <p:cNvSpPr/>
          <p:nvPr/>
        </p:nvSpPr>
        <p:spPr>
          <a:xfrm rot="5400000">
            <a:off x="1402560" y="4077360"/>
            <a:ext cx="720720" cy="2872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5133240" y="3873600"/>
            <a:ext cx="2107080" cy="430560"/>
          </a:xfrm>
          <a:prstGeom prst="wedgeRoundRectCallout">
            <a:avLst>
              <a:gd name="adj1" fmla="val -89268"/>
              <a:gd name="adj2" fmla="val -19235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7FB8-B494-4126-8327-6BCDC2AE840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6AB2CC81-E256-4FE2-8459-8A8BD871CC7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36440" y="90792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(z) dapat diturunkan di z =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1116000" y="1268280"/>
                <a:ext cx="15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3"/>
              <p:cNvSpPr txBox="1"/>
              <p:nvPr/>
            </p:nvSpPr>
            <p:spPr>
              <a:xfrm>
                <a:off x="2514600" y="1235160"/>
                <a:ext cx="227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"/>
              <p:cNvSpPr txBox="1"/>
              <p:nvPr/>
            </p:nvSpPr>
            <p:spPr>
              <a:xfrm>
                <a:off x="1116000" y="1916280"/>
                <a:ext cx="19447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276720" y="1916280"/>
                <a:ext cx="2087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8"/>
              <p:cNvSpPr txBox="1"/>
              <p:nvPr/>
            </p:nvSpPr>
            <p:spPr>
              <a:xfrm>
                <a:off x="1189080" y="2523960"/>
                <a:ext cx="187164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Rectangle 19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3348000" y="2492280"/>
                <a:ext cx="21607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Rectangle 21"/>
          <p:cNvSpPr/>
          <p:nvPr/>
        </p:nvSpPr>
        <p:spPr>
          <a:xfrm>
            <a:off x="1183320" y="370116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i ( x = 0 dan y = 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1118160" y="4149720"/>
            <a:ext cx="3111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sin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5"/>
              <p:cNvSpPr txBox="1"/>
              <p:nvPr/>
            </p:nvSpPr>
            <p:spPr>
              <a:xfrm>
                <a:off x="1257480" y="5084640"/>
                <a:ext cx="3601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AutoShape 26"/>
          <p:cNvSpPr/>
          <p:nvPr/>
        </p:nvSpPr>
        <p:spPr>
          <a:xfrm>
            <a:off x="5651640" y="4005360"/>
            <a:ext cx="1295280" cy="574560"/>
          </a:xfrm>
          <a:prstGeom prst="wedgeRoundRectCallout">
            <a:avLst>
              <a:gd name="adj1" fmla="val -163972"/>
              <a:gd name="adj2" fmla="val -6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+ 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1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7F9B-4584-4766-A7AF-67CB7FD5201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3863860E-9882-4D99-9907-11BF745579A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1117440" y="1413000"/>
                <a:ext cx="1584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6"/>
          <p:cNvSpPr/>
          <p:nvPr/>
        </p:nvSpPr>
        <p:spPr>
          <a:xfrm>
            <a:off x="1039680" y="94464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(z) dapat diturunkan di z = 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2774880" y="1413000"/>
                <a:ext cx="2232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9"/>
              <p:cNvSpPr txBox="1"/>
              <p:nvPr/>
            </p:nvSpPr>
            <p:spPr>
              <a:xfrm>
                <a:off x="1177920" y="1998720"/>
                <a:ext cx="18241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422520" y="1998720"/>
                <a:ext cx="1798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4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1211400" y="2492280"/>
                <a:ext cx="19015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Rectangle 16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3494160" y="2492280"/>
                <a:ext cx="1728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Rectangle 17"/>
          <p:cNvSpPr/>
          <p:nvPr/>
        </p:nvSpPr>
        <p:spPr>
          <a:xfrm>
            <a:off x="1072080" y="369468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 = i ( x = 0 dan y =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8"/>
              <p:cNvSpPr txBox="1"/>
              <p:nvPr/>
            </p:nvSpPr>
            <p:spPr>
              <a:xfrm>
                <a:off x="1127160" y="425124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4284720" y="4292640"/>
            <a:ext cx="1224000" cy="504720"/>
            <a:chOff x="4284720" y="4292640"/>
            <a:chExt cx="1224000" cy="504720"/>
          </a:xfrm>
        </p:grpSpPr>
        <p:sp>
          <p:nvSpPr>
            <p:cNvPr id="267" name="AutoShape 20"/>
            <p:cNvSpPr/>
            <p:nvPr/>
          </p:nvSpPr>
          <p:spPr>
            <a:xfrm>
              <a:off x="4284720" y="4292640"/>
              <a:ext cx="1224000" cy="504720"/>
            </a:xfrm>
            <a:prstGeom prst="wedgeRoundRectCallout">
              <a:avLst>
                <a:gd name="adj1" fmla="val -81518"/>
                <a:gd name="adj2" fmla="val 282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Object 24"/>
                <p:cNvSpPr txBox="1"/>
                <p:nvPr/>
              </p:nvSpPr>
              <p:spPr>
                <a:xfrm>
                  <a:off x="4357800" y="4363920"/>
                  <a:ext cx="10810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≠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Text Box 27"/>
          <p:cNvSpPr/>
          <p:nvPr/>
        </p:nvSpPr>
        <p:spPr>
          <a:xfrm>
            <a:off x="1166400" y="51516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dapat diturunkan di z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28"/>
          <p:cNvCxnSpPr>
            <a:endCxn id="269" idx="1"/>
          </p:cNvCxnSpPr>
          <p:nvPr/>
        </p:nvCxnSpPr>
        <p:spPr>
          <a:xfrm flipH="1" flipV="1" rot="10800000">
            <a:off x="1117080" y="1661760"/>
            <a:ext cx="53280" cy="3688560"/>
          </a:xfrm>
          <a:prstGeom prst="bentConnector3">
            <a:avLst>
              <a:gd name="adj1" fmla="val -3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1" name="Rectangle 3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9"/>
          <p:cNvSpPr/>
          <p:nvPr/>
        </p:nvSpPr>
        <p:spPr>
          <a:xfrm>
            <a:off x="5396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551-5DC6-4ED6-A379-51A576CD1FB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24E2632-7A9D-4DA6-B5C7-8F458ACC689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971640" y="10785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rilah semua titik sehingga f(z) dapat diturun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5"/>
              <p:cNvSpPr txBox="1"/>
              <p:nvPr/>
            </p:nvSpPr>
            <p:spPr>
              <a:xfrm>
                <a:off x="1547640" y="1566720"/>
                <a:ext cx="2127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Rectangle 2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7"/>
              <p:cNvSpPr txBox="1"/>
              <p:nvPr/>
            </p:nvSpPr>
            <p:spPr>
              <a:xfrm>
                <a:off x="1568520" y="2066760"/>
                <a:ext cx="1366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Rectangle 2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9"/>
              <p:cNvSpPr txBox="1"/>
              <p:nvPr/>
            </p:nvSpPr>
            <p:spPr>
              <a:xfrm>
                <a:off x="3151080" y="2116080"/>
                <a:ext cx="201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Rectangle 30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31"/>
              <p:cNvSpPr txBox="1"/>
              <p:nvPr/>
            </p:nvSpPr>
            <p:spPr>
              <a:xfrm>
                <a:off x="1568520" y="2565360"/>
                <a:ext cx="1150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Rectangle 32"/>
          <p:cNvSpPr/>
          <p:nvPr/>
        </p:nvSpPr>
        <p:spPr>
          <a:xfrm>
            <a:off x="5396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3"/>
              <p:cNvSpPr txBox="1"/>
              <p:nvPr/>
            </p:nvSpPr>
            <p:spPr>
              <a:xfrm>
                <a:off x="3276720" y="2674800"/>
                <a:ext cx="162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5"/>
              <p:cNvSpPr txBox="1"/>
              <p:nvPr/>
            </p:nvSpPr>
            <p:spPr>
              <a:xfrm>
                <a:off x="1628640" y="3860640"/>
                <a:ext cx="3179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36"/>
          <p:cNvSpPr/>
          <p:nvPr/>
        </p:nvSpPr>
        <p:spPr>
          <a:xfrm>
            <a:off x="1711440" y="465192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dapat diturunkan di titik yang memenuhi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1 atau x – y =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1559520" y="3500280"/>
            <a:ext cx="334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8"/>
          <p:cNvSpPr/>
          <p:nvPr/>
        </p:nvSpPr>
        <p:spPr>
          <a:xfrm>
            <a:off x="1639800" y="4581360"/>
            <a:ext cx="3456000" cy="1224000"/>
          </a:xfrm>
          <a:prstGeom prst="wedgeRoundRectCallout">
            <a:avLst>
              <a:gd name="adj1" fmla="val -21935"/>
              <a:gd name="adj2" fmla="val -73087"/>
              <a:gd name="adj3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( y - 1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[x –(y – 1)][x + (y - 1)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- y = -1 atau x +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5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CB2E-ECCC-4D45-825D-E3CCB28F3D9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705FFEF-DBD4-4EBF-B8B7-60E93FED5B5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# 5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752040" y="925920"/>
            <a:ext cx="281556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dinyatakan sebag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z) = U(r,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+ i V(r,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250920" y="2349360"/>
                <a:ext cx="3168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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9" name="Rectangle 7"/>
          <p:cNvSpPr/>
          <p:nvPr/>
        </p:nvSpPr>
        <p:spPr>
          <a:xfrm>
            <a:off x="177120" y="182952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dalam koordinat pol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174240" y="321228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dari f(z) dinyata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324000" y="3716280"/>
                <a:ext cx="3012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θ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Rectangle 12"/>
          <p:cNvSpPr/>
          <p:nvPr/>
        </p:nvSpPr>
        <p:spPr>
          <a:xfrm>
            <a:off x="4001760" y="838800"/>
            <a:ext cx="43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oh : f(z) diferensiabel di z = 1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1"/>
              <p:cNvSpPr txBox="1"/>
              <p:nvPr/>
            </p:nvSpPr>
            <p:spPr>
              <a:xfrm>
                <a:off x="4211640" y="1341360"/>
                <a:ext cx="1944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14"/>
              <p:cNvSpPr txBox="1"/>
              <p:nvPr/>
            </p:nvSpPr>
            <p:spPr>
              <a:xfrm>
                <a:off x="6156360" y="1484280"/>
                <a:ext cx="2600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16"/>
          <p:cNvSpPr/>
          <p:nvPr/>
        </p:nvSpPr>
        <p:spPr>
          <a:xfrm>
            <a:off x="4134240" y="19008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 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 + r c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6728400" y="191520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 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   -r s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2"/>
          <p:cNvSpPr/>
          <p:nvPr/>
        </p:nvSpPr>
        <p:spPr>
          <a:xfrm>
            <a:off x="1800" y="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3"/>
          <p:cNvSpPr/>
          <p:nvPr/>
        </p:nvSpPr>
        <p:spPr>
          <a:xfrm>
            <a:off x="0" y="9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0" y="12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1800" y="1605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133880" y="3247200"/>
            <a:ext cx="31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i z = 1 ( r = 1 d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= 0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7"/>
              <p:cNvSpPr txBox="1"/>
              <p:nvPr/>
            </p:nvSpPr>
            <p:spPr>
              <a:xfrm>
                <a:off x="4788000" y="4149720"/>
                <a:ext cx="136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Text Box 29"/>
          <p:cNvSpPr/>
          <p:nvPr/>
        </p:nvSpPr>
        <p:spPr>
          <a:xfrm>
            <a:off x="4194720" y="5151600"/>
            <a:ext cx="3216600" cy="3988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diferensiabel di z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AutoShape 30"/>
          <p:cNvCxnSpPr>
            <a:endCxn id="326" idx="1"/>
          </p:cNvCxnSpPr>
          <p:nvPr/>
        </p:nvCxnSpPr>
        <p:spPr>
          <a:xfrm flipV="1" rot="10800000">
            <a:off x="4191840" y="1617480"/>
            <a:ext cx="19800" cy="3737520"/>
          </a:xfrm>
          <a:prstGeom prst="bentConnector3">
            <a:avLst>
              <a:gd name="adj1" fmla="val 130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8" name="Rectangle 3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4"/>
              <p:cNvSpPr txBox="1"/>
              <p:nvPr/>
            </p:nvSpPr>
            <p:spPr>
              <a:xfrm>
                <a:off x="4211640" y="2421000"/>
                <a:ext cx="1295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3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36"/>
              <p:cNvSpPr txBox="1"/>
              <p:nvPr/>
            </p:nvSpPr>
            <p:spPr>
              <a:xfrm>
                <a:off x="4211640" y="2846520"/>
                <a:ext cx="1655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3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38"/>
              <p:cNvSpPr txBox="1"/>
              <p:nvPr/>
            </p:nvSpPr>
            <p:spPr>
              <a:xfrm>
                <a:off x="6330960" y="2857680"/>
                <a:ext cx="1666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4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0"/>
              <p:cNvSpPr txBox="1"/>
              <p:nvPr/>
            </p:nvSpPr>
            <p:spPr>
              <a:xfrm>
                <a:off x="6300720" y="2421000"/>
                <a:ext cx="15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2"/>
              <p:cNvSpPr txBox="1"/>
              <p:nvPr/>
            </p:nvSpPr>
            <p:spPr>
              <a:xfrm>
                <a:off x="4210200" y="3716280"/>
                <a:ext cx="1801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4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6"/>
              <p:cNvSpPr txBox="1"/>
              <p:nvPr/>
            </p:nvSpPr>
            <p:spPr>
              <a:xfrm>
                <a:off x="6348240" y="3708360"/>
                <a:ext cx="1103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8"/>
          <p:cNvSpPr/>
          <p:nvPr/>
        </p:nvSpPr>
        <p:spPr>
          <a:xfrm>
            <a:off x="6153120" y="42148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berlaku P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10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Materi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si (Bagian Real dan Bagian Imajin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dan Kekontin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Harmo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Ele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92F-03BB-4A90-8BA6-E2EE9D97EC1C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49AD73F6-79FE-44E6-BF46-AA622CB767C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712-9BF9-4282-863B-E88BA4C9FB9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31FF6BC5-1AE2-4F0B-A612-729FFD00E53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kah fungsi berikut diferensiabel di nilai yang diberikan ? Bila ya, tentukan nilai turunan di nilai terse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f(z) =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) / ( z – i) di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f(z)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 + ix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z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f(z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ilah titik yang menyebabkab fungsi berikut tidak diferensi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3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(2z + i)/ 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53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 ( x + 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+ i( 2y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143000" y="3643200"/>
          <a:ext cx="33829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643200"/>
                    <a:ext cx="338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bagian riil dan imajiner suatu fungsi kompl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ahasiswa mampu mencari turunan fungsi kompleks berikut kontinuitas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yarat Kelulusan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95B5-20EA-4B6F-B020-CB6687044FC0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30B7E03C-AB1B-4265-8F88-D2E1D833720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924F-2B80-47F7-A933-7F464A26F3C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5245BC0D-3313-4233-A304-EBBA0AA8A87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1525680"/>
            <a:ext cx="77868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engerti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otasi (Bagian Real dan Bagian Imajin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mit dan Kekontinu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urun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3BCC-9C45-4EFE-A8BD-AA08523CA94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85941AA-8D1D-4628-B011-4B1E0937D4E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357200" y="2571840"/>
                <a:ext cx="28101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↦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5"/>
          <p:cNvSpPr/>
          <p:nvPr/>
        </p:nvSpPr>
        <p:spPr>
          <a:xfrm>
            <a:off x="714240" y="105840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sub himpunan dari bilangan kompleks ( C ), fungsi kompleks f(z) mengaitkan setiap unsur dari S (Domain ) dengan tepat satu unsur di C ( Range )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-18367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1"/>
              <p:cNvSpPr txBox="1"/>
              <p:nvPr/>
            </p:nvSpPr>
            <p:spPr>
              <a:xfrm>
                <a:off x="1258920" y="4560840"/>
                <a:ext cx="30988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 Box 13"/>
          <p:cNvSpPr/>
          <p:nvPr/>
        </p:nvSpPr>
        <p:spPr>
          <a:xfrm>
            <a:off x="1023840" y="39607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AAB-26D3-49B8-A3C8-9F0FE4791E33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1CD1A7A-100E-40E8-9FC2-274869E9613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asi Fungsi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57160" y="1409760"/>
            <a:ext cx="75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si fungsi kompleks f(z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U(x,y) + i V(x,y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 bila z = x + 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U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i V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z = r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14240" y="372276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ian Real dan bagian Imajin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(x,y) dan U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= bagian real dari f(z),  Re [ f(z) 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x,y) dan V(r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bagian imajiner dari f(z),  Im [ f(z) 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-18367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4D77-0747-487F-9860-D6A58912DDB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DB0D2735-550B-4AF2-8CD4-5D8D9197FEB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90684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toh : Tentukan bagian real dan bagian imajiner dari fung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68360" y="1557360"/>
                <a:ext cx="1655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8"/>
          <p:cNvSpPr/>
          <p:nvPr/>
        </p:nvSpPr>
        <p:spPr>
          <a:xfrm>
            <a:off x="417600" y="2275200"/>
            <a:ext cx="12492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z  = x + 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788000" y="1125360"/>
                <a:ext cx="115236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95280" y="2808360"/>
                <a:ext cx="2374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968400" y="3306600"/>
                <a:ext cx="281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380880" y="4210200"/>
                <a:ext cx="37594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Rectangle 1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5"/>
              <p:cNvSpPr txBox="1"/>
              <p:nvPr/>
            </p:nvSpPr>
            <p:spPr>
              <a:xfrm>
                <a:off x="368280" y="4913280"/>
                <a:ext cx="3051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7"/>
              <p:cNvSpPr txBox="1"/>
              <p:nvPr/>
            </p:nvSpPr>
            <p:spPr>
              <a:xfrm>
                <a:off x="4811760" y="1766880"/>
                <a:ext cx="19209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iθ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2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9"/>
              <p:cNvSpPr txBox="1"/>
              <p:nvPr/>
            </p:nvSpPr>
            <p:spPr>
              <a:xfrm>
                <a:off x="6877080" y="1847880"/>
                <a:ext cx="1366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1"/>
              <p:cNvSpPr txBox="1"/>
              <p:nvPr/>
            </p:nvSpPr>
            <p:spPr>
              <a:xfrm>
                <a:off x="5292720" y="2637000"/>
                <a:ext cx="2808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4859280" y="3500280"/>
                <a:ext cx="33130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26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5"/>
              <p:cNvSpPr txBox="1"/>
              <p:nvPr/>
            </p:nvSpPr>
            <p:spPr>
              <a:xfrm>
                <a:off x="4859280" y="4160880"/>
                <a:ext cx="32799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E1A6-6F89-4414-8D5E-66E50859A37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56DEE691-03E6-47F5-B857-81D0F336358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bagian real [ U(x,y) atau U(r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 dan bagian imajiner [ V(x,y) atau V(r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 dari fung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2z + 1) + i( z – 2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-2i / ( z – i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( r + i)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z) = 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001880" y="4000680"/>
                <a:ext cx="256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1071720" y="4932360"/>
                <a:ext cx="24843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53964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536B-A627-459C-83FF-29EBE43F218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802F8C7-336C-4AAF-AB6A-D4E0DB42BC0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mit dan Kekontinu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73080" y="1111680"/>
            <a:ext cx="712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ari f(z) di z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sama dengan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itulis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973080" y="1628640"/>
                <a:ext cx="2158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1038240" y="2884320"/>
                <a:ext cx="52624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±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30320" y="3676680"/>
                <a:ext cx="4836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1049400" y="4294080"/>
                <a:ext cx="2946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4427640" y="4543560"/>
                <a:ext cx="1800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1140480" y="2420640"/>
            <a:ext cx="184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Book Antiqua"/>
              </a:rPr>
              <a:t>Sifat-sifat lim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13500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09T01:18:32Z</dcterms:modified>
  <cp:revision>93</cp:revision>
  <dc:subject/>
  <dc:title>Slide 1</dc:title>
</cp:coreProperties>
</file>