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EE54-6887-44C5-B4B6-82AC6104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7294-8E00-4CF5-BE83-53691329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( 1 –y 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[x – ( 1 – y )][x + ( 1 – y )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+ y = 1 atau x – y = -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3BDA-D02C-47E9-A13F-44D267E5E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( 1 –y 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[x – ( 1 – y )][x + ( 1 – y )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+ y = 1 atau x – y = -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8DB-9743-445D-ABC9-84DFE777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1F4-1C7C-40A9-8A28-180BFE1E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08F-B1C0-4725-8DA4-C4290251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A5F-4330-4960-A624-67C40C8C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73A-6639-452B-95B7-0DD5AD8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FDE-B7CC-4192-8D4B-A1A68F0C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71A-609A-49EB-BECD-ED6DBA8F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534-9CD7-438C-92EC-6C7A6532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3FF-F08F-4860-BA72-EC2412A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068-484F-4921-AB39-A55CD41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346-F77E-4ABD-9D18-2C37903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194-0D1D-44D5-8D4C-E1003EB8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265440"/>
            <a:ext cx="24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B761-0BAC-404B-9DDB-4BA097577956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3397CB43-66F3-4F49-A029-9692BF2FE87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7DA5-A18B-4438-8BBD-769E62C5206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52B87791-544D-48AE-AAD6-4A7A7A828ED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7" descr=""/>
          <p:cNvPicPr/>
          <p:nvPr/>
        </p:nvPicPr>
        <p:blipFill>
          <a:blip r:embed="rId1"/>
          <a:stretch/>
        </p:blipFill>
        <p:spPr>
          <a:xfrm>
            <a:off x="907920" y="2792520"/>
            <a:ext cx="7523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83A2-560F-4005-BBE9-6CC43EE247CF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F49694B0-7533-423A-99A4-2B498FE818D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mit dan Kekontinu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3500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2"/>
              <p:cNvSpPr txBox="1"/>
              <p:nvPr/>
            </p:nvSpPr>
            <p:spPr>
              <a:xfrm>
                <a:off x="3562200" y="1700280"/>
                <a:ext cx="1873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1116000" y="2908440"/>
                <a:ext cx="7343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Rectangle 14"/>
          <p:cNvSpPr/>
          <p:nvPr/>
        </p:nvSpPr>
        <p:spPr>
          <a:xfrm>
            <a:off x="1116000" y="970560"/>
            <a:ext cx="7272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isal f(z) = U(x,y) + i V(x,y),  z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= x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+ iy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dan w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= u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+ iv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 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, 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4572000" y="2276640"/>
            <a:ext cx="431640" cy="36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1068120" y="4218480"/>
            <a:ext cx="4734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ungsi f(z) dikatakan kontinu di z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b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7"/>
              <p:cNvSpPr txBox="1"/>
              <p:nvPr/>
            </p:nvSpPr>
            <p:spPr>
              <a:xfrm>
                <a:off x="5715000" y="4249800"/>
                <a:ext cx="2016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Rectangle 18"/>
          <p:cNvSpPr/>
          <p:nvPr/>
        </p:nvSpPr>
        <p:spPr>
          <a:xfrm>
            <a:off x="1044720" y="4970520"/>
            <a:ext cx="72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Misal f(z) = U(x,y) + i V(x,y), maka f(z) kontinu di z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) bila dan hanya bila U(x,y) dan V(x,y) kontinu  di  (x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532A-52A3-4D9B-8CFC-BAB9352D7CDD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C714A69E-C53C-4205-B20D-85FA11F0F4C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042920" y="922680"/>
            <a:ext cx="412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dari f(z)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nyatak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116000" y="1413000"/>
                <a:ext cx="29512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Text Box 7"/>
          <p:cNvSpPr/>
          <p:nvPr/>
        </p:nvSpPr>
        <p:spPr>
          <a:xfrm>
            <a:off x="1563480" y="21272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1116000" y="2637000"/>
                <a:ext cx="3672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z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10"/>
          <p:cNvSpPr/>
          <p:nvPr/>
        </p:nvSpPr>
        <p:spPr>
          <a:xfrm>
            <a:off x="1039680" y="3524400"/>
            <a:ext cx="7493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Perhitungan turunan f(z) dengan melihat kemungkinan notasi f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(z) dinyatakan secara eksplisit dalam peubah 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(z) dinyatakan sebag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f(z) = U(x,y) + i V(x,y),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(z) dinyatakan dalam sebag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f(z) = U(r,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) + i V(r,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0" y="36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5882-83B9-43EA-88BA-B7356EF07374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91EB37A2-943B-43C7-9CAC-213447BC0E6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971640" y="981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(z) dinyatakan secara eksplisit dalam peubah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1116000" y="1989000"/>
                <a:ext cx="1720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2"/>
              <p:cNvSpPr txBox="1"/>
              <p:nvPr/>
            </p:nvSpPr>
            <p:spPr>
              <a:xfrm>
                <a:off x="1103400" y="3141720"/>
                <a:ext cx="3324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3"/>
              <p:cNvSpPr txBox="1"/>
              <p:nvPr/>
            </p:nvSpPr>
            <p:spPr>
              <a:xfrm>
                <a:off x="1116000" y="4086360"/>
                <a:ext cx="3479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r>
                      <m:t xml:space="preserve">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g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4"/>
              <p:cNvSpPr txBox="1"/>
              <p:nvPr/>
            </p:nvSpPr>
            <p:spPr>
              <a:xfrm>
                <a:off x="1116000" y="4824360"/>
                <a:ext cx="3600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g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0" y="36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047600" y="1436760"/>
            <a:ext cx="46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us turunan yang digunak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5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78C-0941-49FE-8680-596161F37CF2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CDBEA72E-D23A-4D46-892A-33B3BF4B724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395280" y="2060640"/>
                <a:ext cx="1655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2"/>
              <p:cNvSpPr txBox="1"/>
              <p:nvPr/>
            </p:nvSpPr>
            <p:spPr>
              <a:xfrm>
                <a:off x="395280" y="2492280"/>
                <a:ext cx="1512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236520" y="1484280"/>
                <a:ext cx="2408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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50920" y="3141720"/>
                <a:ext cx="17398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/>
                          <m: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Rectangle 6"/>
          <p:cNvSpPr/>
          <p:nvPr/>
        </p:nvSpPr>
        <p:spPr>
          <a:xfrm>
            <a:off x="123840" y="1059480"/>
            <a:ext cx="47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toh : Tentukan turunan pertama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5240160" y="2214720"/>
                <a:ext cx="269568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rad>
                      </m:den>
                    </m:f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z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4"/>
              <p:cNvSpPr txBox="1"/>
              <p:nvPr/>
            </p:nvSpPr>
            <p:spPr>
              <a:xfrm>
                <a:off x="5076720" y="1500120"/>
                <a:ext cx="3384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r>
                      <m:t xml:space="preserve">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g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Text Box 16"/>
          <p:cNvSpPr/>
          <p:nvPr/>
        </p:nvSpPr>
        <p:spPr>
          <a:xfrm>
            <a:off x="2193120" y="2095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2193120" y="2600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8"/>
              <p:cNvSpPr txBox="1"/>
              <p:nvPr/>
            </p:nvSpPr>
            <p:spPr>
              <a:xfrm>
                <a:off x="2700360" y="1916280"/>
                <a:ext cx="180036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rad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0"/>
              <p:cNvSpPr txBox="1"/>
              <p:nvPr/>
            </p:nvSpPr>
            <p:spPr>
              <a:xfrm>
                <a:off x="2627280" y="263700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2"/>
              <p:cNvSpPr txBox="1"/>
              <p:nvPr/>
            </p:nvSpPr>
            <p:spPr>
              <a:xfrm>
                <a:off x="4356000" y="4221000"/>
                <a:ext cx="45370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Rectangle 2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4"/>
              <p:cNvSpPr txBox="1"/>
              <p:nvPr/>
            </p:nvSpPr>
            <p:spPr>
              <a:xfrm>
                <a:off x="349200" y="4014720"/>
                <a:ext cx="1486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29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0"/>
              <p:cNvSpPr txBox="1"/>
              <p:nvPr/>
            </p:nvSpPr>
            <p:spPr>
              <a:xfrm>
                <a:off x="4854600" y="3068640"/>
                <a:ext cx="3627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33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2"/>
              <p:cNvSpPr txBox="1"/>
              <p:nvPr/>
            </p:nvSpPr>
            <p:spPr>
              <a:xfrm>
                <a:off x="415800" y="4581360"/>
                <a:ext cx="14194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34"/>
          <p:cNvSpPr/>
          <p:nvPr/>
        </p:nvSpPr>
        <p:spPr>
          <a:xfrm>
            <a:off x="2046240" y="411156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’(z) = 2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5"/>
          <p:cNvSpPr/>
          <p:nvPr/>
        </p:nvSpPr>
        <p:spPr>
          <a:xfrm>
            <a:off x="2046240" y="46879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’(z) = 2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7F84-41ED-4DAA-8ED4-C194BF331B4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AED7878-687D-4193-B237-7EA91FD51D0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ukan turunan pertama dari fung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2i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z + 2i) / ( i – 2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3 + iz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ilah nilai turunan pertama di nilai yang diberik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i/(z +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z = 1 – 2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i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z = 2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z – zi) / (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) di z = -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BBEE-29B7-4F6E-BE29-CE6179DD4A96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1B7556A7-17AD-46B6-83E3-B4E27558014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26920" y="1077840"/>
            <a:ext cx="5832720" cy="398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z) dinyatakan sebagai  f(z) = U(x,y) + i V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755640" y="2637000"/>
                <a:ext cx="34560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</m:t>
                        </m:r>
                      </m:e>
                      <m:e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Rectangle 12"/>
          <p:cNvSpPr/>
          <p:nvPr/>
        </p:nvSpPr>
        <p:spPr>
          <a:xfrm>
            <a:off x="682560" y="1773360"/>
            <a:ext cx="7129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U(x,y) + i V(x,y) dapat diturunkan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i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la berlaku Persamaan Cauchy Riemann (PCR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773280" y="4941720"/>
                <a:ext cx="5670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5"/>
          <p:cNvSpPr/>
          <p:nvPr/>
        </p:nvSpPr>
        <p:spPr>
          <a:xfrm rot="5400000">
            <a:off x="1402560" y="4077360"/>
            <a:ext cx="720720" cy="28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6"/>
          <p:cNvSpPr/>
          <p:nvPr/>
        </p:nvSpPr>
        <p:spPr>
          <a:xfrm>
            <a:off x="5133240" y="3873600"/>
            <a:ext cx="2107080" cy="430560"/>
          </a:xfrm>
          <a:prstGeom prst="wedgeRoundRectCallout">
            <a:avLst>
              <a:gd name="adj1" fmla="val -89268"/>
              <a:gd name="adj2" fmla="val -19235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par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34C-63D1-4C0C-AF62-F6F36F6E0804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D1BE8FCC-5871-4336-A05B-5A31698928A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036440" y="907920"/>
            <a:ext cx="44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f(z) dapat diturunkan di z = 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1116000" y="1268280"/>
                <a:ext cx="15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3"/>
              <p:cNvSpPr txBox="1"/>
              <p:nvPr/>
            </p:nvSpPr>
            <p:spPr>
              <a:xfrm>
                <a:off x="2514600" y="1235160"/>
                <a:ext cx="2274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Rectangle 1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5"/>
              <p:cNvSpPr txBox="1"/>
              <p:nvPr/>
            </p:nvSpPr>
            <p:spPr>
              <a:xfrm>
                <a:off x="1116000" y="1916280"/>
                <a:ext cx="19447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3276720" y="1916280"/>
                <a:ext cx="208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1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8"/>
              <p:cNvSpPr txBox="1"/>
              <p:nvPr/>
            </p:nvSpPr>
            <p:spPr>
              <a:xfrm>
                <a:off x="1189080" y="2523960"/>
                <a:ext cx="18716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Rectangle 19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0"/>
              <p:cNvSpPr txBox="1"/>
              <p:nvPr/>
            </p:nvSpPr>
            <p:spPr>
              <a:xfrm>
                <a:off x="3348000" y="2492280"/>
                <a:ext cx="216072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Rectangle 21"/>
          <p:cNvSpPr/>
          <p:nvPr/>
        </p:nvSpPr>
        <p:spPr>
          <a:xfrm>
            <a:off x="1183320" y="370116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i ( x = 0 dan y = 1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1118160" y="4149720"/>
            <a:ext cx="3111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s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sin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i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25"/>
              <p:cNvSpPr txBox="1"/>
              <p:nvPr/>
            </p:nvSpPr>
            <p:spPr>
              <a:xfrm>
                <a:off x="1257480" y="5084640"/>
                <a:ext cx="3601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AutoShape 26"/>
          <p:cNvSpPr/>
          <p:nvPr/>
        </p:nvSpPr>
        <p:spPr>
          <a:xfrm>
            <a:off x="5651640" y="4005360"/>
            <a:ext cx="1295280" cy="574560"/>
          </a:xfrm>
          <a:prstGeom prst="wedgeRoundRectCallout">
            <a:avLst>
              <a:gd name="adj1" fmla="val -163972"/>
              <a:gd name="adj2" fmla="val -62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x + 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C8D8-F4EC-4537-9194-402AB86EE655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C67FDBCE-A2AD-409F-BE91-B715AD70843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1117440" y="1413000"/>
                <a:ext cx="1584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6"/>
          <p:cNvSpPr/>
          <p:nvPr/>
        </p:nvSpPr>
        <p:spPr>
          <a:xfrm>
            <a:off x="1039680" y="944640"/>
            <a:ext cx="44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f(z) dapat diturunkan di z = 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2774880" y="1413000"/>
                <a:ext cx="2232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9"/>
              <p:cNvSpPr txBox="1"/>
              <p:nvPr/>
            </p:nvSpPr>
            <p:spPr>
              <a:xfrm>
                <a:off x="1177920" y="1998720"/>
                <a:ext cx="18241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3422520" y="1998720"/>
                <a:ext cx="1798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4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3"/>
              <p:cNvSpPr txBox="1"/>
              <p:nvPr/>
            </p:nvSpPr>
            <p:spPr>
              <a:xfrm>
                <a:off x="1211400" y="2492280"/>
                <a:ext cx="19015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Rectangle 16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5"/>
              <p:cNvSpPr txBox="1"/>
              <p:nvPr/>
            </p:nvSpPr>
            <p:spPr>
              <a:xfrm>
                <a:off x="3494160" y="2492280"/>
                <a:ext cx="1728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Rectangle 17"/>
          <p:cNvSpPr/>
          <p:nvPr/>
        </p:nvSpPr>
        <p:spPr>
          <a:xfrm>
            <a:off x="1072080" y="369468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i ( x = 0 dan y =1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1127160" y="4251240"/>
                <a:ext cx="2862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6"/>
          <p:cNvGrpSpPr/>
          <p:nvPr/>
        </p:nvGrpSpPr>
        <p:grpSpPr>
          <a:xfrm>
            <a:off x="4284720" y="4292640"/>
            <a:ext cx="1224000" cy="504720"/>
            <a:chOff x="4284720" y="4292640"/>
            <a:chExt cx="1224000" cy="504720"/>
          </a:xfrm>
        </p:grpSpPr>
        <p:sp>
          <p:nvSpPr>
            <p:cNvPr id="267" name="AutoShape 20"/>
            <p:cNvSpPr/>
            <p:nvPr/>
          </p:nvSpPr>
          <p:spPr>
            <a:xfrm>
              <a:off x="4284720" y="4292640"/>
              <a:ext cx="1224000" cy="504720"/>
            </a:xfrm>
            <a:prstGeom prst="wedgeRoundRectCallout">
              <a:avLst>
                <a:gd name="adj1" fmla="val -81518"/>
                <a:gd name="adj2" fmla="val 282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24"/>
                <p:cNvSpPr txBox="1"/>
                <p:nvPr/>
              </p:nvSpPr>
              <p:spPr>
                <a:xfrm>
                  <a:off x="4357800" y="4363920"/>
                  <a:ext cx="10810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≠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Text Box 27"/>
          <p:cNvSpPr/>
          <p:nvPr/>
        </p:nvSpPr>
        <p:spPr>
          <a:xfrm>
            <a:off x="1166400" y="51516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dapat diturunkan di z =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28"/>
          <p:cNvCxnSpPr>
            <a:endCxn id="269" idx="1"/>
          </p:cNvCxnSpPr>
          <p:nvPr/>
        </p:nvCxnSpPr>
        <p:spPr>
          <a:xfrm flipH="1" flipV="1" rot="10800000">
            <a:off x="1117080" y="1661760"/>
            <a:ext cx="53280" cy="3688560"/>
          </a:xfrm>
          <a:prstGeom prst="bentConnector3">
            <a:avLst>
              <a:gd name="adj1" fmla="val -30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1" name="Rectangle 3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7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9"/>
          <p:cNvSpPr/>
          <p:nvPr/>
        </p:nvSpPr>
        <p:spPr>
          <a:xfrm>
            <a:off x="5396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0020-50C1-4B11-9048-8EC577E1222E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77A5E810-F84F-4F36-8CEE-CA9DE5C5B1B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971640" y="10785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arilah semua titik sehingga f(z) dapat diturun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5"/>
              <p:cNvSpPr txBox="1"/>
              <p:nvPr/>
            </p:nvSpPr>
            <p:spPr>
              <a:xfrm>
                <a:off x="1547640" y="1566720"/>
                <a:ext cx="2127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9" name="Rectangle 2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27"/>
              <p:cNvSpPr txBox="1"/>
              <p:nvPr/>
            </p:nvSpPr>
            <p:spPr>
              <a:xfrm>
                <a:off x="1568520" y="2066760"/>
                <a:ext cx="1366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Rectangle 2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9"/>
              <p:cNvSpPr txBox="1"/>
              <p:nvPr/>
            </p:nvSpPr>
            <p:spPr>
              <a:xfrm>
                <a:off x="3151080" y="2116080"/>
                <a:ext cx="2016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Rectangle 30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31"/>
              <p:cNvSpPr txBox="1"/>
              <p:nvPr/>
            </p:nvSpPr>
            <p:spPr>
              <a:xfrm>
                <a:off x="1568520" y="2565360"/>
                <a:ext cx="11509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Rectangle 32"/>
          <p:cNvSpPr/>
          <p:nvPr/>
        </p:nvSpPr>
        <p:spPr>
          <a:xfrm>
            <a:off x="5396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3"/>
              <p:cNvSpPr txBox="1"/>
              <p:nvPr/>
            </p:nvSpPr>
            <p:spPr>
              <a:xfrm>
                <a:off x="3276720" y="2674800"/>
                <a:ext cx="162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Rectangle 3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35"/>
              <p:cNvSpPr txBox="1"/>
              <p:nvPr/>
            </p:nvSpPr>
            <p:spPr>
              <a:xfrm>
                <a:off x="1628640" y="3860640"/>
                <a:ext cx="3179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36"/>
          <p:cNvSpPr/>
          <p:nvPr/>
        </p:nvSpPr>
        <p:spPr>
          <a:xfrm>
            <a:off x="1711440" y="465192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dapat diturunkan di titik yang memenuhi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= 1 atau x – y = 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1559520" y="3500280"/>
            <a:ext cx="334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n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8"/>
          <p:cNvSpPr/>
          <p:nvPr/>
        </p:nvSpPr>
        <p:spPr>
          <a:xfrm>
            <a:off x="1639800" y="4581360"/>
            <a:ext cx="3456000" cy="1224000"/>
          </a:xfrm>
          <a:prstGeom prst="wedgeRoundRectCallout">
            <a:avLst>
              <a:gd name="adj1" fmla="val -21935"/>
              <a:gd name="adj2" fmla="val -73087"/>
              <a:gd name="adj3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( y - 1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[x –(y – 1)][x + (y - 1)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- y = -1 atau x +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51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3EBD-5F96-4879-93F3-B866975F4311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F823DDA7-0960-418E-A371-94301871E7D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752040" y="925920"/>
            <a:ext cx="2815560" cy="703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z) dinyatakan sebag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z) = U(r,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+ i V(r,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250920" y="2349360"/>
                <a:ext cx="3168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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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9" name="Rectangle 7"/>
          <p:cNvSpPr/>
          <p:nvPr/>
        </p:nvSpPr>
        <p:spPr>
          <a:xfrm>
            <a:off x="177120" y="182952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dalam koordinat pol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174240" y="321228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dari f(z) dinyatak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324000" y="3716280"/>
                <a:ext cx="3012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θ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Rectangle 12"/>
          <p:cNvSpPr/>
          <p:nvPr/>
        </p:nvSpPr>
        <p:spPr>
          <a:xfrm>
            <a:off x="4001760" y="838800"/>
            <a:ext cx="430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toh : f(z) diferensiabel di z = 1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1"/>
              <p:cNvSpPr txBox="1"/>
              <p:nvPr/>
            </p:nvSpPr>
            <p:spPr>
              <a:xfrm>
                <a:off x="4211640" y="1341360"/>
                <a:ext cx="1944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5" name="Rectangle 1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4"/>
              <p:cNvSpPr txBox="1"/>
              <p:nvPr/>
            </p:nvSpPr>
            <p:spPr>
              <a:xfrm>
                <a:off x="6156360" y="1484280"/>
                <a:ext cx="2600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16"/>
          <p:cNvSpPr/>
          <p:nvPr/>
        </p:nvSpPr>
        <p:spPr>
          <a:xfrm>
            <a:off x="4134240" y="190080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 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= 1 + r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6728400" y="191520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( 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=    -r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2"/>
          <p:cNvSpPr/>
          <p:nvPr/>
        </p:nvSpPr>
        <p:spPr>
          <a:xfrm>
            <a:off x="1800" y="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0" y="9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0" y="12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1800" y="1605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133880" y="324720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 z = 1 ( r = 1 d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= 0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7"/>
              <p:cNvSpPr txBox="1"/>
              <p:nvPr/>
            </p:nvSpPr>
            <p:spPr>
              <a:xfrm>
                <a:off x="4788000" y="4149720"/>
                <a:ext cx="136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Text Box 29"/>
          <p:cNvSpPr/>
          <p:nvPr/>
        </p:nvSpPr>
        <p:spPr>
          <a:xfrm>
            <a:off x="4194720" y="5151600"/>
            <a:ext cx="32166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diferensiabel di z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AutoShape 30"/>
          <p:cNvCxnSpPr>
            <a:endCxn id="326" idx="1"/>
          </p:cNvCxnSpPr>
          <p:nvPr/>
        </p:nvCxnSpPr>
        <p:spPr>
          <a:xfrm flipV="1" rot="10800000">
            <a:off x="4191840" y="1617480"/>
            <a:ext cx="19800" cy="3737520"/>
          </a:xfrm>
          <a:prstGeom prst="bentConnector3">
            <a:avLst>
              <a:gd name="adj1" fmla="val 130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8" name="Rectangle 3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34"/>
              <p:cNvSpPr txBox="1"/>
              <p:nvPr/>
            </p:nvSpPr>
            <p:spPr>
              <a:xfrm>
                <a:off x="4211640" y="2421000"/>
                <a:ext cx="12952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3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36"/>
              <p:cNvSpPr txBox="1"/>
              <p:nvPr/>
            </p:nvSpPr>
            <p:spPr>
              <a:xfrm>
                <a:off x="4211640" y="2846520"/>
                <a:ext cx="16556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Rectangle 3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38"/>
              <p:cNvSpPr txBox="1"/>
              <p:nvPr/>
            </p:nvSpPr>
            <p:spPr>
              <a:xfrm>
                <a:off x="6330960" y="2857680"/>
                <a:ext cx="1666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4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0"/>
              <p:cNvSpPr txBox="1"/>
              <p:nvPr/>
            </p:nvSpPr>
            <p:spPr>
              <a:xfrm>
                <a:off x="6300720" y="2421000"/>
                <a:ext cx="15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2"/>
              <p:cNvSpPr txBox="1"/>
              <p:nvPr/>
            </p:nvSpPr>
            <p:spPr>
              <a:xfrm>
                <a:off x="4210200" y="3716280"/>
                <a:ext cx="1801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4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6"/>
              <p:cNvSpPr txBox="1"/>
              <p:nvPr/>
            </p:nvSpPr>
            <p:spPr>
              <a:xfrm>
                <a:off x="6348240" y="3708360"/>
                <a:ext cx="1103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48"/>
          <p:cNvSpPr/>
          <p:nvPr/>
        </p:nvSpPr>
        <p:spPr>
          <a:xfrm>
            <a:off x="6153120" y="42148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berlaku P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10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Materi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er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si (Bagian Real dan Bagian Imaji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dan Kekontin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u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Ana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Harmo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Elem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DCA-1565-4735-9143-CFD9D6DEE154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089A8633-3E9B-41FF-A146-A28EA0E5B42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1E57-22FD-4379-B9A4-6CD08A7EE5B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84F037A-FCA7-46C6-9AF4-155A14FF17E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kah fungsi berikut diferensiabel di nilai yang diberikan ? Bila ya, tentukan nilai turunan di nilai terse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(z) = (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) / ( z – i) di z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f(z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 + ix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z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f(z)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i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z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lah titik yang menyebabkab fungsi berikut tidak diferensi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3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(2z + i)/ (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3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 ( x + 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+ i( 2y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1143000" y="3643200"/>
          <a:ext cx="338292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43200"/>
                    <a:ext cx="3382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ASARAN PEMBELAJAR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ncari bagian riil dan imajiner suatu fungsi kompl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ncari turunan fungsi kompleks berikut kontinuitasn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yarat Kelulusan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DD9D-F41F-448F-833B-1E6EAD07F80E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540BE207-94C0-4721-96CE-2EAF66126EC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3016-18BA-46BC-AC2B-4BF658EF839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D3A6774C-C00B-4BDA-B0BE-C395A978FB7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14240" y="1525680"/>
            <a:ext cx="77868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ngerti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otasi (Bagian Real dan Bagian Imajine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mit dan Kekontinu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urun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DEF4-51F4-4A8A-BC28-1EF77D4DBEC5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76AEE00A-326D-4524-96D1-839CDF687A2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357200" y="2571840"/>
                <a:ext cx="28101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↦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Rectangle 5"/>
          <p:cNvSpPr/>
          <p:nvPr/>
        </p:nvSpPr>
        <p:spPr>
          <a:xfrm>
            <a:off x="714240" y="105840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sub himpunan dari bilangan kompleks ( C ), fungsi kompleks f(z) mengaitkan setiap unsur dari S (Domain ) dengan tepat satu unsur di C ( Range )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-18367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1"/>
              <p:cNvSpPr txBox="1"/>
              <p:nvPr/>
            </p:nvSpPr>
            <p:spPr>
              <a:xfrm>
                <a:off x="1258920" y="4560840"/>
                <a:ext cx="3098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Text Box 13"/>
          <p:cNvSpPr/>
          <p:nvPr/>
        </p:nvSpPr>
        <p:spPr>
          <a:xfrm>
            <a:off x="1023840" y="39607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3E7E-A5CA-4447-B2F3-4411A20D0C8F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6AF4A21-F11E-4AE7-9148-CEB9BB5F0A1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asi Fungsi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57160" y="1409760"/>
            <a:ext cx="757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si fungsi kompleks f(z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U(x,y) + i V(x,y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 bila z = x + i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U(r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i V(r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z = r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14240" y="372276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ian Real dan bagian Imajin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(x,y) dan U(r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= bagian real dari f(z),  Re [ f(z) 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x,y) dan V(r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bagian imajiner dari f(z),  Im [ f(z) 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-18367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2E58-92B4-4177-B78E-C93855B0C534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1EB73AB2-0EE7-4D66-BAE1-37FFA8A6748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90684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ntoh : Tentukan bagian real dan bagian imajiner dari fung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468360" y="1557360"/>
                <a:ext cx="1655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8"/>
          <p:cNvSpPr/>
          <p:nvPr/>
        </p:nvSpPr>
        <p:spPr>
          <a:xfrm>
            <a:off x="417600" y="2275200"/>
            <a:ext cx="12492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z  = x + 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788000" y="1125360"/>
                <a:ext cx="1152360" cy="5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95280" y="2808360"/>
                <a:ext cx="2374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968400" y="3306600"/>
                <a:ext cx="2814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Rectangle 1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380880" y="4210200"/>
                <a:ext cx="37594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5"/>
              <p:cNvSpPr txBox="1"/>
              <p:nvPr/>
            </p:nvSpPr>
            <p:spPr>
              <a:xfrm>
                <a:off x="368280" y="4913280"/>
                <a:ext cx="3051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7"/>
              <p:cNvSpPr txBox="1"/>
              <p:nvPr/>
            </p:nvSpPr>
            <p:spPr>
              <a:xfrm>
                <a:off x="4811760" y="1766880"/>
                <a:ext cx="19209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iθ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Rectangle 2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9"/>
              <p:cNvSpPr txBox="1"/>
              <p:nvPr/>
            </p:nvSpPr>
            <p:spPr>
              <a:xfrm>
                <a:off x="6877080" y="1847880"/>
                <a:ext cx="1366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1"/>
              <p:cNvSpPr txBox="1"/>
              <p:nvPr/>
            </p:nvSpPr>
            <p:spPr>
              <a:xfrm>
                <a:off x="5292720" y="2637000"/>
                <a:ext cx="2808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3"/>
              <p:cNvSpPr txBox="1"/>
              <p:nvPr/>
            </p:nvSpPr>
            <p:spPr>
              <a:xfrm>
                <a:off x="4859280" y="3500280"/>
                <a:ext cx="33130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2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5"/>
              <p:cNvSpPr txBox="1"/>
              <p:nvPr/>
            </p:nvSpPr>
            <p:spPr>
              <a:xfrm>
                <a:off x="4859280" y="4160880"/>
                <a:ext cx="32799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226-BCAA-43C9-B17A-B07DAC76506A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636E48E-F52F-4AD8-A524-3D44CD4D677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bagian real [ U(x,y) atau U(r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 dan bagian imajiner [ V(x,y) atau V(r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 dari fung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2z + 1) + i( z – 2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-2i / ( z – i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r + i)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001880" y="4000680"/>
                <a:ext cx="25621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1071720" y="4932360"/>
                <a:ext cx="24843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4DD6-47E4-48E7-B874-61C28EA94D5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CB27AC85-F7F2-4D3B-874D-66A9ACFB773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mit dan Kekontinu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973080" y="1111680"/>
            <a:ext cx="712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dari f(z) di z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sama dengan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itulisk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973080" y="1628640"/>
                <a:ext cx="21589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1038240" y="2884320"/>
                <a:ext cx="52624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±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1030320" y="3676680"/>
                <a:ext cx="4836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1049400" y="4294080"/>
                <a:ext cx="2946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4427640" y="4543560"/>
                <a:ext cx="1800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1"/>
          <p:cNvSpPr/>
          <p:nvPr/>
        </p:nvSpPr>
        <p:spPr>
          <a:xfrm>
            <a:off x="1140480" y="2420640"/>
            <a:ext cx="184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Book Antiqua"/>
              </a:rPr>
              <a:t>Sifat-sifat limi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3500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09T01:18:32Z</dcterms:modified>
  <cp:revision>93</cp:revision>
  <dc:subject/>
  <dc:title>Slide 1</dc:title>
</cp:coreProperties>
</file>