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DDE-74FE-40C4-8FD1-6D8421B2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7AA-D707-46C3-B7F4-8CE3AA0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A02-CA4A-4B0B-9A05-317FFFDA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116-0CF4-4250-B673-116BD65E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DB3-4D2A-4288-B86A-7AF8481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B2C-9C3C-46AC-BBFF-F73999E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D0E-6B25-409B-BA92-AC2A001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D70-C7BA-4AEB-A1FF-B00A1D85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D60-28DB-4533-B60A-3F18F21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957-2F07-49A3-9A50-2B5A7DB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3D1-598E-45AD-96F0-7CB4F16A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7ED-8520-45B8-81C6-F82C4A9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0005C-6526-4D9D-99C5-31F78379A8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37A11-D847-4EDF-AC09-AD48FC58044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7:10:27Z</dcterms:created>
  <dc:creator>최봉수</dc:creator>
  <dc:description/>
  <dc:language>en-US</dc:language>
  <cp:lastModifiedBy>맛있다 군만두</cp:lastModifiedBy>
  <dcterms:modified xsi:type="dcterms:W3CDTF">2023-07-13T08:18:23Z</dcterms:modified>
  <cp:revision>4</cp:revision>
  <dc:subject/>
  <dc:title>슬라이드 1</dc:title>
</cp:coreProperties>
</file>