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BF2-6A7F-4083-A3DF-1481974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06E-406A-449C-8A41-D6286291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A26-5EFD-4D78-B80A-9553FC88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D71-6578-413A-AB69-B59E4FF5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150-35A6-4B6D-9533-1032FFA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D2E-CB80-4B00-A418-B56291D1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02D-C185-41AA-9CA1-49D5FCC0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245-1964-4E91-95A9-B7094C3E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1C2-4650-454B-8759-5223E27D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117-D7ED-4774-8A4D-83C4F8B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6B8-A9AF-4D27-B0DC-40A0881E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5C5-774F-4495-B006-EF05646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0EDDB-22F0-4359-B432-1F32CBA103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3DFAC-7E8B-4940-A24C-875BECB8810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7:10:27Z</dcterms:created>
  <dc:creator>최봉수</dc:creator>
  <dc:description/>
  <dc:language>en-US</dc:language>
  <cp:lastModifiedBy>맛있다 군만두</cp:lastModifiedBy>
  <dcterms:modified xsi:type="dcterms:W3CDTF">2023-07-13T08:18:23Z</dcterms:modified>
  <cp:revision>4</cp:revision>
  <dc:subject/>
  <dc:title>슬라이드 1</dc:title>
</cp:coreProperties>
</file>