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Click to move the slide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: measurable organizational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: measurable organizational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FC85-5CB1-4F23-944D-9F994C1BF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277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D2CE-B4CF-4863-B77F-EC3E82963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F2CD-A4DE-40D3-9424-D702B55EF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F5E0-2614-4B17-982F-2A724DB08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E254-36F7-468B-B137-F00576E7A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7768-76D9-431D-BB11-5F59EFBBC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0DAF-5AD8-42B9-8914-7050E7E6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50B1-4F5E-4210-92A5-BA5C4CDA4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C290-F728-4FC8-AE57-74E77737F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7C48-4F8C-4F36-80EC-714797124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59FC-40BF-44FD-97E8-5594C7963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B53A-9EDC-4B40-8561-59E6C15D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1" marL="731880" indent="-28584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2" marL="11318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3" marL="15890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4" marL="20462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564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582-DE3D-425F-8D15-DD5E81D547A8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F398-2C13-4B65-93A0-65D283C30B0F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Cours 12 – Ingénierie de la qualité du système TI et la gestion de projet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0" y="76320"/>
            <a:ext cx="3048120" cy="41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3DC-A051-4844-A19F-37D55D015811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41200" y="1843200"/>
            <a:ext cx="8623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Ingénierie de la qualité du système TI</a:t>
            </a:r>
            <a:br>
              <a:rPr sz="3700"/>
            </a:b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MGL 842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10" descr="WhatsApp Image 2016-11-27 at 18.39.03.jpeg"/>
          <p:cNvPicPr/>
          <p:nvPr/>
        </p:nvPicPr>
        <p:blipFill>
          <a:blip r:embed="rId2"/>
          <a:stretch/>
        </p:blipFill>
        <p:spPr>
          <a:xfrm>
            <a:off x="6858000" y="14292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0D9A-E7A3-422C-8C66-AA8811C978D2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0280" y="-129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0063"/>
                </a:solidFill>
                <a:latin typeface="Arial Bold"/>
              </a:rPr>
              <a:t>Plan de qualité: Software Quality Assurance Plan</a:t>
            </a:r>
            <a:endParaRPr b="0" lang="en-US" sz="25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977760"/>
            <a:ext cx="8001000" cy="490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Purpose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eference docu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Manage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Documenta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Standards, practices, convention, and metric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Software Review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Tes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Problem reporting and corrective ac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Tools, techniques, and methodologie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Media control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Supplier control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ecords collection, maintenance, and reten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Training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isk manage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Glossary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SQAP change procedure and history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93C-84C6-4642-9816-A4992BBC1FCD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96880" y="1219320"/>
            <a:ext cx="77724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Description of organization, task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EEE Std 1058 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structure tha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luences and contr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he quality of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dependence 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f SQA from develop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asks – This secti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shall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 descri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ion of lifecycle covered by SQ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sks to be perfo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and exit criteria for each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s between tasks and checkpoints, sequence of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elements responsible for each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Quality assurance estim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 the estimate of resources and the costs to be expended 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 as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 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as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5040" y="2412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063"/>
                </a:solidFill>
                <a:latin typeface="Arial Bold"/>
              </a:rPr>
              <a:t>Content of SQAP -Section 3: Management</a:t>
            </a:r>
            <a:endParaRPr b="0" lang="en-US" sz="28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328-CDC3-495C-862A-59DDB00D3D0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91960" y="1092240"/>
            <a:ext cx="86108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ument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govern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he development, verification and validation, use, and maintenance of the softw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st which documents are to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ew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di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or each document listed,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 the reviews or audi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to be conducted and th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by which adequacy is to be confirm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Documentation Requir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Requirements Description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) (e.g. IEEE 830- S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Description (SDD), IEEE 101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and Validation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, e.g. IEEE 829, 101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results report and Validation result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or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documentation, IEEE 106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figuration Manag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Plan (SCMP), IEEE 82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ther documents - may includ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ment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andards and Procedures Man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safety plans (IEEE Std 122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63640" y="2030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0063"/>
                </a:solidFill>
                <a:latin typeface="Arial Bold"/>
              </a:rPr>
              <a:t>Content of SQAP -Section 4: Documentation</a:t>
            </a:r>
            <a:endParaRPr b="0" lang="en-US" sz="2700" spc="-1" strike="noStrike">
              <a:solidFill>
                <a:srgbClr val="200063"/>
              </a:solidFill>
              <a:latin typeface="Arial Bold"/>
            </a:endParaRPr>
          </a:p>
        </p:txBody>
      </p:sp>
      <p:pic>
        <p:nvPicPr>
          <p:cNvPr id="262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7000920" y="535788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142-529F-4855-9EA1-EDD4ABE8453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07960" y="1536840"/>
            <a:ext cx="80773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e IEEE 10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f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Managerial and Technica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ews, walkthrough, inspec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st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f reviews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o project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views and audits shall be accomplish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ate wha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rther ac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hall be required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hey shall be implemented and veri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quire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rement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view (SRR)</a:t>
            </a:r>
            <a:r>
              <a:rPr b="0" lang="en-US" sz="1700" spc="-1" strike="noStrike">
                <a:solidFill>
                  <a:srgbClr val="ff0066"/>
                </a:solidFill>
                <a:latin typeface="Arial"/>
                <a:ea typeface="Arial"/>
              </a:rPr>
              <a:t>*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rchitecture Design Review (AD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tailed  Design Review (DD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and validation plan re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7000" y="24084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00063"/>
                </a:solidFill>
                <a:latin typeface="Arial Bold"/>
              </a:rPr>
              <a:t>Content of SQAP - Section 6: Software Reviews </a:t>
            </a:r>
            <a:endParaRPr b="0" lang="en-US" sz="31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640F-2728-477F-B992-97119642AD7D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93840" y="1295280"/>
            <a:ext cx="8001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quirements (co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a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 requireme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in the SRS have bee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a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ftwar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ument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re internall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istent and ready for deliv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-Pro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istenc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of desig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de versus desig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terface specif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sign implementation versus functional requi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ctional requirements versus test descrip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1015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00063"/>
                </a:solidFill>
                <a:latin typeface="Arial Bold"/>
              </a:rPr>
              <a:t>Content of SQAP - Section 6: Software Reviews (cont)</a:t>
            </a:r>
            <a:endParaRPr b="0" lang="en-US" sz="31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4A2-8177-4FE0-9704-DCF20575A8E5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71680" y="1308240"/>
            <a:ext cx="77724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requirements (co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rial re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assess the execution of all actions of SQ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oftware Configuration Management Plan Re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evaluate the adequacy and completeness of CM methods defined in SC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st-Implementation re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assess development activities and provide recommendations for appropriate a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Oth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.g. User Documentation Review (UD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87320" y="-51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0063"/>
                </a:solidFill>
                <a:latin typeface="Arial Bold"/>
              </a:rPr>
              <a:t>Content of SQAP - Section 6: Software Reviews (cont)</a:t>
            </a:r>
            <a:endParaRPr b="0" lang="en-US" sz="30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227-DF52-4630-B16C-E1AF884AA52A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ouvoir décisionnel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Qualité sans pouvoir décisionnel n’existe pa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Qualité dans la version “ingénierie” peut être perçue comme un grand “dérangement”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Réalisation de l'ingénierie de la qualité peut demander en haut niveau de “people management skills”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ric, fric, fric...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A1CD-CC65-4C1D-91EC-681E053A5D00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ouvoir décisionnel (?)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f67"/>
                </a:solidFill>
                <a:latin typeface="Arial Bold"/>
              </a:rPr>
              <a:t>1.le produit avec la qualité faible pouvant poser en risque pour l’utilisateur et votre compagnie est en préparation pour le lancement au marche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f67"/>
                </a:solidFill>
                <a:latin typeface="Arial Bold"/>
              </a:rPr>
              <a:t>2. Vos protestes sont ignoré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40800"/>
                </a:solidFill>
                <a:latin typeface="Arial Bold"/>
              </a:rPr>
              <a:t>Que faites-vous?</a:t>
            </a:r>
            <a:endParaRPr b="0" lang="en-US" sz="40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320E-8610-4D50-AEED-AB5D7C95AE16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rocessus de gestion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Le gestionnaire de projet est le “boss” de l'ingénieur de qualité, donc:</a:t>
            </a:r>
            <a:endParaRPr b="0" lang="en-US" sz="2900" spc="-1" strike="noStrike">
              <a:solidFill>
                <a:srgbClr val="003300"/>
              </a:solidFill>
              <a:latin typeface="Arial Bold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e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budge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” est-il correct de réduire la partie qualité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a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cédul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e” est-il correct de réduire la partie qualité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e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personne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” est-il correct de réduire la partie qualité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a réduction de qualité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augmente le risqu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est-il correcte de permettre au “boss” à continu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Si non, que voulez-vous </a:t>
            </a:r>
            <a:r>
              <a:rPr b="0" lang="en-US" sz="2900" spc="-1" strike="noStrike">
                <a:solidFill>
                  <a:srgbClr val="d90b00"/>
                </a:solidFill>
                <a:latin typeface="Arial Bold"/>
              </a:rPr>
              <a:t>FAIRE?</a:t>
            </a: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   </a:t>
            </a:r>
            <a:endParaRPr b="0" lang="en-US" sz="29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D8FE-5D08-4076-8AE1-649A12598E6D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E8B-5409-4DF6-9B0D-D595659B2131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rocessus de gestion (?)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f67"/>
                </a:solidFill>
                <a:latin typeface="Arial Bold"/>
              </a:rPr>
              <a:t>Si non, que voulez-vous FAIRE?  </a:t>
            </a:r>
            <a:r>
              <a:rPr b="0" lang="en-US" sz="3700" spc="-1" strike="noStrike">
                <a:solidFill>
                  <a:srgbClr val="001f67"/>
                </a:solidFill>
                <a:latin typeface="Arial Bold"/>
              </a:rPr>
              <a:t> </a:t>
            </a:r>
            <a:endParaRPr b="0" lang="en-US" sz="3700" spc="-1" strike="noStrike">
              <a:solidFill>
                <a:srgbClr val="003300"/>
              </a:solidFill>
              <a:latin typeface="Arial Bold"/>
            </a:endParaRPr>
          </a:p>
        </p:txBody>
      </p:sp>
      <p:pic>
        <p:nvPicPr>
          <p:cNvPr id="313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7000920" y="521496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B4E9-CCB3-4C5D-9A42-58712FC1791C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Sujets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L’ingénieur de qualité dans l'équipe de développement - l’ami ou l'ennemi?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risque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Plan de qualité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pouvoir décisionnel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processus de gestion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La periode de verification des projets de recherche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59C-15F5-422A-BAFE-E8B083C876DA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99"/>
                </a:solidFill>
                <a:latin typeface="Arial Bold"/>
              </a:rPr>
              <a:t>Période de consultation des projets de recherche</a:t>
            </a:r>
            <a:r>
              <a:rPr b="0" lang="en-US" sz="4000" spc="-1" strike="noStrike">
                <a:solidFill>
                  <a:srgbClr val="003300"/>
                </a:solidFill>
                <a:latin typeface="Arial Bold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137-5ED3-4FB4-8713-2B0B9FC6DEC7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1"/>
          <p:cNvGrpSpPr/>
          <p:nvPr/>
        </p:nvGrpSpPr>
        <p:grpSpPr>
          <a:xfrm>
            <a:off x="139680" y="1523880"/>
            <a:ext cx="8915040" cy="3794040"/>
            <a:chOff x="139680" y="1523880"/>
            <a:chExt cx="8915040" cy="3794040"/>
          </a:xfrm>
        </p:grpSpPr>
        <p:pic>
          <p:nvPicPr>
            <p:cNvPr id="65" name="Picture 5" descr=""/>
            <p:cNvPicPr/>
            <p:nvPr/>
          </p:nvPicPr>
          <p:blipFill>
            <a:blip r:embed="rId1"/>
            <a:stretch/>
          </p:blipFill>
          <p:spPr>
            <a:xfrm>
              <a:off x="1890720" y="1600200"/>
              <a:ext cx="4954680" cy="37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8"/>
            <p:cNvGrpSpPr/>
            <p:nvPr/>
          </p:nvGrpSpPr>
          <p:grpSpPr>
            <a:xfrm>
              <a:off x="6724800" y="2971800"/>
              <a:ext cx="2101320" cy="668160"/>
              <a:chOff x="6724800" y="2971800"/>
              <a:chExt cx="2101320" cy="668160"/>
            </a:xfrm>
          </p:grpSpPr>
          <p:sp>
            <p:nvSpPr>
              <p:cNvPr id="67" name="AutoShape 6"/>
              <p:cNvSpPr/>
              <p:nvPr/>
            </p:nvSpPr>
            <p:spPr>
              <a:xfrm>
                <a:off x="6724800" y="2971800"/>
                <a:ext cx="2101320" cy="6681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"/>
              <p:cNvSpPr/>
              <p:nvPr/>
            </p:nvSpPr>
            <p:spPr>
              <a:xfrm>
                <a:off x="7135920" y="2984400"/>
                <a:ext cx="162684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SQA Specialis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139680" y="3047760"/>
              <a:ext cx="1808280" cy="858960"/>
              <a:chOff x="139680" y="3047760"/>
              <a:chExt cx="1808280" cy="858960"/>
            </a:xfrm>
          </p:grpSpPr>
          <p:sp>
            <p:nvSpPr>
              <p:cNvPr id="70" name="AutoShape 9"/>
              <p:cNvSpPr/>
              <p:nvPr/>
            </p:nvSpPr>
            <p:spPr>
              <a:xfrm>
                <a:off x="139680" y="3047760"/>
                <a:ext cx="1808280" cy="85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203040" y="3071520"/>
                <a:ext cx="162576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Chief Developer/Te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4437000" y="1523880"/>
              <a:ext cx="4617720" cy="515880"/>
              <a:chOff x="4437000" y="1523880"/>
              <a:chExt cx="4617720" cy="515880"/>
            </a:xfrm>
          </p:grpSpPr>
          <p:sp>
            <p:nvSpPr>
              <p:cNvPr id="73" name="AutoShape 12"/>
              <p:cNvSpPr/>
              <p:nvPr/>
            </p:nvSpPr>
            <p:spPr>
              <a:xfrm>
                <a:off x="4437000" y="1523880"/>
                <a:ext cx="4617720" cy="515880"/>
              </a:xfrm>
              <a:prstGeom prst="pie">
                <a:avLst/>
              </a:prstGeom>
              <a:noFill/>
              <a:ln w="25560">
                <a:solidFill>
                  <a:srgbClr val="a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3"/>
              <p:cNvSpPr/>
              <p:nvPr/>
            </p:nvSpPr>
            <p:spPr>
              <a:xfrm>
                <a:off x="7142760" y="1536480"/>
                <a:ext cx="184176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a40000"/>
                    </a:solidFill>
                    <a:latin typeface="Arial Bold"/>
                    <a:ea typeface="Arial Bold"/>
                  </a:rPr>
                  <a:t>Quality Engine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139680" y="1904760"/>
              <a:ext cx="1947960" cy="609480"/>
              <a:chOff x="139680" y="1904760"/>
              <a:chExt cx="1947960" cy="609480"/>
            </a:xfrm>
          </p:grpSpPr>
          <p:sp>
            <p:nvSpPr>
              <p:cNvPr id="76" name="AutoShape 15"/>
              <p:cNvSpPr/>
              <p:nvPr/>
            </p:nvSpPr>
            <p:spPr>
              <a:xfrm>
                <a:off x="139680" y="1904760"/>
                <a:ext cx="1947960" cy="609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6"/>
              <p:cNvSpPr/>
              <p:nvPr/>
            </p:nvSpPr>
            <p:spPr>
              <a:xfrm>
                <a:off x="196920" y="1927080"/>
                <a:ext cx="140976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Project Manag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6342120" y="2209680"/>
              <a:ext cx="2712600" cy="439560"/>
              <a:chOff x="6342120" y="2209680"/>
              <a:chExt cx="2712600" cy="439560"/>
            </a:xfrm>
          </p:grpSpPr>
          <p:sp>
            <p:nvSpPr>
              <p:cNvPr id="79" name="AutoShape 18"/>
              <p:cNvSpPr/>
              <p:nvPr/>
            </p:nvSpPr>
            <p:spPr>
              <a:xfrm>
                <a:off x="6342120" y="2209680"/>
                <a:ext cx="2712600" cy="439560"/>
              </a:xfrm>
              <a:prstGeom prst="pie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>
                <a:off x="7142760" y="2222280"/>
                <a:ext cx="184212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00"/>
                    </a:solidFill>
                    <a:latin typeface="Arial Bold"/>
                    <a:ea typeface="Arial Bold"/>
                  </a:rPr>
                  <a:t>Budget Controll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Rectangle 22"/>
          <p:cNvSpPr/>
          <p:nvPr/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  <a:ea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9417-CC1A-4C39-9BE6-8BC868865D38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200063"/>
              </a:solidFill>
              <a:latin typeface="Arial Bold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15920" y="1536840"/>
            <a:ext cx="7315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8C82-0AF4-49F8-9634-EC0D0F9322BF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  <a:ea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33520" y="134604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  <a:ea typeface="Arial Bold"/>
              </a:rPr>
              <a:t>Engineering issues to consi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model vs life cycl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requirements vs functional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design as the part of the overall design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measurement and evaluation as the part of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  <a:ea typeface="Arial Bold"/>
              </a:rPr>
              <a:t>Management issues to consi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and matu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ous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858000" y="535788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842-8A45-47FE-A905-76C06E84AD27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risque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grpSp>
        <p:nvGrpSpPr>
          <p:cNvPr id="103" name="Group 117"/>
          <p:cNvGrpSpPr/>
          <p:nvPr/>
        </p:nvGrpSpPr>
        <p:grpSpPr>
          <a:xfrm>
            <a:off x="28800" y="658800"/>
            <a:ext cx="9719640" cy="5600520"/>
            <a:chOff x="28800" y="658800"/>
            <a:chExt cx="9719640" cy="5600520"/>
          </a:xfrm>
        </p:grpSpPr>
        <p:sp>
          <p:nvSpPr>
            <p:cNvPr id="104" name="Rectangle 6"/>
            <p:cNvSpPr/>
            <p:nvPr/>
          </p:nvSpPr>
          <p:spPr>
            <a:xfrm>
              <a:off x="5758920" y="4506480"/>
              <a:ext cx="327780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5f5f5f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5f5f5f"/>
                  </a:solidFill>
                  <a:uFillTx/>
                  <a:latin typeface="Arial Bold"/>
                  <a:ea typeface="Arial Bold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ponctu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bles dommages sur la proprié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de risque pour les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néglige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96840" y="3296520"/>
              <a:ext cx="1232640" cy="1077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787320" y="3979080"/>
              <a:ext cx="1226160" cy="42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 rot="19680000">
              <a:off x="705960" y="4053600"/>
              <a:ext cx="826560" cy="1429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 rot="3240000">
              <a:off x="-188280" y="3789720"/>
              <a:ext cx="12924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1446480" y="3810600"/>
              <a:ext cx="1235880" cy="1078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2137320" y="4511160"/>
              <a:ext cx="1227960" cy="39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3"/>
            <p:cNvSpPr/>
            <p:nvPr/>
          </p:nvSpPr>
          <p:spPr>
            <a:xfrm rot="19680000">
              <a:off x="2053800" y="4556880"/>
              <a:ext cx="824760" cy="1569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 rot="3240000">
              <a:off x="1163520" y="4303080"/>
              <a:ext cx="12942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741760" y="4361760"/>
              <a:ext cx="1219680" cy="10702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3434040" y="5054040"/>
              <a:ext cx="1226160" cy="39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7"/>
            <p:cNvSpPr/>
            <p:nvPr/>
          </p:nvSpPr>
          <p:spPr>
            <a:xfrm rot="19680000">
              <a:off x="3352320" y="5110920"/>
              <a:ext cx="828000" cy="1429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8"/>
            <p:cNvSpPr/>
            <p:nvPr/>
          </p:nvSpPr>
          <p:spPr>
            <a:xfrm rot="3240000">
              <a:off x="2455560" y="4846320"/>
              <a:ext cx="12942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 rot="3240000">
              <a:off x="3778200" y="5398560"/>
              <a:ext cx="130536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127080" y="3301200"/>
              <a:ext cx="672840" cy="90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1478160" y="3817080"/>
              <a:ext cx="67464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2776680" y="4365000"/>
              <a:ext cx="66960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4094280" y="4907880"/>
              <a:ext cx="67644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 flipV="1">
              <a:off x="3459600" y="4899600"/>
              <a:ext cx="61704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2160360" y="4344120"/>
              <a:ext cx="59436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 flipV="1">
              <a:off x="813240" y="3808800"/>
              <a:ext cx="6523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4086360" y="4905000"/>
              <a:ext cx="1453680" cy="10490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"/>
            <p:cNvSpPr/>
            <p:nvPr/>
          </p:nvSpPr>
          <p:spPr>
            <a:xfrm>
              <a:off x="4777200" y="5911560"/>
              <a:ext cx="740160" cy="114480"/>
            </a:xfrm>
            <a:prstGeom prst="pie">
              <a:avLst/>
            </a:prstGeom>
            <a:solidFill>
              <a:srgbClr val="ffffff"/>
            </a:solidFill>
            <a:ln cap="rnd" w="2556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48"/>
            <p:cNvGrpSpPr/>
            <p:nvPr/>
          </p:nvGrpSpPr>
          <p:grpSpPr>
            <a:xfrm>
              <a:off x="4182480" y="3983760"/>
              <a:ext cx="435600" cy="969840"/>
              <a:chOff x="4182480" y="3983760"/>
              <a:chExt cx="435600" cy="969840"/>
            </a:xfrm>
          </p:grpSpPr>
          <p:grpSp>
            <p:nvGrpSpPr>
              <p:cNvPr id="128" name="Group 31"/>
              <p:cNvGrpSpPr/>
              <p:nvPr/>
            </p:nvGrpSpPr>
            <p:grpSpPr>
              <a:xfrm>
                <a:off x="4191840" y="3983760"/>
                <a:ext cx="339840" cy="434880"/>
                <a:chOff x="4191840" y="3983760"/>
                <a:chExt cx="339840" cy="434880"/>
              </a:xfrm>
            </p:grpSpPr>
            <p:sp>
              <p:nvSpPr>
                <p:cNvPr id="129" name="Freeform 29"/>
                <p:cNvSpPr/>
                <p:nvPr/>
              </p:nvSpPr>
              <p:spPr>
                <a:xfrm>
                  <a:off x="4204440" y="3983760"/>
                  <a:ext cx="327240" cy="16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bcbcb"/>
                    </a:gs>
                    <a:gs pos="100000">
                      <a:srgbClr val="ffffff"/>
                    </a:gs>
                  </a:gsLst>
                  <a:lin ang="0"/>
                </a:gradFill>
                <a:ln cap="rnd" w="12600">
                  <a:solidFill>
                    <a:srgbClr val="b2b2b2"/>
                  </a:solidFill>
                  <a:round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0"/>
                <p:cNvSpPr/>
                <p:nvPr/>
              </p:nvSpPr>
              <p:spPr>
                <a:xfrm>
                  <a:off x="4191840" y="3988440"/>
                  <a:ext cx="12600" cy="430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7"/>
              <p:cNvGrpSpPr/>
              <p:nvPr/>
            </p:nvGrpSpPr>
            <p:grpSpPr>
              <a:xfrm>
                <a:off x="4182480" y="4258440"/>
                <a:ext cx="435600" cy="695160"/>
                <a:chOff x="4182480" y="4258440"/>
                <a:chExt cx="435600" cy="695160"/>
              </a:xfrm>
            </p:grpSpPr>
            <p:sp>
              <p:nvSpPr>
                <p:cNvPr id="132" name="Freeform 32"/>
                <p:cNvSpPr/>
                <p:nvPr/>
              </p:nvSpPr>
              <p:spPr>
                <a:xfrm>
                  <a:off x="4344120" y="4350600"/>
                  <a:ext cx="147600" cy="12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4442040" y="4510800"/>
                  <a:ext cx="176040" cy="230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4182480" y="4258440"/>
                  <a:ext cx="206640" cy="26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4338000" y="4480560"/>
                  <a:ext cx="126360" cy="23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4384440" y="4682160"/>
                  <a:ext cx="106920" cy="25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>
                  <a:off x="4321800" y="4683960"/>
                  <a:ext cx="86400" cy="269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>
                  <a:off x="4276800" y="4402800"/>
                  <a:ext cx="278640" cy="333360"/>
                </a:xfrm>
                <a:prstGeom prst="pie">
                  <a:avLst/>
                </a:prstGeom>
                <a:solidFill>
                  <a:srgbClr val="f8f8f8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>
                  <a:off x="4293000" y="4421880"/>
                  <a:ext cx="4644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>
                  <a:off x="4313880" y="4456800"/>
                  <a:ext cx="44640" cy="8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>
                  <a:off x="4331520" y="4477680"/>
                  <a:ext cx="46440" cy="24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>
                  <a:off x="4373280" y="4499640"/>
                  <a:ext cx="33120" cy="21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>
                  <a:off x="4414680" y="4494960"/>
                  <a:ext cx="32040" cy="231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>
                  <a:off x="4447080" y="4502880"/>
                  <a:ext cx="25200" cy="73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>
                  <a:off x="4485240" y="4514040"/>
                  <a:ext cx="25560" cy="57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6"/>
                <p:cNvSpPr/>
                <p:nvPr/>
              </p:nvSpPr>
              <p:spPr>
                <a:xfrm>
                  <a:off x="4523760" y="4533120"/>
                  <a:ext cx="25560" cy="49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66"/>
            <p:cNvGrpSpPr/>
            <p:nvPr/>
          </p:nvGrpSpPr>
          <p:grpSpPr>
            <a:xfrm>
              <a:off x="2827800" y="3440880"/>
              <a:ext cx="435960" cy="969840"/>
              <a:chOff x="2827800" y="3440880"/>
              <a:chExt cx="435960" cy="969840"/>
            </a:xfrm>
          </p:grpSpPr>
          <p:sp>
            <p:nvSpPr>
              <p:cNvPr id="148" name="Freeform 49"/>
              <p:cNvSpPr/>
              <p:nvPr/>
            </p:nvSpPr>
            <p:spPr>
              <a:xfrm>
                <a:off x="2850120" y="3440880"/>
                <a:ext cx="326880" cy="163440"/>
              </a:xfrm>
              <a:prstGeom prst="pi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b2b2b2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50"/>
              <p:cNvSpPr/>
              <p:nvPr/>
            </p:nvSpPr>
            <p:spPr>
              <a:xfrm>
                <a:off x="2837160" y="3445560"/>
                <a:ext cx="12960" cy="43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1"/>
              <p:cNvSpPr/>
              <p:nvPr/>
            </p:nvSpPr>
            <p:spPr>
              <a:xfrm>
                <a:off x="2989440" y="3807720"/>
                <a:ext cx="1476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2"/>
              <p:cNvSpPr/>
              <p:nvPr/>
            </p:nvSpPr>
            <p:spPr>
              <a:xfrm>
                <a:off x="3087360" y="3967920"/>
                <a:ext cx="176400" cy="23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3"/>
              <p:cNvSpPr/>
              <p:nvPr/>
            </p:nvSpPr>
            <p:spPr>
              <a:xfrm>
                <a:off x="2827800" y="3715560"/>
                <a:ext cx="207000" cy="26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4"/>
              <p:cNvSpPr/>
              <p:nvPr/>
            </p:nvSpPr>
            <p:spPr>
              <a:xfrm>
                <a:off x="2983320" y="3937680"/>
                <a:ext cx="12636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5"/>
              <p:cNvSpPr/>
              <p:nvPr/>
            </p:nvSpPr>
            <p:spPr>
              <a:xfrm>
                <a:off x="3030120" y="4139280"/>
                <a:ext cx="107280" cy="25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6"/>
              <p:cNvSpPr/>
              <p:nvPr/>
            </p:nvSpPr>
            <p:spPr>
              <a:xfrm>
                <a:off x="2967480" y="4142520"/>
                <a:ext cx="86400" cy="26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"/>
              <p:cNvSpPr/>
              <p:nvPr/>
            </p:nvSpPr>
            <p:spPr>
              <a:xfrm>
                <a:off x="2922120" y="3859920"/>
                <a:ext cx="279000" cy="333360"/>
              </a:xfrm>
              <a:prstGeom prst="pi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8"/>
              <p:cNvSpPr/>
              <p:nvPr/>
            </p:nvSpPr>
            <p:spPr>
              <a:xfrm>
                <a:off x="2936880" y="3879000"/>
                <a:ext cx="464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9"/>
              <p:cNvSpPr/>
              <p:nvPr/>
            </p:nvSpPr>
            <p:spPr>
              <a:xfrm>
                <a:off x="2959200" y="3913920"/>
                <a:ext cx="4464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0"/>
              <p:cNvSpPr/>
              <p:nvPr/>
            </p:nvSpPr>
            <p:spPr>
              <a:xfrm>
                <a:off x="2975400" y="3934440"/>
                <a:ext cx="4644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1"/>
              <p:cNvSpPr/>
              <p:nvPr/>
            </p:nvSpPr>
            <p:spPr>
              <a:xfrm>
                <a:off x="3016800" y="3956760"/>
                <a:ext cx="3384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2"/>
              <p:cNvSpPr/>
              <p:nvPr/>
            </p:nvSpPr>
            <p:spPr>
              <a:xfrm>
                <a:off x="3060000" y="3952080"/>
                <a:ext cx="320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3"/>
              <p:cNvSpPr/>
              <p:nvPr/>
            </p:nvSpPr>
            <p:spPr>
              <a:xfrm>
                <a:off x="3092400" y="3960000"/>
                <a:ext cx="2520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4"/>
              <p:cNvSpPr/>
              <p:nvPr/>
            </p:nvSpPr>
            <p:spPr>
              <a:xfrm>
                <a:off x="3129120" y="3971160"/>
                <a:ext cx="255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5"/>
              <p:cNvSpPr/>
              <p:nvPr/>
            </p:nvSpPr>
            <p:spPr>
              <a:xfrm>
                <a:off x="3169440" y="3988440"/>
                <a:ext cx="255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84"/>
            <p:cNvGrpSpPr/>
            <p:nvPr/>
          </p:nvGrpSpPr>
          <p:grpSpPr>
            <a:xfrm>
              <a:off x="1547280" y="2897640"/>
              <a:ext cx="434160" cy="969840"/>
              <a:chOff x="1547280" y="2897640"/>
              <a:chExt cx="434160" cy="969840"/>
            </a:xfrm>
          </p:grpSpPr>
          <p:sp>
            <p:nvSpPr>
              <p:cNvPr id="166" name="Freeform 67"/>
              <p:cNvSpPr/>
              <p:nvPr/>
            </p:nvSpPr>
            <p:spPr>
              <a:xfrm>
                <a:off x="1569600" y="2897640"/>
                <a:ext cx="325440" cy="16344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cap="rnd" w="12600">
                <a:solidFill>
                  <a:srgbClr val="b2b2b2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8"/>
              <p:cNvSpPr/>
              <p:nvPr/>
            </p:nvSpPr>
            <p:spPr>
              <a:xfrm>
                <a:off x="1556640" y="2902320"/>
                <a:ext cx="12960" cy="43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9"/>
              <p:cNvSpPr/>
              <p:nvPr/>
            </p:nvSpPr>
            <p:spPr>
              <a:xfrm>
                <a:off x="1708200" y="3264480"/>
                <a:ext cx="14688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70"/>
              <p:cNvSpPr/>
              <p:nvPr/>
            </p:nvSpPr>
            <p:spPr>
              <a:xfrm>
                <a:off x="1805760" y="3424680"/>
                <a:ext cx="175680" cy="23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1"/>
              <p:cNvSpPr/>
              <p:nvPr/>
            </p:nvSpPr>
            <p:spPr>
              <a:xfrm>
                <a:off x="1547280" y="3172320"/>
                <a:ext cx="205920" cy="26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2"/>
              <p:cNvSpPr/>
              <p:nvPr/>
            </p:nvSpPr>
            <p:spPr>
              <a:xfrm>
                <a:off x="1702080" y="3394440"/>
                <a:ext cx="1260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3"/>
              <p:cNvSpPr/>
              <p:nvPr/>
            </p:nvSpPr>
            <p:spPr>
              <a:xfrm>
                <a:off x="1748520" y="3596040"/>
                <a:ext cx="106560" cy="25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74"/>
              <p:cNvSpPr/>
              <p:nvPr/>
            </p:nvSpPr>
            <p:spPr>
              <a:xfrm>
                <a:off x="1686240" y="3597840"/>
                <a:ext cx="86040" cy="269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5"/>
              <p:cNvSpPr/>
              <p:nvPr/>
            </p:nvSpPr>
            <p:spPr>
              <a:xfrm>
                <a:off x="1641240" y="3316680"/>
                <a:ext cx="277920" cy="33336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6"/>
              <p:cNvSpPr/>
              <p:nvPr/>
            </p:nvSpPr>
            <p:spPr>
              <a:xfrm>
                <a:off x="1656000" y="3335760"/>
                <a:ext cx="460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7"/>
              <p:cNvSpPr/>
              <p:nvPr/>
            </p:nvSpPr>
            <p:spPr>
              <a:xfrm>
                <a:off x="1678320" y="3370680"/>
                <a:ext cx="442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8"/>
              <p:cNvSpPr/>
              <p:nvPr/>
            </p:nvSpPr>
            <p:spPr>
              <a:xfrm>
                <a:off x="1694160" y="3391200"/>
                <a:ext cx="4608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79"/>
              <p:cNvSpPr/>
              <p:nvPr/>
            </p:nvSpPr>
            <p:spPr>
              <a:xfrm>
                <a:off x="1735560" y="3412080"/>
                <a:ext cx="3348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0"/>
              <p:cNvSpPr/>
              <p:nvPr/>
            </p:nvSpPr>
            <p:spPr>
              <a:xfrm>
                <a:off x="1778760" y="3408840"/>
                <a:ext cx="320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1"/>
              <p:cNvSpPr/>
              <p:nvPr/>
            </p:nvSpPr>
            <p:spPr>
              <a:xfrm>
                <a:off x="1810800" y="3416760"/>
                <a:ext cx="2520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2"/>
              <p:cNvSpPr/>
              <p:nvPr/>
            </p:nvSpPr>
            <p:spPr>
              <a:xfrm>
                <a:off x="1847520" y="3427920"/>
                <a:ext cx="255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83"/>
              <p:cNvSpPr/>
              <p:nvPr/>
            </p:nvSpPr>
            <p:spPr>
              <a:xfrm>
                <a:off x="1887480" y="3445200"/>
                <a:ext cx="2556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85"/>
            <p:cNvSpPr/>
            <p:nvPr/>
          </p:nvSpPr>
          <p:spPr>
            <a:xfrm>
              <a:off x="229320" y="2368800"/>
              <a:ext cx="326160" cy="1634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6"/>
            <p:cNvSpPr/>
            <p:nvPr/>
          </p:nvSpPr>
          <p:spPr>
            <a:xfrm>
              <a:off x="216720" y="2373840"/>
              <a:ext cx="12600" cy="43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7"/>
            <p:cNvSpPr/>
            <p:nvPr/>
          </p:nvSpPr>
          <p:spPr>
            <a:xfrm>
              <a:off x="368640" y="2735640"/>
              <a:ext cx="1465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8"/>
            <p:cNvSpPr/>
            <p:nvPr/>
          </p:nvSpPr>
          <p:spPr>
            <a:xfrm>
              <a:off x="466200" y="2895840"/>
              <a:ext cx="175680" cy="23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9"/>
            <p:cNvSpPr/>
            <p:nvPr/>
          </p:nvSpPr>
          <p:spPr>
            <a:xfrm>
              <a:off x="207000" y="2643480"/>
              <a:ext cx="20628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0"/>
            <p:cNvSpPr/>
            <p:nvPr/>
          </p:nvSpPr>
          <p:spPr>
            <a:xfrm>
              <a:off x="362160" y="2865960"/>
              <a:ext cx="12600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1"/>
            <p:cNvSpPr/>
            <p:nvPr/>
          </p:nvSpPr>
          <p:spPr>
            <a:xfrm>
              <a:off x="408600" y="3067920"/>
              <a:ext cx="106920" cy="25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2"/>
            <p:cNvSpPr/>
            <p:nvPr/>
          </p:nvSpPr>
          <p:spPr>
            <a:xfrm>
              <a:off x="346320" y="3069360"/>
              <a:ext cx="860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3"/>
            <p:cNvSpPr/>
            <p:nvPr/>
          </p:nvSpPr>
          <p:spPr>
            <a:xfrm>
              <a:off x="301320" y="2787840"/>
              <a:ext cx="278280" cy="333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4"/>
            <p:cNvSpPr/>
            <p:nvPr/>
          </p:nvSpPr>
          <p:spPr>
            <a:xfrm>
              <a:off x="315720" y="2806920"/>
              <a:ext cx="460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5"/>
            <p:cNvSpPr/>
            <p:nvPr/>
          </p:nvSpPr>
          <p:spPr>
            <a:xfrm>
              <a:off x="338040" y="2841840"/>
              <a:ext cx="442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6"/>
            <p:cNvSpPr/>
            <p:nvPr/>
          </p:nvSpPr>
          <p:spPr>
            <a:xfrm>
              <a:off x="354240" y="2862720"/>
              <a:ext cx="46080" cy="24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7"/>
            <p:cNvSpPr/>
            <p:nvPr/>
          </p:nvSpPr>
          <p:spPr>
            <a:xfrm>
              <a:off x="396000" y="2883240"/>
              <a:ext cx="3312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8"/>
            <p:cNvSpPr/>
            <p:nvPr/>
          </p:nvSpPr>
          <p:spPr>
            <a:xfrm>
              <a:off x="438840" y="2880000"/>
              <a:ext cx="3168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9"/>
            <p:cNvSpPr/>
            <p:nvPr/>
          </p:nvSpPr>
          <p:spPr>
            <a:xfrm>
              <a:off x="470880" y="2887920"/>
              <a:ext cx="252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0"/>
            <p:cNvSpPr/>
            <p:nvPr/>
          </p:nvSpPr>
          <p:spPr>
            <a:xfrm>
              <a:off x="507600" y="2899440"/>
              <a:ext cx="25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1"/>
            <p:cNvSpPr/>
            <p:nvPr/>
          </p:nvSpPr>
          <p:spPr>
            <a:xfrm>
              <a:off x="547920" y="2917080"/>
              <a:ext cx="2520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2"/>
            <p:cNvSpPr/>
            <p:nvPr/>
          </p:nvSpPr>
          <p:spPr>
            <a:xfrm flipV="1">
              <a:off x="561960" y="1973160"/>
              <a:ext cx="55008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3"/>
            <p:cNvSpPr/>
            <p:nvPr/>
          </p:nvSpPr>
          <p:spPr>
            <a:xfrm flipV="1">
              <a:off x="590040" y="1973520"/>
              <a:ext cx="309960" cy="75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4"/>
            <p:cNvSpPr/>
            <p:nvPr/>
          </p:nvSpPr>
          <p:spPr>
            <a:xfrm>
              <a:off x="4551840" y="4304880"/>
              <a:ext cx="1299960" cy="86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5"/>
            <p:cNvSpPr/>
            <p:nvPr/>
          </p:nvSpPr>
          <p:spPr>
            <a:xfrm>
              <a:off x="4567680" y="4303080"/>
              <a:ext cx="133164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6"/>
            <p:cNvSpPr/>
            <p:nvPr/>
          </p:nvSpPr>
          <p:spPr>
            <a:xfrm flipV="1">
              <a:off x="3155760" y="3801240"/>
              <a:ext cx="220968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7"/>
            <p:cNvSpPr/>
            <p:nvPr/>
          </p:nvSpPr>
          <p:spPr>
            <a:xfrm flipV="1">
              <a:off x="3183840" y="3573720"/>
              <a:ext cx="210420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8"/>
            <p:cNvSpPr/>
            <p:nvPr/>
          </p:nvSpPr>
          <p:spPr>
            <a:xfrm flipV="1">
              <a:off x="1901520" y="2697120"/>
              <a:ext cx="47772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9"/>
            <p:cNvSpPr/>
            <p:nvPr/>
          </p:nvSpPr>
          <p:spPr>
            <a:xfrm flipV="1">
              <a:off x="1930680" y="2430720"/>
              <a:ext cx="44928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0"/>
            <p:cNvSpPr/>
            <p:nvPr/>
          </p:nvSpPr>
          <p:spPr>
            <a:xfrm>
              <a:off x="317520" y="2372040"/>
              <a:ext cx="2156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8080"/>
                  </a:solidFill>
                  <a:latin typeface="Arial"/>
                  <a:ea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1"/>
            <p:cNvSpPr/>
            <p:nvPr/>
          </p:nvSpPr>
          <p:spPr>
            <a:xfrm>
              <a:off x="1657440" y="2891160"/>
              <a:ext cx="2156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33cc"/>
                  </a:solidFill>
                  <a:latin typeface="Arial"/>
                  <a:ea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2"/>
            <p:cNvSpPr/>
            <p:nvPr/>
          </p:nvSpPr>
          <p:spPr>
            <a:xfrm>
              <a:off x="2954160" y="3423240"/>
              <a:ext cx="22212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"/>
                  <a:ea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3"/>
            <p:cNvSpPr/>
            <p:nvPr/>
          </p:nvSpPr>
          <p:spPr>
            <a:xfrm>
              <a:off x="4313160" y="3966120"/>
              <a:ext cx="22212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4"/>
            <p:cNvSpPr/>
            <p:nvPr/>
          </p:nvSpPr>
          <p:spPr>
            <a:xfrm>
              <a:off x="5200920" y="2564280"/>
              <a:ext cx="454752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0066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ff0066"/>
                  </a:solidFill>
                  <a:uFillTx/>
                  <a:latin typeface="Arial Bold"/>
                  <a:ea typeface="Arial Bold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avec périodes fixes d’interru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sur la proprié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 de vies humaines touch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signific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15"/>
            <p:cNvSpPr/>
            <p:nvPr/>
          </p:nvSpPr>
          <p:spPr>
            <a:xfrm>
              <a:off x="2263320" y="1757520"/>
              <a:ext cx="530244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33cc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Arial Bold"/>
                  <a:ea typeface="Arial Bol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(interruption pour changement de versio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sur l’envir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aces sur les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impor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6"/>
            <p:cNvSpPr/>
            <p:nvPr/>
          </p:nvSpPr>
          <p:spPr>
            <a:xfrm>
              <a:off x="203760" y="658800"/>
              <a:ext cx="4098600" cy="15116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8080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008080"/>
                  </a:solidFill>
                  <a:uFillTx/>
                  <a:latin typeface="Arial Bold"/>
                  <a:ea typeface="Arial Bold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(24h / 24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irréversibles sur l’envir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de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désastreu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18"/>
          <p:cNvSpPr/>
          <p:nvPr/>
        </p:nvSpPr>
        <p:spPr>
          <a:xfrm>
            <a:off x="786600" y="5816520"/>
            <a:ext cx="19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Alain April, É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5918040" y="1066680"/>
            <a:ext cx="2552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ased on IEEE 1012, Sec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1D01-1066-4D04-9F7E-10E343E22F5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080" y="203040"/>
            <a:ext cx="868680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063"/>
                </a:solidFill>
                <a:latin typeface="Arial Bold"/>
              </a:rPr>
              <a:t>Processus de gestion des risques</a:t>
            </a:r>
            <a:br>
              <a:rPr sz="4100"/>
            </a:br>
            <a:r>
              <a:rPr b="0" lang="en-US" sz="2800" spc="-1" strike="noStrike">
                <a:solidFill>
                  <a:srgbClr val="0079a5"/>
                </a:solidFill>
                <a:latin typeface="Arial Bold Italic"/>
                <a:ea typeface="Arial Bold Italic"/>
              </a:rPr>
              <a:t>Quelques faits triviaux concernants les risques</a:t>
            </a:r>
            <a:endParaRPr b="0" lang="en-US" sz="28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15238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-285840">
              <a:spcBef>
                <a:spcPts val="700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</a:rPr>
              <a:t>Les sources de risques sont infinies</a:t>
            </a:r>
            <a:endParaRPr b="0" lang="en-US" sz="2300" spc="-1" strike="noStrike">
              <a:solidFill>
                <a:srgbClr val="003300"/>
              </a:solidFill>
              <a:latin typeface="Arial Bold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que projet, peu importe son envergure, possède sa charge des risqu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ux catégories de risqu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5840">
              <a:spcBef>
                <a:spcPts val="499"/>
              </a:spcBef>
              <a:buClr>
                <a:srgbClr val="a50021"/>
              </a:buClr>
              <a:buSzPct val="125000"/>
              <a:buFont typeface="Zapf Dingbats"/>
              <a:buChar char="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évi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5840">
              <a:spcBef>
                <a:spcPts val="499"/>
              </a:spcBef>
              <a:buClr>
                <a:srgbClr val="a50021"/>
              </a:buClr>
              <a:buSzPct val="125000"/>
              <a:buFont typeface="Zapf Dingbats"/>
              <a:buChar char="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n-prévisible (11.09.2001, un tremblement de ter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évenir coûte moins que réagi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sque au début du cycle de vie du système est plus probable mais coûte moins, do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l faut chercher, identifier et minimiser les risques si tôt si pos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7B0-6218-4A24-9868-D2F191FBD40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733840" y="1054080"/>
            <a:ext cx="7569000" cy="567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4120" y="2565360"/>
            <a:ext cx="295884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2d99"/>
                </a:solidFill>
                <a:uFillTx/>
                <a:latin typeface="Arial Bold"/>
              </a:rPr>
              <a:t>Les étapes</a:t>
            </a:r>
            <a:r>
              <a:rPr b="0" lang="en-US" sz="1800" spc="-1" strike="noStrike">
                <a:solidFill>
                  <a:srgbClr val="003300"/>
                </a:solidFill>
                <a:latin typeface="Arial Bold"/>
              </a:rPr>
              <a:t>:</a:t>
            </a:r>
            <a:endParaRPr b="0" lang="en-US" sz="1800" spc="-1" strike="noStrike">
              <a:solidFill>
                <a:srgbClr val="003300"/>
              </a:solidFill>
              <a:latin typeface="Arial Bold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égies et contre-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et gestion des straté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073760" y="5994360"/>
            <a:ext cx="226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 Bold Italic"/>
                <a:ea typeface="Arial Bold Italic"/>
              </a:rPr>
              <a:t>Modèle géné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27080" y="304920"/>
            <a:ext cx="86868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algn="ctr">
              <a:lnSpc>
                <a:spcPct val="8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Processus de gestion des risqu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FB30-CE59-4775-B5A6-45CD628FAD7D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31640" y="1270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Exerci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r le diagramme sur le diapo précèdent et indiquer les places les plus susceptibles au manque des interventions d'ingénieur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4C67-926D-49F2-BED3-2B624EF960C0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84280" y="1270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  <a:ea typeface="Arial Bold"/>
              </a:rPr>
              <a:t>Qualité et ris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ie Electrique</dc:creator>
  <dc:description/>
  <cp:keywords/>
  <dc:language>en-US</dc:language>
  <cp:lastModifiedBy>Lamiae</cp:lastModifiedBy>
  <dcterms:modified xsi:type="dcterms:W3CDTF">2017-08-04T07:36:56Z</dcterms:modified>
  <cp:revision>1</cp:revision>
  <dc:subject/>
  <dc:title>Slide 1</dc:title>
</cp:coreProperties>
</file>