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png" ContentType="image/png"/>
  <Override PartName="/ppt/media/image3.gif" ContentType="image/gif"/>
  <Override PartName="/ppt/media/image1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4C37-CC9E-4397-8C45-5B5B6076CCE8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FD39-05D4-40C7-AC95-21D4279DED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D7F1-FB38-4035-9F94-2827180F82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582-53BC-46AF-9EAA-B8A3CF2D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284-E553-4D2C-8A64-309A94F6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2FE-8215-4789-AD2C-43F1C0C5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709-89F9-4FD3-A99C-0256F9C9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3F3-8FFB-4F35-B33F-B6A01C87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05E-3519-4A0B-ACFA-7D3E0B67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D91-2173-4B0C-9D00-BEB5CA6A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C51-BBB2-43B3-AFBE-58DC9A92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760-2B74-4174-B128-E9FEC6E3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807-CF8C-4D9C-BDEA-B14D21FC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1FF-2703-4A76-A45A-D34027B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014-BB18-4794-ACDA-98E06A7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6D13-BD6E-4DC4-9BA6-F7F4B9C48737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04BE-61C1-4D5C-B5A1-57E23A58CF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02024A.gif"/>
          <p:cNvPicPr/>
          <p:nvPr/>
        </p:nvPicPr>
        <p:blipFill>
          <a:blip r:embed="rId1"/>
          <a:stretch/>
        </p:blipFill>
        <p:spPr>
          <a:xfrm>
            <a:off x="3214800" y="214200"/>
            <a:ext cx="25714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79200" y="2206800"/>
            <a:ext cx="9015120" cy="223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0002024A.gif"/>
          <p:cNvPicPr/>
          <p:nvPr/>
        </p:nvPicPr>
        <p:blipFill>
          <a:blip r:embed="rId3"/>
          <a:stretch/>
        </p:blipFill>
        <p:spPr>
          <a:xfrm rot="4054200">
            <a:off x="470880" y="4695480"/>
            <a:ext cx="153360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0002024A.gif"/>
          <p:cNvPicPr/>
          <p:nvPr/>
        </p:nvPicPr>
        <p:blipFill>
          <a:blip r:embed="rId4"/>
          <a:stretch/>
        </p:blipFill>
        <p:spPr>
          <a:xfrm rot="19531200">
            <a:off x="6858000" y="4857480"/>
            <a:ext cx="1533600" cy="142884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59FE-C2E1-41DC-8A77-DDE85A7ED05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28548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produce anti-diuretic effect in patients with diabetes mellit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indicated in renal insufficienc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increase renal blood fl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have direct arterial vasodilator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5DA1-4113-4F1D-AE3C-D4A662C8BB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29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increase renal PGs produ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iazoxide is a potassium channel opener which causes V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decrease serum lipi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increase insulin secre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useful as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st line therapy for mild to moderate HT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1738-E612-4F75-A8C8-A237063828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-360" y="214200"/>
            <a:ext cx="89298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useful in congestive heart fail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obenecid augments the diuretic effect of thiaz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ll forms of thiazide diuretics are given or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totoxicity  is a side effect of thiazide diuretic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E0AC-4C93-4BAB-BB29-F373F1D1E66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ydrochlorothiazide is used IV in emergency hypert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produces hypokal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ypokalemia can be prevented by K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rich diet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contraindicated during pregnanc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hlorothiazide is useful in relieving premenstrual sympto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C397-8726-43A2-A154-C63A1FB1932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used to treat edema resulting from advanced hepatic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iazide analogues have similar pharmacology to thiazides but with short dur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olazone is an effective diuretic even in low GF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dapamide (Natrilix) is contraindicated as diuretic in renal pati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0534-38F4-47C2-9F0E-BB5135FEBAE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3" descr="animated_pencil_3.gif"/>
          <p:cNvPicPr/>
          <p:nvPr/>
        </p:nvPicPr>
        <p:blipFill>
          <a:blip r:embed="rId1"/>
          <a:stretch/>
        </p:blipFill>
        <p:spPr>
          <a:xfrm>
            <a:off x="2071800" y="714240"/>
            <a:ext cx="5286240" cy="457704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6C8-DA7D-4D3D-B5A7-A351AC4BAC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ll loop diuretics have rapid onset with short duration of a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usemide increases excretion of both Ca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++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Mg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++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usemide produces hyperkalem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usemide is used in treatment of hypertension in patients with renal insufficienc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asix is useful in acute renal fail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usemide increases renal PGs produ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B64F-8F1C-40DF-B315-B102B27E116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has direct arterial vasodilator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arge dose of Frusemide inhibits carbonic anhydrase enzy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ncreases uric acid excre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useful in treatment of g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oop diuretics are very powerful diure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E579-2B8E-465F-A75E-7BAC4DA4D33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present in the oral form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used in hypertensive encephalopath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used as diuretic in emergency condi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causes ototoxicity especially  in patients with renal fail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473C-CE4D-4065-98D5-622F55811E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orsemide and bumetanide are stronger than furosem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orsemide side effects include dehydration and hypoten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Piretenide is similar to frusemide in all aspects.</a:t>
            </a:r>
            <a:r>
              <a:rPr b="1" lang="en-US" sz="30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Piretenide has similar effects to frusemide plus direct V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Ethacrynic acid is not a sulfa derivative but causes severe ototoxicity (rarely used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8E60-8FE1-4E8C-AF3F-34D07AF22D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Calibri"/>
              </a:rPr>
              <a:t>Quiz-9 covers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iur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[pages 117- 130 excluding CA inhibitors ]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Calibri"/>
              </a:rPr>
              <a:t>+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Angina Pector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[pages 131- 140]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ach quiz will contai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5 True/False/I am not sure questio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5 Matching questions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740B-2A6E-4A1C-80A7-A744312BC89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28548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ncreases ototoxicity and nephrotoxicity of aminoglycoside antibio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is weakly bound to plasma prote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usemide displaces warfarin from plasma protein binding sit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CA12-6707-468E-92FA-4EA3B8D91FD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3" descr="6a00e54faaf86b8833014e60849284970c-320wi.gif"/>
          <p:cNvPicPr/>
          <p:nvPr/>
        </p:nvPicPr>
        <p:blipFill>
          <a:blip r:embed="rId1"/>
          <a:stretch/>
        </p:blipFill>
        <p:spPr>
          <a:xfrm>
            <a:off x="500040" y="357120"/>
            <a:ext cx="821520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D29A-CB6F-4BA8-98CC-06DDDE49B5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Potassium sparing diuretics can be combined safely with angiotensin converting enzyme inhibitors (ACEI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Potassium sparing diuretics result in hypokalemi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Potassium sparing diuretics are contraindicated in cases of hyperkal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is an aldosterone agon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pironolactone competes with aldosterone.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3FDA-9008-4974-A129-BA31C0C59A8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Amiloride and triamterene act directly on the D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is the diuretic of choice in hepatic oede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has slow onset (takes up to 2 days to be effectiv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has mild estrogenic activ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Canrenone is the active metabolite of spironolact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0D2D-9DE6-433B-AEE1-21200E23114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pironolactone is effective in the treatment of CHF or nephrotic syndrome because blood levels of aldosterone are l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pironolactone is useful in treatment of emergency edema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pironolactone is useful in treatment of refractory ede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pironolactone is administered only ora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ntagonistic effect is observed on combining spironolactone to frusemide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6159-04E5-46AB-AA61-273E291CFD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miloride and triamterene are effective only in presence of aldostero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miloride corrects the hypokalemia produced by thiazide diuretic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miloride and triamterene produce synergistic effect with thiazide diuretic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oduretic is a combination of amiloride plus hydrochlorothiazi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ldactazide is a combination of spironolactone plus triamtere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DF9D-9D10-4842-810F-1200DBADFF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3" descr="animated_computer_student_3.gif"/>
          <p:cNvPicPr/>
          <p:nvPr/>
        </p:nvPicPr>
        <p:blipFill>
          <a:blip r:embed="rId1"/>
          <a:stretch/>
        </p:blipFill>
        <p:spPr>
          <a:xfrm>
            <a:off x="1714680" y="928800"/>
            <a:ext cx="535752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C64D-C354-4D99-BDF3-B781532CBF7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annitol, urea, glucose, isosorbide and glycerine are osmotic diure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annitol is given only IV to act as a diuret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annitol orally causes constip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ulmonary edema may result from transient expansion of extracellular fluid volume caused by mannit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5657-EEA2-4B58-9745-10C07A405E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ethyl-xanthines act as diuretic through increasing renal blood f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rugs used for urine acidification include ammonium chloride and ascorbic acid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rugs used for urine alkalinization include carbonic anhydrase inhibi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lkalinization prevent precipitation of urate ston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CAF4-712E-40C3-8C09-351D5C09E9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374400"/>
            <a:ext cx="9144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lkalinization help excretion of weak basic dru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cidification decrease growth of E.coli .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lkalinization potentiate urinary disinfecta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rine alkalinization prevent crystalluria e.g. sulphonamid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05B1-FCA5-4823-9307-A0C7E6DD17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rk the following statements as True (A) or False (B) or I am not sure (C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331D-9EC6-4EF6-99AA-084A501424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mmonium chloride helps excretion of amphetam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a citrate can treat aspirin toxic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hlorpropamide &amp; Carbamazepine have ADH like 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s act as antidiuretic in nephrogenic diabetes insipid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emeclocycline has ADH like 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BFC-8C14-4124-8C16-C339215B0B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142920"/>
            <a:ext cx="91440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All diuretics can lead to hypovol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smotic diuretic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can lead to hypervol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Hypokalemia can be induced by hydrochlorothiazide  &amp; spironolactone diureti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Hypokalemia is especially dangerous in Hepatic failure and digitalis patien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3C3B-23D9-47A2-98D8-CF6A302D94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ntent Placeholder 7" descr="question-mark_cartoon.jpeg"/>
          <p:cNvPicPr/>
          <p:nvPr/>
        </p:nvPicPr>
        <p:blipFill>
          <a:blip r:embed="rId1"/>
          <a:stretch/>
        </p:blipFill>
        <p:spPr>
          <a:xfrm>
            <a:off x="1285920" y="642960"/>
            <a:ext cx="6357960" cy="488628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11E-39F6-4EA2-BD94-E06AC82508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420840" y="1944720"/>
            <a:ext cx="8547120" cy="385920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B19E-A158-4311-BD28-DCDAB1F2623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rdiac ischemia is due to increase oxygen need or decrease oxygen supply to the myocard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ariant angina is the most common for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ngina of Effort is due to coronary atheroscleros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ariant Prinzmetal angina is due to coronary V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455E-3EF6-4645-9771-7CD1E1F953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have little hepatic first pass metabolism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act through the release of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release NO through consuming endothelial S-H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increase platelets aggreg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are mainly arterio-dilat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C638-E7C5-4DBE-B69F-20108A09C58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28548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act as veno- and arterio-dilat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produce V.D. mainly of small corona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decrease cardiac work &amp; oxygen consump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achycardia is a side effect of nitra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ates are effective in all types of angi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E026-B311-48E7-88B5-CC7840B70BA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214200"/>
            <a:ext cx="91440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oglycerin or isosorbid dinitrate buccal spray are used for long term prophylax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troglycerin or isosorbid dinitrate sublingual must be taken while the patient is sit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ne of the advantage of sublingual form of nitrates is that I can get rid from excess of the tabl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o need to stop nitrates slow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9B16-7AB9-4F6D-BD07-841D123BDC6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udden stop of Nitrates can lead to myocardial Infar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Long acting nitrates are present in the form of oral preparation, transdermal patch or ointme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Nitrates must not be combined with Sildenafi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olerance occurs after prolonged continued use of nitra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o overcome tolerance, use nitrates continuous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45AA-EDD7-45F1-AC41-00A1C62D1B4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Nitroglycerin I.V. is contraindicated in acute pulmonary edem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Nitroglycerin I.V. infusion is used in controlled hypotens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achycardia resulting from use of nitrates can be antagonized by  </a:t>
            </a:r>
            <a:r>
              <a:rPr b="1" lang="el-GR" sz="26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-Blockers or verapami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Sublingual form of nitrates is advised in acute and short term prophylaxis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Headache is a common side effect of nitra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If a dose of nitrate is missed , take double the dos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B579-3CB4-48EA-B12A-4E4E13DE189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6c2ea90260.gif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CEED-39D9-41EC-AB38-B591BF120E1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tromack &amp; Nitroguard are sublingual forms of nitr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trate transdermal patch is useful for nocturnal prophylaxis of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corandil is one of the calcium-channel block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rimetazidine is a cytoprotective drug, used to treat stable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Ranolazine increases blood flow to the myocardium by decreasing compression of the intramural corona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9E47-12BF-4F43-B7D8-0DD01AFA178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3" descr="animated-frog-2.gif"/>
          <p:cNvPicPr/>
          <p:nvPr/>
        </p:nvPicPr>
        <p:blipFill>
          <a:blip r:embed="rId1"/>
          <a:stretch/>
        </p:blipFill>
        <p:spPr>
          <a:xfrm>
            <a:off x="1857240" y="714240"/>
            <a:ext cx="5643720" cy="535788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820C-72FA-418F-925D-29C8F12EF0E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Nifedipine blocks mainly calcium channels in blood vesse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Nifedipine is a strong myocardial depressant.</a:t>
            </a: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Amlodipine is a short acting dihydropyridin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Nicardipine is a powerful cardiac depressant.</a:t>
            </a: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2490-1E67-4D01-83B1-AF3B967B9A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is a powerful arterial  V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is better combined with beta block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is better to be used alone with Nitrat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lcium channel blockers increase platelets aggreg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lcium channel blockers produce skeletal muscle  relax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421-193A-4946-B915-1C551303C8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&amp; Diltiazem are non-dihydropyrid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&amp; Diltiazem block mainly calcium channels in  the hear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depresses all cardiac proper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is better combined with beta block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asodilatation of small coronary vessels on the non-ischemic area may lead to coronary steal phenomen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6140-5565-4CE1-A775-18B4273D648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356760"/>
            <a:ext cx="9144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antagonizes tachycardia induced by nitra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on-dihydropyridines are classified as class  IV antiarrhythmic dru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is a line of treatment in heart fail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is a potent coronary V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is a powerful arterial  V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1E18-2F5E-4152-8D41-93073D35DF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14200" y="356760"/>
            <a:ext cx="8786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ral nifedipine is indicated in acute attack of angi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+ Nitrates is a good comb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Verapamil + 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-Blocker is a good combi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+ 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β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-Blocker is a good combi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ifedipine + Nitrates is a good combin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DDB1-BE48-475E-9AED-8D78111F59E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modipine is indicated in cases of subarachnoid hemorrhage to relieve cerebral spa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alcium channel blockers act as tocolytic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nkle edema is common with verapamil u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Verapamil produces reflex tachycardia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Verapamil produces diarrhea as a side effect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Verapamil increases toxicity of digital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1DBD-7CF8-430E-83FA-BC90407B8C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Content Placeholder 3" descr="Beta_Blockers_Pharamcology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9D5B-6837-43FF-8305-749E4EE1C56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Only selective 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1- blockers are useful in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-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blockers</a:t>
            </a:r>
            <a:r>
              <a:rPr b="1" lang="en-US" sz="2800" spc="-1" strike="noStrike" baseline="-25000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revent anginal attacks through decreasing cardiac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on selective 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-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blockers</a:t>
            </a:r>
            <a:r>
              <a:rPr b="1" lang="en-US" sz="2800" spc="-1" strike="noStrike" baseline="-25000">
                <a:solidFill>
                  <a:srgbClr val="0070c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useful in all types of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elective </a:t>
            </a:r>
            <a:r>
              <a:rPr b="1" lang="el-GR" sz="2800" spc="-1" strike="noStrike">
                <a:solidFill>
                  <a:srgbClr val="0070c0"/>
                </a:solidFill>
                <a:latin typeface="Verdana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1-Blockers are allowed with caution in variant (Prinzmetal)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he anti-anginal effect of propranolol is due to its coronary dilator action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2F05-69D3-4B56-9420-3DA5BFD83D9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4" descr=""/>
          <p:cNvPicPr/>
          <p:nvPr/>
        </p:nvPicPr>
        <p:blipFill>
          <a:blip r:embed="rId1"/>
          <a:stretch/>
        </p:blipFill>
        <p:spPr>
          <a:xfrm>
            <a:off x="1116000" y="1852560"/>
            <a:ext cx="7935840" cy="20494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11B-6E7D-48A4-B4AD-78C95ADF36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-360"/>
            <a:ext cx="9001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ropranolol is used orally in prophylaxis of variant angi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adolol is contraindicated in variant angi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ropranolol is used SL in treatment of acute attack of angina pectoris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 management of angina of effort </a:t>
            </a:r>
            <a:r>
              <a:rPr b="1" lang="el-GR" sz="28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-blockers are added to nitrates to block their reflex tachycardia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ifedipine + </a:t>
            </a:r>
            <a:r>
              <a:rPr b="1" lang="el-GR" sz="28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-Blocker + nitrate is a good combination.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375F-CCBE-4DA9-9238-115FA06C145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Content Placeholder 5" descr="happyguy.gif"/>
          <p:cNvPicPr/>
          <p:nvPr/>
        </p:nvPicPr>
        <p:blipFill>
          <a:blip r:embed="rId1"/>
          <a:stretch/>
        </p:blipFill>
        <p:spPr>
          <a:xfrm>
            <a:off x="1571760" y="2571840"/>
            <a:ext cx="3333600" cy="300024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FA5-3B44-4ACC-9A7F-6D32AA124D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spirin in small dose inhibits platelet TXA-2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spirin in 75 – 150 mg is indicated as anti-platele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iclopidine &amp; Clopidogrel are ADP-receptors agonis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ipyridamole is VD and has +ve inotropic eff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ipyridamole is an antiplatelet dru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ipyridamole act  through stimulating phosphodiesterase enzy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571C-810C-4B71-9C69-96014646260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spirin SD is included in the management of angina of effor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bciximab is a glycoprotein IIb-IIIa receptor bloc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seful treatment for angina plus bronchial asthma are non- selective </a:t>
            </a:r>
            <a:r>
              <a:rPr b="1" lang="el-GR" sz="3200" spc="-1" strike="noStrike">
                <a:solidFill>
                  <a:srgbClr val="0070c0"/>
                </a:solidFill>
                <a:latin typeface="Calibri"/>
              </a:rPr>
              <a:t>β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- block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seful treatment for angina plus heart failure is verapami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43C7-EFC0-49A8-AE60-79FAE2CF1C8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361B-DA56-44E6-9509-771CC38D59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ontent Placeholder 6" descr="aastudent.gif"/>
          <p:cNvPicPr/>
          <p:nvPr/>
        </p:nvPicPr>
        <p:blipFill>
          <a:blip r:embed="rId1"/>
          <a:stretch/>
        </p:blipFill>
        <p:spPr>
          <a:xfrm>
            <a:off x="0" y="28584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Content Placeholder 6" descr="aastudent.gif"/>
          <p:cNvPicPr/>
          <p:nvPr/>
        </p:nvPicPr>
        <p:blipFill>
          <a:blip r:embed="rId2"/>
          <a:stretch/>
        </p:blipFill>
        <p:spPr>
          <a:xfrm>
            <a:off x="0" y="328608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6" descr="aastudent.gif"/>
          <p:cNvPicPr/>
          <p:nvPr/>
        </p:nvPicPr>
        <p:blipFill>
          <a:blip r:embed="rId3"/>
          <a:stretch/>
        </p:blipFill>
        <p:spPr>
          <a:xfrm>
            <a:off x="3000240" y="214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Content Placeholder 6" descr="aastudent.gif"/>
          <p:cNvPicPr/>
          <p:nvPr/>
        </p:nvPicPr>
        <p:blipFill>
          <a:blip r:embed="rId4"/>
          <a:stretch/>
        </p:blipFill>
        <p:spPr>
          <a:xfrm>
            <a:off x="5929200" y="35712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62" name="Content Placeholder 6" descr="aastudent.gif"/>
          <p:cNvPicPr/>
          <p:nvPr/>
        </p:nvPicPr>
        <p:blipFill>
          <a:blip r:embed="rId5"/>
          <a:stretch/>
        </p:blipFill>
        <p:spPr>
          <a:xfrm>
            <a:off x="3071880" y="328608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63" name="Content Placeholder 6" descr="aastudent.gif"/>
          <p:cNvPicPr/>
          <p:nvPr/>
        </p:nvPicPr>
        <p:blipFill>
          <a:blip r:embed="rId6"/>
          <a:stretch/>
        </p:blipFill>
        <p:spPr>
          <a:xfrm>
            <a:off x="5929200" y="3286080"/>
            <a:ext cx="3214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0" y="1799280"/>
            <a:ext cx="914400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tch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or the following matching questions, choose the most appropri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option for each statement, each option may be chosen once or more or not at 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D02F-515D-42A1-B988-A883AC74C5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-360" y="0"/>
            <a:ext cx="93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-Nitroglycerin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b- Frusemide                        c-Propran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- Moduretic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e- Chlorothiazid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f- Aspi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- Clopidogre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h- Triamteren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   i- Mannit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Used IV in emergency ede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otassium sparing diuretic by direct action on renal tubu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 small dose, inhibits platelets aggreg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Used sublingual in acute attack of angin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Osmotic diuret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s a combination between amiloride and hydrochlorothiazi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When combined with verapamil produces severe cardiac inhibition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DP- receptors block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19EA-C3F7-4877-B817-59181F876BA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- Nitroglycerin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b- Verapamil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          c- Nifedip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-Nadolol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           e- Spironolactone            f-Trimetazid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g-Frusemid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       h- Glucose 50% IV            i- Hydrochlorothiazi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CCB that produces bradycard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Diuretic with direct arterio-dilator a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Contraindicated in Variant ang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Cytoprotective anti-ischemic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Its use in angina may result in coronary steal phenomen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Used in the form of TDDS for prophylaxis of nocturnal attacks of angi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roduces ototoxicit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Osmotic diuretic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B1D-F4F5-49DC-8BBE-BD6F5A30D5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- Nitroglyceri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b- Verapamil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c- Nifedi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-Propranolol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e-  Abciximab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f-  Flunariz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- Dipyridamol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h- Nicorandil                   i-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dap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ainly veino-dilator and decreases prelo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CCB that produces reflex tachycar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Related to thiazide diuretics and allowed in renal impair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Glycoprotein IIb-IIIa- receptors block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CCB used in migraine headach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nhibits phosphodiesterase enzy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Decreases renal excretion of digital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Nitrodilator but produces no toler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9CD3-1523-434E-89D2-04D2F11046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E70E-018C-444E-9668-8CC1FC9744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a52d17qb.gif"/>
          <p:cNvPicPr/>
          <p:nvPr/>
        </p:nvPicPr>
        <p:blipFill>
          <a:blip r:embed="rId1"/>
          <a:stretch/>
        </p:blipFill>
        <p:spPr>
          <a:xfrm>
            <a:off x="3714840" y="1143000"/>
            <a:ext cx="4619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560" y="285480"/>
            <a:ext cx="90010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Diuresis may be renal or extrarenal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Digitalis, dopamine and dobutamine act as diuretics by increasing cardiac outpu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Digitalis produces diuresis in normal subjec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Most pre-renal diuretics act by increasing renal blood flow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E2EB-D374-40F4-B15D-40CD04FB921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ll diuretics exert their effects from the luminal side of the nephron except spironolact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hiazide diuretics are high ceiling diuret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hiazide diuretics act on the cortical diluting system = proximal part of the DCT.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Frusemide acts on the ascending limb of loop of Hen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Times New Roman"/>
              </a:rPr>
              <a:t>NSAIDs antagonize the antihypertensive effect of thiazide and loop diuret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E293-777D-412F-888B-F705E2CF73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obenecid antagonizes the diuretic effect of thiazide and loop diure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aluretics acting on the kidney, act through decreasing Na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</a:rPr>
              <a:t>+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reabsorption from the nephr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increase the loss of Na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, K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, Mg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but reduce Ca</a:t>
            </a:r>
            <a:r>
              <a:rPr b="1" lang="en-US" sz="32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+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excretion in ur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produce hypercalc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produces hyperkal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05A6-32A8-4931-906B-5E801AB32E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increases uric acid excretion.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hiazide diuretics are useful in treatment of gout.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ephrogenic diabetes insipidus is characterized by unresponsiveness of the kidney to the action of vasopressin (ADH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iazides produce paradoxical decrease in urine volume in nephrogenic diabetes insipidus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B22B-95CC-423A-B280-0C6E039CC3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Royale</cp:lastModifiedBy>
  <dcterms:modified xsi:type="dcterms:W3CDTF">2011-12-15T17:23:33Z</dcterms:modified>
  <cp:revision>244</cp:revision>
  <dc:subject/>
  <dc:title>Slide 1</dc:title>
</cp:coreProperties>
</file>