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F00C-678F-48A5-B7DF-4BEA70711087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ECE-492D-465A-B533-549ADF24C1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3AA-B591-4B6B-B19A-CEDA722E03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A34-C1D9-4533-B7BD-7E111AE2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60D-19DF-4ED8-A7F0-15E882C2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B31-BDAC-4909-9079-9278D045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803-DE73-467A-B760-508868EB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FBF-A7E5-4A8B-9496-9BE5BB4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36F-71C8-451A-8606-16DC74A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1D1-4B7B-4CE5-9307-1F31D96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E4E-DE3A-4724-AAEF-FE3DDDA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278-F2FC-4B37-895D-89BE488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14F-1DA3-45B5-AA3B-97FA7BB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189-52C0-44F7-A8F3-9DEDDD6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67B-27A7-4FDB-BF34-A1D43D2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E138-5D72-4BBF-850B-18440BED9DE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0D9-8EC8-41E2-A986-29A0DCC71E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2024A.gif"/>
          <p:cNvPicPr/>
          <p:nvPr/>
        </p:nvPicPr>
        <p:blipFill>
          <a:blip r:embed="rId1"/>
          <a:stretch/>
        </p:blipFill>
        <p:spPr>
          <a:xfrm>
            <a:off x="3214800" y="21420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79200" y="2206800"/>
            <a:ext cx="90151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002024A.gif"/>
          <p:cNvPicPr/>
          <p:nvPr/>
        </p:nvPicPr>
        <p:blipFill>
          <a:blip r:embed="rId3"/>
          <a:stretch/>
        </p:blipFill>
        <p:spPr>
          <a:xfrm rot="4054200">
            <a:off x="470880" y="4695480"/>
            <a:ext cx="15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002024A.gif"/>
          <p:cNvPicPr/>
          <p:nvPr/>
        </p:nvPicPr>
        <p:blipFill>
          <a:blip r:embed="rId4"/>
          <a:stretch/>
        </p:blipFill>
        <p:spPr>
          <a:xfrm rot="19531200">
            <a:off x="6858000" y="4857480"/>
            <a:ext cx="153360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122E-121B-4B6B-8B89-6F1AA49468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 anti-diuretic effect in patients with diabetes melli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indicated in renal insufficienc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renal blood fl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have direct arterial vasodilator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1CB-6DC1-41DB-AF12-DDFF7073AE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29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renal PGs produ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zoxide is a potassium channel opener which causes V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decrease serum lip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insulin secre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a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st line therapy for mild to moderate HT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BF1-BCDC-4210-BBD5-42D4F64ACC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214200"/>
            <a:ext cx="8929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in congestive heart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benecid augments the diuretic effect of thiaz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ll forms of thiazide diuretics are given or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totoxicity  is a side effect of thiazide diuretic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8122-8022-43AC-8BE8-120E99D2E4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ydrochlorothiazide is used IV in emergency 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s hypoka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ypokalemia can be prevented by K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ich diet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contraindicated during pregnanc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lorothiazide is useful in relieving premenstrual sympto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9676-D565-4B7B-8F8F-C6AAE819D6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d to treat edema resulting from advanced hepatic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iazide analogues have similar pharmacology to thiazides but with short du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olazone is an effective diuretic even in low GF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dapamide (Natrilix) is contraindicated as diuretic in renal pati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DE4-A48D-4803-9437-06A31F8254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animated_pencil_3.gif"/>
          <p:cNvPicPr/>
          <p:nvPr/>
        </p:nvPicPr>
        <p:blipFill>
          <a:blip r:embed="rId1"/>
          <a:stretch/>
        </p:blipFill>
        <p:spPr>
          <a:xfrm>
            <a:off x="2071800" y="714240"/>
            <a:ext cx="5286240" cy="45770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89C-AB4E-4432-AC93-9A1950BD42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ll loop diuretics have rapid onset with short duration of 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ncreases excretion of both Ca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++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Mg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++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produces hyperkalem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s used in treatment of hypertension in patients with renal insufficienc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asix is useful in acute renal fail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ncreases renal PGs produ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CB5-DFBD-4A3D-A0A0-F029C9955E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has direct arterial vasodilator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rge dose of Frusemide inhibits carbonic anhydrase enzy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ncreases uric acid excre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ful in treatment of g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oop diuretics are very powerful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EC2-EB7B-45D2-83E4-BC29B91EB9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present in the oral form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d in hypertensive encephalopath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d as diuretic in emergency condi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causes ototoxicity especially  in patients with renal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A51-4F5F-450A-B56B-CA99D2A388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rsemide and bumetanide are stronger than furosem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rsemide side effects include dehydration and hypoten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iretenide is similar to frusemide in all aspects.</a:t>
            </a:r>
            <a:r>
              <a:rPr b="1" lang="en-US" sz="3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iretenide has similar effects to frusemide plus direct V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thacrynic acid is not a sulfa derivative but causes severe ototoxicity (rarely used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2AA-1827-430B-8DDC-1F18528981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Calibri"/>
              </a:rPr>
              <a:t>Quiz-9 cover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[pages 117- 130 excluding CA inhibitors ]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Calibri"/>
              </a:rPr>
              <a:t>+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Angina Pecto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[pages 131- 140]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ach quiz will contai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5 True/False/I am not sure questio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5 Matching questio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F52-B884-4D39-8E6E-943844BA61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ncreases ototoxicity and nephrotoxicity of aminoglycoside antibio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weakly bound to plasma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displaces warfarin from plasma protein binding sit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3031-D99F-4A16-848F-832D9E2C48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3" descr="6a00e54faaf86b8833014e60849284970c-320wi.gif"/>
          <p:cNvPicPr/>
          <p:nvPr/>
        </p:nvPicPr>
        <p:blipFill>
          <a:blip r:embed="rId1"/>
          <a:stretch/>
        </p:blipFill>
        <p:spPr>
          <a:xfrm>
            <a:off x="500040" y="357120"/>
            <a:ext cx="82152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C70-5747-4F2B-B078-41C42C3773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can be combined safely with angiotensin converting enzyme inhibitors (ACEI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result in hypokalemi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are contraindicated in cases of hyperkal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an aldosterone agon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pironolactone competes with aldosterone.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547-1892-45E9-85DF-D70EB1689B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Amiloride and triamterene act directly on the D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the diuretic of choice in hepatic oede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has slow onset (takes up to 2 days to be effectiv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has mild estrogenic activ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Canrenone is the active metabolite of spironolact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719E-81E5-4AD2-9AA6-B261DD0488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effective in the treatment of CHF or nephrotic syndrome because blood levels of aldosterone are l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useful in treatment of emergency edem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useful in treatment of refractory ede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administered only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tagonistic effect is observed on combining spironolactone to frusemide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79E-9F23-45E0-A9D0-7D7B48E298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and triamterene are effective only in presence of aldostero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corrects the hypokalemia produced by thiazide diuretic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and triamterene produce synergistic effect with thiazide diure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oduretic is a combination of amiloride plus hydrochlorothiaz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ldactazide is a combination of spironolactone plus triamtere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6B96-D5F3-4D89-9604-FB5BA67714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animated_computer_student_3.gif"/>
          <p:cNvPicPr/>
          <p:nvPr/>
        </p:nvPicPr>
        <p:blipFill>
          <a:blip r:embed="rId1"/>
          <a:stretch/>
        </p:blipFill>
        <p:spPr>
          <a:xfrm>
            <a:off x="1714680" y="928800"/>
            <a:ext cx="535752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8E7-A239-4095-8E82-78348DEFFF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, urea, glucose, isosorbide and glycerine are osmotic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 is given only IV to act as a diure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 orally causes constip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ulmonary edema may result from transient expansion of extracellular fluid volume caused by mannit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3516-3D5E-4B63-AC47-63DB42B6DD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ethyl-xanthines act as diuretic through increasing renal blood f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ugs used for urine acidification include ammonium chloride and ascorbic acid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ugs used for urine alkalinization include carbonic anhydrase inhibi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revent precipitation of urate sto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258-F672-46AE-81D3-39F32090CA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37440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help excretion of weak basic dru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cidification decrease growth of E.coli 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otentiate urinary disinfecta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revent crystalluria e.g. sulphonamid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FA4-5FDD-4862-9405-261C0F08AC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 the following statements as True (A) or False (B) or I am not sure (C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F77-63FC-4216-B9B3-EC4B3E7FDA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mmonium chloride helps excretion of amphetam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 citrate can treat aspirin toxi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lorpropamide &amp; Carbamazepine have ADH like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s act as antidiuretic in nephrogenic diabetes insipid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meclocycline has ADH like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5A8-7542-457F-9135-1B680CDFFD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42920"/>
            <a:ext cx="91440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All diuretics can lead to hypovo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smotic diuretic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can lead to hypervo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Hypokalemia can be induced by hydrochlorothiazide  &amp; spironolactone diure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Hypokalemia is especially dangerous in Hepatic failure and digitalis pati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7DC3-EEFA-4280-9D6E-64F4D3A75B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7" descr="question-mark_cartoon.jpeg"/>
          <p:cNvPicPr/>
          <p:nvPr/>
        </p:nvPicPr>
        <p:blipFill>
          <a:blip r:embed="rId1"/>
          <a:stretch/>
        </p:blipFill>
        <p:spPr>
          <a:xfrm>
            <a:off x="1285920" y="642960"/>
            <a:ext cx="6357960" cy="48862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6C8-967D-42B0-BFE8-FA2E370C38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20840" y="1944720"/>
            <a:ext cx="8547120" cy="38592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B3A-88EE-4846-BDC1-A3ADF2A357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rdiac ischemia is due to increase oxygen need or decrease oxygen supply to the myocar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riant angina is the most common fo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ngina of Effort is due to coronary atherosclero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riant Prinzmetal angina is due to coronary V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754-D9B4-4B7A-9C14-C1C6D80C35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have little hepatic first pass metabolis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ct through the release of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release NO through consuming endothelial S-H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increase platelets aggre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re mainly arterio-dilat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DCD-5C84-436C-9D81-1D9F45EF894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ct as veno- and arterio-dilat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produce V.D. mainly of small corona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decrease cardiac work &amp; oxygen consum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achycardia is a side effect of nitr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re effective in all types of angi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60D-9A49-4121-A98C-93A116CAF2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oglycerin or isosorbid dinitrate buccal spray are used for long term prophylax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oglycerin or isosorbid dinitrate sublingual must be taken while the patient is sit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ne of the advantage of sublingual form of nitrates is that I can get rid from excess of the tabl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 need to stop nitrates slow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733-3FA1-42B6-BFE4-C7066300F0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dden stop of Nitrates can lead to myocardial Infar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Long acting nitrates are present in the form of oral preparation, transdermal patch or ointm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Nitrates must not be combined with Sildenafi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lerance occurs after prolonged continued use of nitra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 overcome tolerance, use nitrates continuous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E78-5512-4555-B156-B6776D72C9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Nitroglycerin I.V. is contraindicated in acute pulmonary ede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Nitroglycerin I.V. infusion is used in controlled hypotens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achycardia resulting from use of nitrates can be antagonized by  </a:t>
            </a:r>
            <a:r>
              <a:rPr b="1" lang="el-GR" sz="26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-Blockers or verapami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Sublingual form of nitrates is advised in acute and short term prophylaxi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Headache is a common side effect of nitra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If a dose of nitrate is missed , take double the do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448-48C2-4624-92C6-A2F58528B0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6c2ea90260.gif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9BD0-5E98-42A1-844F-4CB8148037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tromack &amp; Nitroguard are sublingual forms of nitr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trate transdermal patch is useful for nocturnal prophylaxis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corandil is one of the calcium-channel block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rimetazidine is a cytoprotective drug, used to treat stable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Ranolazine increases blood flow to the myocardium by decreasing compression of the intramural corona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AB6-E4FC-4283-B3CA-C6F8504F4B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animated-frog-2.gif"/>
          <p:cNvPicPr/>
          <p:nvPr/>
        </p:nvPicPr>
        <p:blipFill>
          <a:blip r:embed="rId1"/>
          <a:stretch/>
        </p:blipFill>
        <p:spPr>
          <a:xfrm>
            <a:off x="1857240" y="714240"/>
            <a:ext cx="5643720" cy="535788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56B8-383F-4F4A-AB19-815191C5C1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fedipine blocks mainly calcium channels in blood vesse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fedipine is a strong myocardial depressant.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mlodipine is a short acting dihydropyridin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cardipine is a powerful cardiac depressant.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70CF-D6D5-40F9-B6C6-9BC8D8922F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a powerful arterial 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better combined with beta block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better to be used alone with Nitrat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lcium channel blockers increase platelets aggre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lcium channel blockers produce skeletal muscle  relax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756E-ECD0-467C-B0E0-63071EAF7A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&amp; Diltiazem are non-dihydropyrid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&amp; Diltiazem block mainly calcium channels in  the hea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depresses all cardiac proper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better combined with beta block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sodilatation of small coronary vessels on the non-ischemic area may lead to coronary steal phenomen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C10-5947-46A6-A438-4897501639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35676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antagonizes tachycardia induced by nitr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n-dihydropyridines are classified as class  IV antiarrhythmic dru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line of treatment in heart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potent coronary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powerful arterial 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D82-7487-405D-AAC0-135D56C514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1420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ral nifedipine is indicated in acute attack of angi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+ Nitrates is a good comb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+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Blocker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+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Blocker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+ Nitrates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CFF2-C742-4C96-9FE1-43C50A49CB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modipine is indicated in cases of subarachnoid hemorrhage to relieve cerebral sp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alcium channel blockers act as tocoly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kle edema is common with verapamil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produces reflex tachycardi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produces diarrhea as a side effect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increases toxicity of digit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F0F1-170C-460F-9D84-679BE427CA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3" descr="Beta_Blockers_Pharamcology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815-4099-4F59-A692-C79CA002F4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Only 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1- blockers are useful in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-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lockers</a:t>
            </a:r>
            <a:r>
              <a:rPr b="1" lang="en-US" sz="28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event anginal attacks through decreasing cardiac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on 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-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lockers</a:t>
            </a:r>
            <a:r>
              <a:rPr b="1" lang="en-US" sz="2800" spc="-1" strike="noStrike" baseline="-25000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useful in all types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1-Blockers are allowed with caution in variant (Prinzmetal)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e anti-anginal effect of propranolol is due to its coronary dilator action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AF4-D120-470C-A2A2-03D00C2F1D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4" descr=""/>
          <p:cNvPicPr/>
          <p:nvPr/>
        </p:nvPicPr>
        <p:blipFill>
          <a:blip r:embed="rId1"/>
          <a:stretch/>
        </p:blipFill>
        <p:spPr>
          <a:xfrm>
            <a:off x="1116000" y="1852560"/>
            <a:ext cx="7935840" cy="20494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5EE-40AC-43A4-90E2-41AECE1BDF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-360"/>
            <a:ext cx="9001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opranolol is used orally in prophylaxis of variant ang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adolol is contraindicated in variant ang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opranolol is used SL in treatment of acute attack of angina pectoris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 management of angina of effort </a:t>
            </a:r>
            <a:r>
              <a:rPr b="1" lang="el-GR" sz="28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blockers are added to nitrates to block their reflex tachycardi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fedipine + </a:t>
            </a:r>
            <a:r>
              <a:rPr b="1" lang="el-GR" sz="28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Blocker + nitrate is a good combination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25F1-C047-41DA-83B5-7DB86D65B3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5" descr="happyguy.gif"/>
          <p:cNvPicPr/>
          <p:nvPr/>
        </p:nvPicPr>
        <p:blipFill>
          <a:blip r:embed="rId1"/>
          <a:stretch/>
        </p:blipFill>
        <p:spPr>
          <a:xfrm>
            <a:off x="1571760" y="2571840"/>
            <a:ext cx="3333600" cy="30002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C57-9C06-47EC-94EB-B3E2DFDBF6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spirin in small dose inhibits platelet TXA-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spirin in 75 – 150 mg is indicated as anti-platel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iclopidine &amp; Clopidogrel are ADP-receptors agonis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is VD and has +ve inotropic ef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is an antiplatelet dru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act  through stimulating phosphodiesterase enzy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651-524A-40BD-867B-5E2E543C3E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spirin SD is included in the management of angina of effo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bciximab is a glycoprotein IIb-IIIa receptor bloc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seful treatment for angina plus bronchial asthma are non- selective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 block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seful treatment for angina plus heart failure is verapam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270E-285C-4AF9-B2FA-D6F0FC859D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FE0-5A60-430B-95C1-C74DA577B2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ontent Placeholder 6" descr="aastudent.gif"/>
          <p:cNvPicPr/>
          <p:nvPr/>
        </p:nvPicPr>
        <p:blipFill>
          <a:blip r:embed="rId1"/>
          <a:stretch/>
        </p:blipFill>
        <p:spPr>
          <a:xfrm>
            <a:off x="0" y="28584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Content Placeholder 6" descr="aastudent.gif"/>
          <p:cNvPicPr/>
          <p:nvPr/>
        </p:nvPicPr>
        <p:blipFill>
          <a:blip r:embed="rId2"/>
          <a:stretch/>
        </p:blipFill>
        <p:spPr>
          <a:xfrm>
            <a:off x="0" y="328608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6" descr="aastudent.gif"/>
          <p:cNvPicPr/>
          <p:nvPr/>
        </p:nvPicPr>
        <p:blipFill>
          <a:blip r:embed="rId3"/>
          <a:stretch/>
        </p:blipFill>
        <p:spPr>
          <a:xfrm>
            <a:off x="3000240" y="214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Content Placeholder 6" descr="aastudent.gif"/>
          <p:cNvPicPr/>
          <p:nvPr/>
        </p:nvPicPr>
        <p:blipFill>
          <a:blip r:embed="rId4"/>
          <a:stretch/>
        </p:blipFill>
        <p:spPr>
          <a:xfrm>
            <a:off x="5929200" y="35712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2" name="Content Placeholder 6" descr="aastudent.gif"/>
          <p:cNvPicPr/>
          <p:nvPr/>
        </p:nvPicPr>
        <p:blipFill>
          <a:blip r:embed="rId5"/>
          <a:stretch/>
        </p:blipFill>
        <p:spPr>
          <a:xfrm>
            <a:off x="3071880" y="328608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Content Placeholder 6" descr="aastudent.gif"/>
          <p:cNvPicPr/>
          <p:nvPr/>
        </p:nvPicPr>
        <p:blipFill>
          <a:blip r:embed="rId6"/>
          <a:stretch/>
        </p:blipFill>
        <p:spPr>
          <a:xfrm>
            <a:off x="5929200" y="32860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0" y="1799280"/>
            <a:ext cx="914400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tch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r the following matching questions, choose the most appropri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option for each statement, each option may be chosen once or more or not at 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B753-1FFF-494E-9F21-89FD62E4FD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360" y="0"/>
            <a:ext cx="93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-Nitroglycerin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b- Frusemide                        c-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- Modure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e- Chlorothiazi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f- Aspi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- Clopidogre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h- Triamteren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i- Mannit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sed IV in emergency ed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otassium sparing diuretic by direct action on renal tub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 small dose, inhibits platelets aggre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sed sublingual in acute attack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Osmotic diure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s a combination between amiloride and hydrochlorothiaz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When combined with verapamil produces severe cardiac inhibition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DP- receptors bloc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635-BE85-4726-8BCD-C93B947CE0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- Nitroglyceri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b- Verapamil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     c- Nifedip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-Nadolol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      e- Spironolactone            f-Trimetazid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g-Frusemid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h- Glucose 50% IV            i- Hydrochlorothiazi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CB that produces bradycard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Diuretic with direct arterio-dilator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ontraindicated in Variant ang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ytoprotective anti-ischemi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Its use in angina may result in coronary steal phenomen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Used in the form of TDDS for prophylaxis of nocturnal attacks of ang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roduces ototoxicit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Osmotic diureti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806-0688-4BC1-AFAB-3866D7A6FD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- Nitroglyceri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b- Verapamil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c- Nifedi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-Propranolol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e-  Abciximab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f-  Flunariz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- Dipyridamo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h- Nicorandil                   i-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inly veino-dilator and decreases pre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CB that produces reflex tachycar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Related to thiazide diuretics and allowed in renal impair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Glycoprotein IIb-IIIa- receptors block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CB used in migraine headach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hibits phosphodiesterase enzy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ecreases renal excretion of digit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itrodilator but produces no toler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233-C5E4-43A0-AAAF-6CBF675D5D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4EB-6CE7-44D8-9068-6C4FD4EEA1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a52d17qb.gif"/>
          <p:cNvPicPr/>
          <p:nvPr/>
        </p:nvPicPr>
        <p:blipFill>
          <a:blip r:embed="rId1"/>
          <a:stretch/>
        </p:blipFill>
        <p:spPr>
          <a:xfrm>
            <a:off x="3714840" y="1143000"/>
            <a:ext cx="4619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uresis may be renal or extrarena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gitalis, dopamine and dobutamine act as diuretics by increasing cardiac outpu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gitalis produces diuresis in normal subjec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Most pre-renal diuretics act by increasing renal blood flow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FEF-CB81-463C-8E63-DB5FEEE5FD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l diuretics exert their effects from the luminal side of the nephron except spironolact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hiazide diuretics are high ceiling diuret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hiazide diuretics act on the cortical diluting system = proximal part of the DCT.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Frusemide acts on the ascending limb of loop of Hen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Times New Roman"/>
              </a:rPr>
              <a:t>NSAIDs antagonize the antihypertensive effect of thiazide and loop diuret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DADA-9902-4FDC-84A6-CFAE7D97DD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benecid antagonizes the diuretic effect of thiazide and loop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aluretics acting on the kidney, act through decreasing N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+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eabsorption from the nephr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increase the loss of N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, K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, Mg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but reduce C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excretion in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 hypercalc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s hyperkal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D888-98C9-427E-9F67-3A8C9C26CA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s uric acid excretion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in treatment of gout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phrogenic diabetes insipidus is characterized by unresponsiveness of the kidney to the action of vasopressin (AD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iazides produce paradoxical decrease in urine volume in nephrogenic diabetes insipidus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193-7188-4A48-8CC8-3B1D976973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Royale</cp:lastModifiedBy>
  <dcterms:modified xsi:type="dcterms:W3CDTF">2011-12-15T17:23:33Z</dcterms:modified>
  <cp:revision>244</cp:revision>
  <dc:subject/>
  <dc:title>Slide 1</dc:title>
</cp:coreProperties>
</file>