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3.jpeg" ContentType="image/jpeg"/>
  <Override PartName="/ppt/media/image20.jpeg" ContentType="image/jpeg"/>
  <Override PartName="/ppt/media/Neil%20Diamond%20-%20September%20Morn%203.32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2E0-29C2-4F70-A3E3-A2920E84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422-767F-400A-8B6D-9CEA73E9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DF1-7057-4E5C-B833-94E1D581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688-7931-4A35-BA52-83CF1FE3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C7FB-3E4F-4B3F-89D5-E4D2F332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2B7A-8A1A-4874-A9A2-E865067B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D785-CDF5-4194-9071-B0330C58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63C-29CF-4891-B829-BF1686E8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7A84-C72F-439A-8A9A-0DE8F20E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5C39-663D-421E-BEFF-630B1C50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A6C-4F69-4DDF-8141-0C0E5CE8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309-EB25-4227-9F98-AC884973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4F9C-0422-4214-80A0-246F28A7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CFD0-B172-4925-8DE5-E4274DA1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6D4D-948E-42F9-8438-E6FBFB72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7656-2C76-4A40-8219-2A8A23C0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989B-E47E-4E98-8B54-63C13571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CC05-B92A-4B71-8028-C50D3351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D2AD-1004-4E92-9047-1B11DF4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93D9-C814-4D81-A446-2F784E3C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CB42-2E5C-4B1B-B378-12A6BB9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B5D3-2342-415C-854D-71189A3E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107-DEA1-4D48-AAC2-4E4DC013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3A4A-F689-4346-98D7-3A8C9401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55DC-95E1-4F81-8EF2-C7CF3FD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B4A8-A50E-487E-A724-808CE15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4D78-7642-4238-8E12-9F0C218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C17FA-26D2-404B-B949-A7BF7632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C799-EC6A-40C6-A6CA-CE076082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484CE-65E0-4106-8ECD-23871053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D9AF-EF8C-492A-9D55-912A64AE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62F95-8C1E-4CA8-B373-1AB6A77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B671-783A-44AA-BCCA-FF0AD370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46F-E85C-4107-A31D-559177EE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01E18-FC62-4547-B15C-AF514B47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71FA-EB76-4327-9737-8541340C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5A3C9-5AFB-4FE3-830A-8DAD4208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18B99-D23A-44E8-9F8B-4AF2D80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5155F-B78D-486F-95DD-7E5A3DBC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5E01-38D3-44B7-8AA5-FDD72F89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82156-54BC-4C4D-BA42-C11C61F9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38FB-79A6-4EB3-842D-D466FE71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D15C-615C-4936-AAB0-32B3743F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7295-859B-4CBF-A6F1-9F6018FD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094-8154-44C4-A2B1-272A8AA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572DA-E22F-42C8-973E-7510586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43A0-B256-47E0-8EEC-572453FD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911B-8776-4390-80C3-51566A2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69B9-59CA-4C6C-98F1-CA3A7151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7D56-4DA4-48DE-9188-B5C3BAEE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798F-5A63-44E8-B1CC-BE3D03AB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56A8B-7B51-400C-811C-7F3FB9E8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F40FB-F2AD-41DB-8CFE-D43C6F31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482E7-1483-4971-BBFC-3EDAF328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552B-A1E0-48D7-825A-B6A438D7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4AA-35A8-452D-A30A-0EEF6430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205D-70FB-4686-854F-F1672198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5D462-177C-40CE-BF75-15CA823C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DB15B-C62A-49A6-BD91-687A197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0D6F6-792B-457E-B9E6-B4E7AC0F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E21E5-83AA-44C5-A39F-5F1094A5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92D0B-9ABC-457C-A667-BB0715B9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D98D4-AE57-4BB5-86D2-B690DC49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5F1D-ABE6-472F-8660-B31A99EB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30857-6F9B-422A-B878-A4BB108D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86E2C-CCD9-4821-95BD-F6D8D555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443-275B-445E-93CA-30921D6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76A2-2774-4EE6-AEB9-69D6CDC6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51DD-1635-4993-BE99-22FBD98F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EF3B8-A0A2-4140-9793-514B3103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2B6E0-02A9-44CF-89AC-4CCE5E5F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D81DA-48F8-446E-9235-1A3B59F1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DCB63-BD8A-4AA3-8051-ED65D163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E2C1-0AB5-485F-8A53-4DD7218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6272-02A6-4966-B5A4-C03C2E6C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3AF1A-14A0-4035-B417-2D8A9701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1E3E8-54B2-458D-B9F5-F8D37A59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C31D-F31B-4385-A1CD-DF61627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2C44E-19F3-4BD5-B8DA-9E58415F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3B453-2BE3-44F5-9FFA-14E52518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10899-25EC-4554-BC36-07B51B60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8DF16-AA9D-42AD-B641-4EDEF853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BE0D-C568-4F09-B518-D93B6E94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341-CB49-4D0E-A860-0E947CED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ige driehoe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hte verbindingslijn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hte verbindingslijn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9416-878B-4A66-B094-49654DDD67E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ige driehoe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hte verbindingslijn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hte verbindingslijn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Gelijkbenige driehoe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6F1B-4EC9-44B5-B950-F0C1773DC9A5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ige driehoe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hte verbindingslijn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hte verbindingslijn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00A4-D535-4B80-B251-8B724F6397C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ige driehoe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Gelijkbenige driehoe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hte verbindingslijn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hte verbindingslijn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341C-C1B8-41A0-A9A4-C8823523BCE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14EF-0C90-4457-8917-C314CAAA2D9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7CCB-0C91-47C7-AF41-B48D6BA1F784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A7DA-3A00-457C-88E1-A94A061A1DD9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Neil%20Diamond%20-%20September%20Morn%203.3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hyperlink" Target="http://blog.seniorennet.be/janmichel/" TargetMode="External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Afbeelding 5" descr="NEIL_DIAMOND_JL01.jpg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64440"/>
          </a:xfrm>
          <a:prstGeom prst="rect">
            <a:avLst/>
          </a:prstGeom>
          <a:ln w="0">
            <a:noFill/>
          </a:ln>
        </p:spPr>
      </p:pic>
      <p:pic>
        <p:nvPicPr>
          <p:cNvPr id="302" name="Afbeelding 3" descr="lijst groen marmer van Godelieve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kstvak 4"/>
          <p:cNvSpPr/>
          <p:nvPr/>
        </p:nvSpPr>
        <p:spPr>
          <a:xfrm>
            <a:off x="900000" y="9079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ot  on …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kstvak 5"/>
          <p:cNvSpPr/>
          <p:nvPr/>
        </p:nvSpPr>
        <p:spPr>
          <a:xfrm rot="20350200">
            <a:off x="1768680" y="23479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NEIL  DIAMO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25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Afbeelding 7" descr="nd - 1984 primitive (NXPowerLite).jpg"/>
          <p:cNvPicPr/>
          <p:nvPr/>
        </p:nvPicPr>
        <p:blipFill>
          <a:blip r:embed="rId1"/>
          <a:stretch/>
        </p:blipFill>
        <p:spPr>
          <a:xfrm>
            <a:off x="3564000" y="476280"/>
            <a:ext cx="3816360" cy="3384360"/>
          </a:xfrm>
          <a:prstGeom prst="rect">
            <a:avLst/>
          </a:prstGeom>
          <a:ln w="0">
            <a:noFill/>
          </a:ln>
        </p:spPr>
      </p:pic>
      <p:pic>
        <p:nvPicPr>
          <p:cNvPr id="306" name="Afbeelding 6" descr="nd - 1982 heartlight (NXPowerLite).jpg"/>
          <p:cNvPicPr/>
          <p:nvPr/>
        </p:nvPicPr>
        <p:blipFill>
          <a:blip r:embed="rId2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07" name="Afbeelding 5" descr="nd - 1981 on the way to the skay (NXPowerLite).jpg"/>
          <p:cNvPicPr/>
          <p:nvPr/>
        </p:nvPicPr>
        <p:blipFill>
          <a:blip r:embed="rId3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08" name="Afbeelding 4" descr="nd - 1980 2 jazz singer (NXPowerLite).jpg"/>
          <p:cNvPicPr/>
          <p:nvPr/>
        </p:nvPicPr>
        <p:blipFill>
          <a:blip r:embed="rId4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09" name="Afbeelding 3" descr="nd - 1980 1 september morn (NXPowerLite).jpg"/>
          <p:cNvPicPr/>
          <p:nvPr/>
        </p:nvPicPr>
        <p:blipFill>
          <a:blip r:embed="rId5"/>
          <a:stretch/>
        </p:blipFill>
        <p:spPr>
          <a:xfrm>
            <a:off x="3635280" y="40464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310" name="Afbeelding 2" descr="Reclamezuil voor nd.jpg"/>
          <p:cNvPicPr/>
          <p:nvPr/>
        </p:nvPicPr>
        <p:blipFill>
          <a:blip r:embed="rId6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kstvak 8"/>
          <p:cNvSpPr/>
          <p:nvPr/>
        </p:nvSpPr>
        <p:spPr>
          <a:xfrm>
            <a:off x="395280" y="404640"/>
            <a:ext cx="273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Vele successen verschenen in de 80er ja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4" descr="nd - 1988 the best years of our lives (NXPowerLite).jpg"/>
          <p:cNvPicPr/>
          <p:nvPr/>
        </p:nvPicPr>
        <p:blipFill>
          <a:blip r:embed="rId1"/>
          <a:stretch/>
        </p:blipFill>
        <p:spPr>
          <a:xfrm>
            <a:off x="3635280" y="40464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313" name="Afbeelding 5" descr="nd - 1991 lovescape (NXPowerLite).jpg"/>
          <p:cNvPicPr/>
          <p:nvPr/>
        </p:nvPicPr>
        <p:blipFill>
          <a:blip r:embed="rId2"/>
          <a:stretch/>
        </p:blipFill>
        <p:spPr>
          <a:xfrm>
            <a:off x="363528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14" name="Afbeelding 6" descr="nd - 1996 tennessee moon (NXPowerLite).jpg"/>
          <p:cNvPicPr/>
          <p:nvPr/>
        </p:nvPicPr>
        <p:blipFill>
          <a:blip r:embed="rId3"/>
          <a:stretch/>
        </p:blipFill>
        <p:spPr>
          <a:xfrm>
            <a:off x="363528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15" name="Afbeelding 7" descr="nd - 1998 as time goes by (NXPowerLite).jpg"/>
          <p:cNvPicPr/>
          <p:nvPr/>
        </p:nvPicPr>
        <p:blipFill>
          <a:blip r:embed="rId4"/>
          <a:stretch/>
        </p:blipFill>
        <p:spPr>
          <a:xfrm>
            <a:off x="363528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16" name="Afbeelding 3" descr="nd - 1986 headed for the future (NXPowerLite).jpg"/>
          <p:cNvPicPr/>
          <p:nvPr/>
        </p:nvPicPr>
        <p:blipFill>
          <a:blip r:embed="rId5"/>
          <a:stretch/>
        </p:blipFill>
        <p:spPr>
          <a:xfrm>
            <a:off x="3635280" y="40464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317" name="Afbeelding 2" descr="Reclamezuil voor nd.jpg"/>
          <p:cNvPicPr/>
          <p:nvPr/>
        </p:nvPicPr>
        <p:blipFill>
          <a:blip r:embed="rId6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kstvak 8"/>
          <p:cNvSpPr/>
          <p:nvPr/>
        </p:nvSpPr>
        <p:spPr>
          <a:xfrm>
            <a:off x="395280" y="40464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oie cd’s in de 90er ja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Afbeelding 4" descr="nd - 2005 12 songs (NXPowerLite).jpg"/>
          <p:cNvPicPr/>
          <p:nvPr/>
        </p:nvPicPr>
        <p:blipFill>
          <a:blip r:embed="rId1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0" name="Afbeelding 5" descr="nd - 2008 home before dark (NXPowerLite).jpg"/>
          <p:cNvPicPr/>
          <p:nvPr/>
        </p:nvPicPr>
        <p:blipFill>
          <a:blip r:embed="rId2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1" name="Afbeelding 7" descr="nd - 2010 dreams (NXPowerLite).jpg"/>
          <p:cNvPicPr/>
          <p:nvPr/>
        </p:nvPicPr>
        <p:blipFill>
          <a:blip r:embed="rId3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2" name="Afbeelding 3" descr="nd - 2001 three chord opera (NXPowerLite).jpg"/>
          <p:cNvPicPr/>
          <p:nvPr/>
        </p:nvPicPr>
        <p:blipFill>
          <a:blip r:embed="rId4"/>
          <a:stretch/>
        </p:blipFill>
        <p:spPr>
          <a:xfrm>
            <a:off x="3564000" y="404640"/>
            <a:ext cx="3816360" cy="3456000"/>
          </a:xfrm>
          <a:prstGeom prst="rect">
            <a:avLst/>
          </a:prstGeom>
          <a:ln w="0">
            <a:noFill/>
          </a:ln>
        </p:spPr>
      </p:pic>
      <p:pic>
        <p:nvPicPr>
          <p:cNvPr id="323" name="Afbeelding 2" descr="Reclamezuil voor nd.jpg"/>
          <p:cNvPicPr/>
          <p:nvPr/>
        </p:nvPicPr>
        <p:blipFill>
          <a:blip r:embed="rId5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Tekstvak 6"/>
          <p:cNvSpPr/>
          <p:nvPr/>
        </p:nvSpPr>
        <p:spPr>
          <a:xfrm>
            <a:off x="395280" y="404640"/>
            <a:ext cx="28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n o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vanaf 200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nog enkele prachtige albu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Afbeelding 5" descr="NEIL_DIAMOND_JL04.jpg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72360"/>
          </a:xfrm>
          <a:prstGeom prst="rect">
            <a:avLst/>
          </a:prstGeom>
          <a:ln w="0">
            <a:noFill/>
          </a:ln>
        </p:spPr>
      </p:pic>
      <p:pic>
        <p:nvPicPr>
          <p:cNvPr id="326" name="Afbeelding 6" descr="NEIL_DIAMOND_JL05.jpg"/>
          <p:cNvPicPr/>
          <p:nvPr/>
        </p:nvPicPr>
        <p:blipFill>
          <a:blip r:embed="rId2"/>
          <a:stretch/>
        </p:blipFill>
        <p:spPr>
          <a:xfrm>
            <a:off x="611280" y="765000"/>
            <a:ext cx="7848360" cy="5472360"/>
          </a:xfrm>
          <a:prstGeom prst="rect">
            <a:avLst/>
          </a:prstGeom>
          <a:ln w="0">
            <a:noFill/>
          </a:ln>
        </p:spPr>
      </p:pic>
      <p:pic>
        <p:nvPicPr>
          <p:cNvPr id="327" name="Afbeelding 2" descr="NEIL_DIAMOND_JL02.jpg"/>
          <p:cNvPicPr/>
          <p:nvPr/>
        </p:nvPicPr>
        <p:blipFill>
          <a:blip r:embed="rId3"/>
          <a:stretch/>
        </p:blipFill>
        <p:spPr>
          <a:xfrm>
            <a:off x="611280" y="765000"/>
            <a:ext cx="7810560" cy="5400720"/>
          </a:xfrm>
          <a:prstGeom prst="rect">
            <a:avLst/>
          </a:prstGeom>
          <a:ln w="0">
            <a:noFill/>
          </a:ln>
        </p:spPr>
      </p:pic>
      <p:pic>
        <p:nvPicPr>
          <p:cNvPr id="328" name="Afbeelding 3" descr="lijst groen marmer van Godelieve.jpg"/>
          <p:cNvPicPr/>
          <p:nvPr/>
        </p:nvPicPr>
        <p:blipFill>
          <a:blip r:embed="rId4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Afbeelding 4" descr="NEIL_DIAMOND_JL03.jpg"/>
          <p:cNvPicPr/>
          <p:nvPr/>
        </p:nvPicPr>
        <p:blipFill>
          <a:blip r:embed="rId5"/>
          <a:stretch/>
        </p:blipFill>
        <p:spPr>
          <a:xfrm>
            <a:off x="611280" y="765000"/>
            <a:ext cx="7794360" cy="5472360"/>
          </a:xfrm>
          <a:prstGeom prst="rect">
            <a:avLst/>
          </a:prstGeom>
          <a:ln w="0">
            <a:noFill/>
          </a:ln>
        </p:spPr>
      </p:pic>
    </p:spTree>
  </p:cSld>
  <p:transition advTm="40000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Afbeelding 2" descr="NEIL_DIAMOND_JL06.jpg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72360"/>
          </a:xfrm>
          <a:prstGeom prst="rect">
            <a:avLst/>
          </a:prstGeom>
          <a:ln w="0">
            <a:noFill/>
          </a:ln>
        </p:spPr>
      </p:pic>
      <p:pic>
        <p:nvPicPr>
          <p:cNvPr id="331" name="Afbeelding 3" descr="lijst groen marmer van Godelieve.jpg"/>
          <p:cNvPicPr/>
          <p:nvPr/>
        </p:nvPicPr>
        <p:blipFill>
          <a:blip r:embed="rId2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Tekstvak 6"/>
          <p:cNvSpPr/>
          <p:nvPr/>
        </p:nvSpPr>
        <p:spPr>
          <a:xfrm>
            <a:off x="2843280" y="5516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omic Sans MS"/>
              </a:rPr>
              <a:t>Samengesteld  door  JanMich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4" descr="C:\Users\John\Downloads\Nieuwe map (3)\Banner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5516640"/>
            <a:ext cx="1511280" cy="423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C:\Users\Gebruiker\Desktop\EXIT.jp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826920" y="5516640"/>
            <a:ext cx="936720" cy="36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20:49:51Z</dcterms:created>
  <dc:creator>Gebruiker</dc:creator>
  <dc:description/>
  <dc:language>en-US</dc:language>
  <cp:lastModifiedBy>Gebruiker</cp:lastModifiedBy>
  <dcterms:modified xsi:type="dcterms:W3CDTF">2012-01-23T19:35:52Z</dcterms:modified>
  <cp:revision>13</cp:revision>
  <dc:subject/>
  <dc:title>Dia 1</dc:title>
</cp:coreProperties>
</file>