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4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3.jpeg" ContentType="image/jpeg"/>
  <Override PartName="/ppt/media/image20.jpeg" ContentType="image/jpeg"/>
  <Override PartName="/ppt/media/Neil%20Diamond%20-%20September%20Morn%203.32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466-591D-4A2C-88C4-1E706A8B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365A-AB96-4839-AF6C-B47B5596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31A-4E84-431B-AEAF-6E5B1B54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D76-5EE6-4A76-AFE9-21963123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AD8C-DC2C-417A-A36B-C3987EBE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FF67-F77C-4D64-8030-A838C86F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1033-EAC4-4349-A487-C70130B2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F0E9-5039-49FA-82D4-8BCB4251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8DD5-80D4-40C3-BC25-98B70558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DD59-7C52-4EEF-9964-8182C2E4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7053-0FAF-46B4-9FE7-DD606CAB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A4C-0ECF-4E0D-8AA3-6168EE43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2724-8B36-4617-A70F-6E3D516E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B8DA-0285-46F1-BB36-F241E7E3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2323-F392-4EC1-94A7-6E643CF3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B966-3DE7-469F-A2B1-017C3843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36FE-8A31-411E-B63F-70AE9723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35F29-9805-4592-8E6B-71850EBE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0B958-A750-40E8-9AEC-8EB277AE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32A90-9DE6-4762-AA46-25F776F9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068A-73AB-4755-ADE1-4828E176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7060D-9896-4524-830C-EE6A7AAF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B21-D669-4FD8-8780-B10100E7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DA55E-49D4-4B7E-B2D9-14A03F38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8AB2F-4BD0-4B12-B4F1-8AA52DC8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11F8-B328-4BAC-9EC9-FBE81482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37452-A43A-4695-B86D-A81DAA72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B911E-67F4-4883-B701-B6696FAF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77E32-46CF-4B5D-9656-9D7FB6DC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B8568-8DE8-49CB-95BF-6B347F38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4411F-3D28-4EE0-BB1C-1FFC9459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7C4C7-B87C-4FCB-B6DC-5AA27758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971FE-7E6F-402D-9928-6DF92480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7E9-75E5-40CC-B9C7-3FC96AF3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3D152-7706-4AB2-A3A5-6B264F51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4B718-E092-4AED-8B0A-11850674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486D0-C90F-406D-A3F4-0A00FADF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BCD25-8D25-4640-84AA-05707DF7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7AFC0-B4B7-4635-9896-EC4BC792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916E8-EDF4-4DEE-B11B-0F373BED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B5635-62D2-4AED-8C7A-3829E4DD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BC6A0-6543-4F3E-937F-9A6F1303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69F07-91D5-4DDC-8D92-C4AF21AA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0355F-321F-4E0F-AD3B-F18EF317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B35-62F0-4BAE-93E4-46825383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27B63-2035-4086-9880-57FDB344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A77FA-51BB-486F-A611-3215A286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B5E3C-CF38-4596-B152-B7DE4300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6FEEA-CA7A-4BC8-9375-55E965E5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14A12-B0B9-449F-B888-578C4F9E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CAE11-8DCC-4014-B270-EC53E3C9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EA641-75D9-430F-B899-31E926AE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2565A-786A-46AB-B08E-3A8C3A6C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F5BF6-6442-4FEA-BFE3-9F6E9DE1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92791-2480-465E-AE1A-F6CCA823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0E1-4518-416C-A693-C0EF933A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77152-3F87-4338-B28B-597CB468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FD89C-3F61-47D6-AF41-6DAA09AB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C86DC-A652-49F7-A271-6C3DAFA9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29BE4-24AD-4E18-AE4F-6D5E9C63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782AD-0260-4300-AA3B-4107E29E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57DD7-1A8E-4898-A425-B674331C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5C584-547E-450B-8AAB-6CE581D4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47AF1-D28A-4D83-A0CD-478E5A5B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93716-4010-4A34-B975-AE60DF63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54EE0-7C2B-44BC-B1AA-890B8BBA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972B-3D22-4FFA-9430-61321FD0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442FC-8A37-4450-A582-824C1EF7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13A02-A3A6-45A4-AB9E-9EF0BCD5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16C72-C3D3-421C-9543-CFB2221F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B9D87-0959-4300-AEAE-4080A06C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3D8F0-6557-4BCC-B786-11B0A149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A9E9E-196F-4262-B2DF-BA26CFF9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1F70A-4507-4DC9-8DB9-D4E4B433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2808A-62FA-444C-BBDF-576BCB8E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76896-500F-40CE-BF62-E1866649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8D7A4-1501-4163-8181-00603CFD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4C2-6008-40ED-9587-7670CEB6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E469A-79CA-4059-8E4F-3B37DFBA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AAE49-2CDD-4CF1-8AA9-B66119D8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0BE12-51A4-4B02-8FFD-5DF1D30E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027F1-F5CB-4D53-831E-90C1BA8F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90A29-DC28-434B-B3F1-96F6D531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AF5-7646-479B-BC54-4CADCF94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ige driehoe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hte verbindingslijn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hte verbindingslijn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38A7-2AE2-47C0-ABA1-2F1AB87C926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ige driehoe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hte verbindingslijn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hte verbindingslijn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Gelijkbenige driehoe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A263-8ABE-48F6-8810-1E03F839D2E4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hoekige driehoe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hte verbindingslijn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hte verbindingslijn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E543-A273-42B4-8C5D-DAA07BF1D99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ige driehoe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Gelijkbenige driehoe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hte verbindingslijn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hte verbindingslijn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C594-28C6-4C36-AEDE-79DCA5E43CE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3F1B-15C0-4694-BB2E-6B20962652E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6F93-B28C-4FD4-88D5-FBE3898ED5DE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D792-5164-41E6-8960-F58F30719843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Neil%20Diamond%20-%20September%20Morn%203.32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hyperlink" Target="http://blog.seniorennet.be/janmichel/" TargetMode="External"/><Relationship Id="rId4" Type="http://schemas.openxmlformats.org/officeDocument/2006/relationships/image" Target="../media/image23.gif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Afbeelding 5" descr="NEIL_DIAMOND_JL01.jpg"/>
          <p:cNvPicPr/>
          <p:nvPr/>
        </p:nvPicPr>
        <p:blipFill>
          <a:blip r:embed="rId1"/>
          <a:stretch/>
        </p:blipFill>
        <p:spPr>
          <a:xfrm>
            <a:off x="611280" y="765000"/>
            <a:ext cx="7848360" cy="5464440"/>
          </a:xfrm>
          <a:prstGeom prst="rect">
            <a:avLst/>
          </a:prstGeom>
          <a:ln w="0">
            <a:noFill/>
          </a:ln>
        </p:spPr>
      </p:pic>
      <p:pic>
        <p:nvPicPr>
          <p:cNvPr id="302" name="Afbeelding 3" descr="lijst groen marmer van Godelieve.jpg"/>
          <p:cNvPicPr/>
          <p:nvPr/>
        </p:nvPicPr>
        <p:blipFill>
          <a:blip r:embed="rId2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kstvak 4"/>
          <p:cNvSpPr/>
          <p:nvPr/>
        </p:nvSpPr>
        <p:spPr>
          <a:xfrm>
            <a:off x="900000" y="9079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pot  on 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kstvak 5"/>
          <p:cNvSpPr/>
          <p:nvPr/>
        </p:nvSpPr>
        <p:spPr>
          <a:xfrm rot="20350200">
            <a:off x="1768680" y="234792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NEIL  DIAMO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25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Afbeelding 7" descr="nd - 1984 primitive (NXPowerLite).jpg"/>
          <p:cNvPicPr/>
          <p:nvPr/>
        </p:nvPicPr>
        <p:blipFill>
          <a:blip r:embed="rId1"/>
          <a:stretch/>
        </p:blipFill>
        <p:spPr>
          <a:xfrm>
            <a:off x="3564000" y="476280"/>
            <a:ext cx="3816360" cy="3384360"/>
          </a:xfrm>
          <a:prstGeom prst="rect">
            <a:avLst/>
          </a:prstGeom>
          <a:ln w="0">
            <a:noFill/>
          </a:ln>
        </p:spPr>
      </p:pic>
      <p:pic>
        <p:nvPicPr>
          <p:cNvPr id="306" name="Afbeelding 6" descr="nd - 1982 heartlight (NXPowerLite).jpg"/>
          <p:cNvPicPr/>
          <p:nvPr/>
        </p:nvPicPr>
        <p:blipFill>
          <a:blip r:embed="rId2"/>
          <a:stretch/>
        </p:blipFill>
        <p:spPr>
          <a:xfrm>
            <a:off x="356400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07" name="Afbeelding 5" descr="nd - 1981 on the way to the skay (NXPowerLite).jpg"/>
          <p:cNvPicPr/>
          <p:nvPr/>
        </p:nvPicPr>
        <p:blipFill>
          <a:blip r:embed="rId3"/>
          <a:stretch/>
        </p:blipFill>
        <p:spPr>
          <a:xfrm>
            <a:off x="356400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08" name="Afbeelding 4" descr="nd - 1980 2 jazz singer (NXPowerLite).jpg"/>
          <p:cNvPicPr/>
          <p:nvPr/>
        </p:nvPicPr>
        <p:blipFill>
          <a:blip r:embed="rId4"/>
          <a:stretch/>
        </p:blipFill>
        <p:spPr>
          <a:xfrm>
            <a:off x="356400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09" name="Afbeelding 3" descr="nd - 1980 1 september morn (NXPowerLite).jpg"/>
          <p:cNvPicPr/>
          <p:nvPr/>
        </p:nvPicPr>
        <p:blipFill>
          <a:blip r:embed="rId5"/>
          <a:stretch/>
        </p:blipFill>
        <p:spPr>
          <a:xfrm>
            <a:off x="3635280" y="404640"/>
            <a:ext cx="3745080" cy="3456000"/>
          </a:xfrm>
          <a:prstGeom prst="rect">
            <a:avLst/>
          </a:prstGeom>
          <a:ln w="0">
            <a:noFill/>
          </a:ln>
        </p:spPr>
      </p:pic>
      <p:pic>
        <p:nvPicPr>
          <p:cNvPr id="310" name="Afbeelding 2" descr="Reclamezuil voor nd.jpg"/>
          <p:cNvPicPr/>
          <p:nvPr/>
        </p:nvPicPr>
        <p:blipFill>
          <a:blip r:embed="rId6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Tekstvak 8"/>
          <p:cNvSpPr/>
          <p:nvPr/>
        </p:nvSpPr>
        <p:spPr>
          <a:xfrm>
            <a:off x="395280" y="404640"/>
            <a:ext cx="273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Vele successen verschenen in de 80er ja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0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3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3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3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3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Afbeelding 4" descr="nd - 1988 the best years of our lives (NXPowerLite).jpg"/>
          <p:cNvPicPr/>
          <p:nvPr/>
        </p:nvPicPr>
        <p:blipFill>
          <a:blip r:embed="rId1"/>
          <a:stretch/>
        </p:blipFill>
        <p:spPr>
          <a:xfrm>
            <a:off x="3635280" y="404640"/>
            <a:ext cx="3745080" cy="3456000"/>
          </a:xfrm>
          <a:prstGeom prst="rect">
            <a:avLst/>
          </a:prstGeom>
          <a:ln w="0">
            <a:noFill/>
          </a:ln>
        </p:spPr>
      </p:pic>
      <p:pic>
        <p:nvPicPr>
          <p:cNvPr id="313" name="Afbeelding 5" descr="nd - 1991 lovescape (NXPowerLite).jpg"/>
          <p:cNvPicPr/>
          <p:nvPr/>
        </p:nvPicPr>
        <p:blipFill>
          <a:blip r:embed="rId2"/>
          <a:stretch/>
        </p:blipFill>
        <p:spPr>
          <a:xfrm>
            <a:off x="363528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14" name="Afbeelding 6" descr="nd - 1996 tennessee moon (NXPowerLite).jpg"/>
          <p:cNvPicPr/>
          <p:nvPr/>
        </p:nvPicPr>
        <p:blipFill>
          <a:blip r:embed="rId3"/>
          <a:stretch/>
        </p:blipFill>
        <p:spPr>
          <a:xfrm>
            <a:off x="363528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15" name="Afbeelding 7" descr="nd - 1998 as time goes by (NXPowerLite).jpg"/>
          <p:cNvPicPr/>
          <p:nvPr/>
        </p:nvPicPr>
        <p:blipFill>
          <a:blip r:embed="rId4"/>
          <a:stretch/>
        </p:blipFill>
        <p:spPr>
          <a:xfrm>
            <a:off x="363528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16" name="Afbeelding 3" descr="nd - 1986 headed for the future (NXPowerLite).jpg"/>
          <p:cNvPicPr/>
          <p:nvPr/>
        </p:nvPicPr>
        <p:blipFill>
          <a:blip r:embed="rId5"/>
          <a:stretch/>
        </p:blipFill>
        <p:spPr>
          <a:xfrm>
            <a:off x="3635280" y="404640"/>
            <a:ext cx="3745080" cy="3456000"/>
          </a:xfrm>
          <a:prstGeom prst="rect">
            <a:avLst/>
          </a:prstGeom>
          <a:ln w="0">
            <a:noFill/>
          </a:ln>
        </p:spPr>
      </p:pic>
      <p:pic>
        <p:nvPicPr>
          <p:cNvPr id="317" name="Afbeelding 2" descr="Reclamezuil voor nd.jpg"/>
          <p:cNvPicPr/>
          <p:nvPr/>
        </p:nvPicPr>
        <p:blipFill>
          <a:blip r:embed="rId6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Tekstvak 8"/>
          <p:cNvSpPr/>
          <p:nvPr/>
        </p:nvSpPr>
        <p:spPr>
          <a:xfrm>
            <a:off x="395280" y="40464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oie cd’s in de 90er ja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0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3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3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3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Afbeelding 4" descr="nd - 2005 12 songs (NXPowerLite).jpg"/>
          <p:cNvPicPr/>
          <p:nvPr/>
        </p:nvPicPr>
        <p:blipFill>
          <a:blip r:embed="rId1"/>
          <a:stretch/>
        </p:blipFill>
        <p:spPr>
          <a:xfrm>
            <a:off x="356400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20" name="Afbeelding 5" descr="nd - 2008 home before dark (NXPowerLite).jpg"/>
          <p:cNvPicPr/>
          <p:nvPr/>
        </p:nvPicPr>
        <p:blipFill>
          <a:blip r:embed="rId2"/>
          <a:stretch/>
        </p:blipFill>
        <p:spPr>
          <a:xfrm>
            <a:off x="356400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21" name="Afbeelding 7" descr="nd - 2010 dreams (NXPowerLite).jpg"/>
          <p:cNvPicPr/>
          <p:nvPr/>
        </p:nvPicPr>
        <p:blipFill>
          <a:blip r:embed="rId3"/>
          <a:stretch/>
        </p:blipFill>
        <p:spPr>
          <a:xfrm>
            <a:off x="356400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22" name="Afbeelding 3" descr="nd - 2001 three chord opera (NXPowerLite).jpg"/>
          <p:cNvPicPr/>
          <p:nvPr/>
        </p:nvPicPr>
        <p:blipFill>
          <a:blip r:embed="rId4"/>
          <a:stretch/>
        </p:blipFill>
        <p:spPr>
          <a:xfrm>
            <a:off x="356400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23" name="Afbeelding 2" descr="Reclamezuil voor nd.jpg"/>
          <p:cNvPicPr/>
          <p:nvPr/>
        </p:nvPicPr>
        <p:blipFill>
          <a:blip r:embed="rId5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Tekstvak 6"/>
          <p:cNvSpPr/>
          <p:nvPr/>
        </p:nvSpPr>
        <p:spPr>
          <a:xfrm>
            <a:off x="395280" y="404640"/>
            <a:ext cx="28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n oo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vanaf 20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g enkele prachtige albu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0">
    <p:wheel spokes="8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3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3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3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Afbeelding 5" descr="NEIL_DIAMOND_JL04.jpg"/>
          <p:cNvPicPr/>
          <p:nvPr/>
        </p:nvPicPr>
        <p:blipFill>
          <a:blip r:embed="rId1"/>
          <a:stretch/>
        </p:blipFill>
        <p:spPr>
          <a:xfrm>
            <a:off x="611280" y="765000"/>
            <a:ext cx="7848360" cy="5472360"/>
          </a:xfrm>
          <a:prstGeom prst="rect">
            <a:avLst/>
          </a:prstGeom>
          <a:ln w="0">
            <a:noFill/>
          </a:ln>
        </p:spPr>
      </p:pic>
      <p:pic>
        <p:nvPicPr>
          <p:cNvPr id="326" name="Afbeelding 6" descr="NEIL_DIAMOND_JL05.jpg"/>
          <p:cNvPicPr/>
          <p:nvPr/>
        </p:nvPicPr>
        <p:blipFill>
          <a:blip r:embed="rId2"/>
          <a:stretch/>
        </p:blipFill>
        <p:spPr>
          <a:xfrm>
            <a:off x="611280" y="765000"/>
            <a:ext cx="7848360" cy="5472360"/>
          </a:xfrm>
          <a:prstGeom prst="rect">
            <a:avLst/>
          </a:prstGeom>
          <a:ln w="0">
            <a:noFill/>
          </a:ln>
        </p:spPr>
      </p:pic>
      <p:pic>
        <p:nvPicPr>
          <p:cNvPr id="327" name="Afbeelding 2" descr="NEIL_DIAMOND_JL02.jpg"/>
          <p:cNvPicPr/>
          <p:nvPr/>
        </p:nvPicPr>
        <p:blipFill>
          <a:blip r:embed="rId3"/>
          <a:stretch/>
        </p:blipFill>
        <p:spPr>
          <a:xfrm>
            <a:off x="611280" y="765000"/>
            <a:ext cx="7810560" cy="5400720"/>
          </a:xfrm>
          <a:prstGeom prst="rect">
            <a:avLst/>
          </a:prstGeom>
          <a:ln w="0">
            <a:noFill/>
          </a:ln>
        </p:spPr>
      </p:pic>
      <p:pic>
        <p:nvPicPr>
          <p:cNvPr id="328" name="Afbeelding 3" descr="lijst groen marmer van Godelieve.jpg"/>
          <p:cNvPicPr/>
          <p:nvPr/>
        </p:nvPicPr>
        <p:blipFill>
          <a:blip r:embed="rId4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Afbeelding 4" descr="NEIL_DIAMOND_JL03.jpg"/>
          <p:cNvPicPr/>
          <p:nvPr/>
        </p:nvPicPr>
        <p:blipFill>
          <a:blip r:embed="rId5"/>
          <a:stretch/>
        </p:blipFill>
        <p:spPr>
          <a:xfrm>
            <a:off x="611280" y="765000"/>
            <a:ext cx="7794360" cy="5472360"/>
          </a:xfrm>
          <a:prstGeom prst="rect">
            <a:avLst/>
          </a:prstGeom>
          <a:ln w="0">
            <a:noFill/>
          </a:ln>
        </p:spPr>
      </p:pic>
    </p:spTree>
  </p:cSld>
  <p:transition advTm="40000">
    <p:wheel spokes="8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3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3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3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Afbeelding 2" descr="NEIL_DIAMOND_JL06.jpg"/>
          <p:cNvPicPr/>
          <p:nvPr/>
        </p:nvPicPr>
        <p:blipFill>
          <a:blip r:embed="rId1"/>
          <a:stretch/>
        </p:blipFill>
        <p:spPr>
          <a:xfrm>
            <a:off x="611280" y="765000"/>
            <a:ext cx="7848360" cy="5472360"/>
          </a:xfrm>
          <a:prstGeom prst="rect">
            <a:avLst/>
          </a:prstGeom>
          <a:ln w="0">
            <a:noFill/>
          </a:ln>
        </p:spPr>
      </p:pic>
      <p:pic>
        <p:nvPicPr>
          <p:cNvPr id="331" name="Afbeelding 3" descr="lijst groen marmer van Godelieve.jpg"/>
          <p:cNvPicPr/>
          <p:nvPr/>
        </p:nvPicPr>
        <p:blipFill>
          <a:blip r:embed="rId2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Tekstvak 6"/>
          <p:cNvSpPr/>
          <p:nvPr/>
        </p:nvSpPr>
        <p:spPr>
          <a:xfrm>
            <a:off x="2843280" y="5516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omic Sans MS"/>
              </a:rPr>
              <a:t>Samengesteld  door  JanMich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4" descr="C:\Users\John\Downloads\Nieuwe map (3)\Banner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5516640"/>
            <a:ext cx="1511280" cy="423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C:\Users\Gebruiker\Desktop\EXIT.jpg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26920" y="5516640"/>
            <a:ext cx="936720" cy="360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5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20:49:51Z</dcterms:created>
  <dc:creator>Gebruiker</dc:creator>
  <dc:description/>
  <dc:language>en-US</dc:language>
  <cp:lastModifiedBy>Gebruiker</cp:lastModifiedBy>
  <dcterms:modified xsi:type="dcterms:W3CDTF">2012-01-23T19:35:52Z</dcterms:modified>
  <cp:revision>13</cp:revision>
  <dc:subject/>
  <dc:title>Dia 1</dc:title>
</cp:coreProperties>
</file>