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01%20Sintruin%20begot.wav" ContentType="audio/x-wav"/>
  <Override PartName="/ppt/media/image4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C7A-3FAF-48AE-8075-1E50E702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69B-3070-424C-8D57-FE749D4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F94-4695-464A-8344-F0244891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3DE-9B2E-4C8E-B4D2-32E10EBC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A3B-DAAD-4634-BE0F-B312110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178-68D0-4243-938E-CC912DE6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6E0-73D9-4CF5-B80F-EC1C525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399-D15F-49DA-B518-BC671A95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469-CD6B-45C9-9E1E-621BE3E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9ED-BEA1-4AEC-9B1C-0C7A4CE5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5D4-3A64-43A1-959D-0C893A8E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909-A7E8-4546-A486-39809C5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9B86-D02B-4172-8737-754A72B3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Sintruin%20bego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520" y="727200"/>
            <a:ext cx="8780400" cy="53974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3203640" y="5516640"/>
            <a:ext cx="469584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f5f5f"/>
                </a:solidFill>
                <a:effectLst>
                  <a:outerShdw dist="153753" dir="2700000" blurRad="0" rotWithShape="0">
                    <a:srgbClr val="808080">
                      <a:alpha val="80000"/>
                    </a:srgbClr>
                  </a:outerShdw>
                </a:effectLst>
                <a:latin typeface="Old English Text MT"/>
              </a:rPr>
              <a:t>St.-Truiden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5f5f5f"/>
              </a:solidFill>
              <a:effectLst>
                <a:outerShdw dist="153753" dir="2700000" blurRad="0" rotWithShape="0">
                  <a:srgbClr val="808080">
                    <a:alpha val="8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</p:spTree>
  </p:cSld>
  <p:transition spd="med" advTm="5000">
    <p:newsflash/>
    <p:sndAc>
      <p:stSnd>
        <p:snd r:embed="rId2" name="01%20Sintruin%20bego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9520" y="730080"/>
            <a:ext cx="8186760" cy="53992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36680" y="730080"/>
            <a:ext cx="827064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03200" y="730080"/>
            <a:ext cx="8339040" cy="53992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57360" y="100080"/>
            <a:ext cx="4229280" cy="665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7760" y="730080"/>
            <a:ext cx="8450280" cy="53992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1040" y="730080"/>
            <a:ext cx="852192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0040" y="730080"/>
            <a:ext cx="814392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2040" y="730080"/>
            <a:ext cx="835992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0280" y="730080"/>
            <a:ext cx="8623440" cy="53992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plus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3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0760" y="730080"/>
            <a:ext cx="8504280" cy="53992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plus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xit" presetID="55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8200" y="730080"/>
            <a:ext cx="860904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1040" y="730080"/>
            <a:ext cx="852192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xit" presetID="25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040" y="730080"/>
            <a:ext cx="841392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xit" presetID="31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29000" y="101520"/>
            <a:ext cx="4084560" cy="665496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65040" y="730080"/>
            <a:ext cx="841392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xit" presetID="34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4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427640" y="5445000"/>
            <a:ext cx="1800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Old English Text MT"/>
              </a:rPr>
              <a:t>Jan 200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48000" y="2606760"/>
            <a:ext cx="244800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Old English Text MT"/>
              </a:rPr>
              <a:t>Fernan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Old English Text MT"/>
              <a:ea typeface="Old English Tex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Old English Text MT"/>
              </a:rPr>
              <a:t>Mass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89040" y="96840"/>
            <a:ext cx="4164120" cy="665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xit" presetID="35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427640" y="5445000"/>
            <a:ext cx="1800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Old English Text MT"/>
              </a:rPr>
              <a:t>Jan 200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2606760"/>
            <a:ext cx="244800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Old English Text MT"/>
              </a:rPr>
              <a:t>Fernand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Old English Text MT"/>
              <a:ea typeface="Old English Tex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ffffff">
                      <a:alpha val="80000"/>
                    </a:srgbClr>
                  </a:outerShdw>
                </a:effectLst>
                <a:latin typeface="Old English Text MT"/>
              </a:rPr>
              <a:t>Mass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ffffff">
                    <a:alpha val="80000"/>
                  </a:srgbClr>
                </a:outerShdw>
              </a:effectLst>
              <a:latin typeface="Old English Text MT"/>
              <a:ea typeface="Old English Text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0600" y="730080"/>
            <a:ext cx="836460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advTm="5000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5840" y="730080"/>
            <a:ext cx="8572320" cy="539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wheel spokes="8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xit" presetID="53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440" y="728640"/>
            <a:ext cx="8547120" cy="539928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57360" y="100080"/>
            <a:ext cx="4229280" cy="665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xit" presetID="5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89040" y="100080"/>
            <a:ext cx="4164120" cy="66578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xit" presetID="5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78240" y="98280"/>
            <a:ext cx="4186080" cy="66614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xit" presetID="5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77777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78240" y="98280"/>
            <a:ext cx="4186080" cy="666144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</p:spTree>
  </p:cSld>
  <p:transition spd="slow" advTm="5000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xit" presetID="50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7:08:36Z</dcterms:created>
  <dc:creator>Ingrid</dc:creator>
  <dc:description/>
  <dc:language>en-US</dc:language>
  <cp:lastModifiedBy>Ingrid</cp:lastModifiedBy>
  <dcterms:modified xsi:type="dcterms:W3CDTF">2006-01-04T21:20:21Z</dcterms:modified>
  <cp:revision>16</cp:revision>
  <dc:subject/>
  <dc:title>Dia 1</dc:title>
</cp:coreProperties>
</file>