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29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9A7-CA1D-4526-9020-7C7BE3D338F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3 Marcador de número de diapositiva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AB7-8A8E-43AD-8F37-E9BA63DA5DA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59B-3876-4F1F-9389-1AEF78F8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30F-D95B-4F91-830E-4BF88465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22B-230F-4999-82C3-6BF14163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F77-C3FB-4F4D-88C1-EA97A195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FF3E-726C-4035-A1AC-7E0333D3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E7C-4959-4056-BE47-B9492BD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D7DE-DEB7-4C62-98DE-8A802A6B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8CA-8779-4056-9A6C-9AC9C75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88A0-A498-4C94-BDB0-DD596226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19ED-3213-44E0-B022-FD6CE815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0992-D322-4E7C-873D-DE597BA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6CC-C8C1-4B16-85FC-00FDAC5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A96-9A23-41CB-96EA-7AF3C8E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FE04-E8C6-4F4F-9BC2-DAB2868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909-08E0-4E16-9805-F690A19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697E-EFB3-4970-A8E5-55C003FF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96E6-222F-4A10-8BDA-0558D58A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3209C-0D49-4F54-945E-AB758A7A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A854-CB6E-4BC5-ABD0-4F616E57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DE48-7102-42B8-98F5-39888ECA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6B40-00F2-4891-859E-50D44EB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43D6-3877-4F18-BE41-008D35E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52A-3880-4B93-B113-9C3E39EB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5982-A798-4C46-8601-F7C13AD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11C9-F48F-4AD0-9B7A-9561D52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FF6E-44D7-441B-A9B0-16A788E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2A11-09B9-4B33-A3C1-AAC71AB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3DD5-E8B6-4430-9172-00D8D5F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79BB-A1B0-4ACC-85A6-9CC03D5A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9437-1EB0-4582-9BAA-965520E8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9344-9145-4135-B5F3-D44F4E8C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2E8C-68A9-4711-A415-519908A2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04DC-4C08-4E74-B0B7-85F9503F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7B6-01DE-4CF0-AA74-E642A538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28CC-E938-478F-BA22-1C3AFFA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D0EC-9475-4612-A071-C82FFC0A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8B41-398A-4ECE-AFA8-5C7B9C3A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6134-AC28-4007-B6DC-7D0431B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6719-A5EC-4DFF-BE96-C3DE800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5B36-9193-4C5D-ACB7-D9FE903D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F2CA-CABF-45F6-BFD0-5008B7D3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766E-5726-46CC-81DE-C239B3E0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438F-558A-4F83-8FAC-ADFDDD41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6E95-2979-452B-9F0F-07295B6A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A8A-A3F3-4E48-9744-935CC97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B32C-76C2-48EE-A36C-76782CE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47B3-9446-466F-9E4E-B33BE768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4027-27C6-4425-8329-C9F83079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BC38-59E5-40B1-B678-8203A739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18106-E78F-46F8-BFC3-34B9272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7A63-EE3F-4FFA-AF42-D6288F8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0C8F-2984-4D5A-AD53-E551C5F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B3D3-B3FE-4461-8A7B-B91A33FE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C3AC-5635-402D-AD1A-2EB5A875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1DBFA-825E-4646-85A1-B266E7B5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2F-72BA-414F-B393-D716833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2873-6031-4943-B004-51EEBE6C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DB37-40AB-47DB-9CBF-7126211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BB2D-27A1-4740-BAA8-289BAA9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C0346-A2BE-49B4-AB21-18628ADD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3113-D992-46AD-8F99-B9BEBA8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C5B6-DE9E-4882-8282-A337A008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B76D-A70A-41D1-A534-87ADDE4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D970-2785-4695-A57C-669B9F7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0961-4829-4483-A33E-9C5F70A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288A-35E6-45FC-8560-B29FDD7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786-73CA-4A17-AD19-27506A5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08136-2055-46B6-9E7A-37FE1C08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D4D9-30F9-4270-9939-6E2CA51D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943E1-F2A2-400D-8180-471E5FE8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DED2-53A3-4CE6-AD9E-E6474717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8846-FF75-44D2-ACED-381C30F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A5969-DCAE-4E1C-90AE-993EF70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07830-0F65-4CE1-93B5-11A5C02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17BFE-7768-4F82-B4B6-4E7F81D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9661-568A-48F9-9631-5D24D55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135B-7564-4371-81F8-B17229B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6E0-A1E5-49C7-9427-20CB5BA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3B17E-4A32-426D-8CC3-3C60F05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C5636-D94C-4CF3-9BFA-AE03604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9B4F-BB99-4188-99E7-6D3FEBF4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9555-2B3B-4E6A-97B3-A709BCB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A015-D127-4B30-87DC-9340F2CB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A62-E5E5-483F-83EC-1F71944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7191-F11B-4097-BF36-77A8BDBC447A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769D-9BDD-4351-8A33-BAE6E277F782}" type="slidenum">
              <a:rPr b="0" lang="es-P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1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159-3186-4CA5-A44D-68D05A1DB55B}" type="slidenum">
              <a:rPr b="0" lang="es-P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06C-F537-4DE0-B28C-CEF119130741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1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F12-160C-4028-9A53-8AFAF0BCCE5B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E40-D9AF-46FF-803C-FC164A7C6999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7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795-5BAF-4950-B803-F1F58C4E610D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C:\Users\Lidium\AppData\Local\Microsoft\Windows\Temporary Internet Files\Content.IE5\0TDNJWBB\MCj02899560000[1].wmf"/>
          <p:cNvPicPr/>
          <p:nvPr/>
        </p:nvPicPr>
        <p:blipFill>
          <a:blip r:embed="rId2"/>
          <a:stretch/>
        </p:blipFill>
        <p:spPr>
          <a:xfrm>
            <a:off x="1620720" y="-19080"/>
            <a:ext cx="7005600" cy="10083960"/>
          </a:xfrm>
          <a:prstGeom prst="rect">
            <a:avLst/>
          </a:prstGeom>
          <a:ln w="0">
            <a:noFill/>
          </a:ln>
        </p:spPr>
      </p:pic>
      <p:pic>
        <p:nvPicPr>
          <p:cNvPr id="311" name="1 Título" descr=""/>
          <p:cNvPicPr/>
          <p:nvPr/>
        </p:nvPicPr>
        <p:blipFill>
          <a:blip r:embed="rId3"/>
          <a:stretch/>
        </p:blipFill>
        <p:spPr>
          <a:xfrm>
            <a:off x="165240" y="993600"/>
            <a:ext cx="8850240" cy="22258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-285840" y="4857480"/>
            <a:ext cx="9501120" cy="18572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b0f0"/>
                </a:solidFill>
                <a:latin typeface="Corbel"/>
              </a:rPr>
              <a:t>    </a:t>
            </a:r>
            <a:r>
              <a:rPr b="1" lang="es-PE" sz="4400" spc="-1" strike="noStrike" u="sng">
                <a:solidFill>
                  <a:srgbClr val="00b0f0"/>
                </a:solidFill>
                <a:uFillTx/>
                <a:latin typeface="Corbel"/>
              </a:rPr>
              <a:t>DEFINICIÓN</a:t>
            </a:r>
            <a:r>
              <a:rPr b="1" lang="es-PE" sz="4400" spc="-1" strike="noStrike">
                <a:solidFill>
                  <a:srgbClr val="00b0f0"/>
                </a:solidFill>
                <a:latin typeface="Corbe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lang="es-PE" sz="4400" spc="-1" strike="noStrike">
                <a:solidFill>
                  <a:srgbClr val="ffffff"/>
                </a:solidFill>
                <a:latin typeface="Corbel"/>
              </a:rPr>
              <a:t>Ciencia que estudia el procesamiento automático de la información"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2"/>
          <a:stretch/>
        </p:blipFill>
        <p:spPr>
          <a:xfrm>
            <a:off x="-171360" y="-19080"/>
            <a:ext cx="9443880" cy="2706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f0"/>
                </a:solidFill>
                <a:latin typeface="Corbel"/>
              </a:rPr>
              <a:t>Distinguimos diversos tipos de periférico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os periféricos de entra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TECLADO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RAT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La TABLETA GRÁFIC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ESCÁNER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La CÁMARA DE VÍDEO, etc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8" name="Picture 1" descr="C:\Users\Lidium\AppData\Local\Microsoft\Windows\Temporary Internet Files\Content.IE5\G91N2QRC\MCj03984850000[1].wmf"/>
          <p:cNvPicPr/>
          <p:nvPr/>
        </p:nvPicPr>
        <p:blipFill>
          <a:blip r:embed="rId3"/>
          <a:stretch/>
        </p:blipFill>
        <p:spPr>
          <a:xfrm>
            <a:off x="6072120" y="3571920"/>
            <a:ext cx="2784600" cy="1000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Lidium\AppData\Local\Microsoft\Windows\Temporary Internet Files\Content.IE5\NRMO6C2V\MCj03968820000[1].wmf"/>
          <p:cNvPicPr/>
          <p:nvPr/>
        </p:nvPicPr>
        <p:blipFill>
          <a:blip r:embed="rId4"/>
          <a:stretch/>
        </p:blipFill>
        <p:spPr>
          <a:xfrm>
            <a:off x="6215040" y="4929120"/>
            <a:ext cx="23796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2"/>
          <a:stretch/>
        </p:blipFill>
        <p:spPr>
          <a:xfrm>
            <a:off x="615960" y="115920"/>
            <a:ext cx="8156520" cy="16462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3840" y="2857320"/>
            <a:ext cx="8736120" cy="34290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a PANTALLA o MONITOR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a IMPRESO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os ALTAVOC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El CONVERTIDOR DIGITAL-ANALÓGICO, etc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2" name="Picture 1" descr="C:\Users\Lidium\AppData\Local\Microsoft\Windows\Temporary Internet Files\Content.IE5\G91N2QRC\MCj04315660000[1].png"/>
          <p:cNvPicPr/>
          <p:nvPr/>
        </p:nvPicPr>
        <p:blipFill>
          <a:blip r:embed="rId3"/>
          <a:stretch/>
        </p:blipFill>
        <p:spPr>
          <a:xfrm>
            <a:off x="7238880" y="1357200"/>
            <a:ext cx="1905120" cy="1917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C:\Users\Lidium\AppData\Local\Microsoft\Windows\Temporary Internet Files\Content.IE5\XF14Q7GL\MCj04040510000[1].wmf"/>
          <p:cNvPicPr/>
          <p:nvPr/>
        </p:nvPicPr>
        <p:blipFill>
          <a:blip r:embed="rId4"/>
          <a:stretch/>
        </p:blipFill>
        <p:spPr>
          <a:xfrm>
            <a:off x="7143840" y="3571920"/>
            <a:ext cx="1841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8028000" cy="1766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Program Files\Microsoft Office\MEDIA\CAGCAT10\j0283209.gif"/>
          <p:cNvPicPr/>
          <p:nvPr/>
        </p:nvPicPr>
        <p:blipFill>
          <a:blip r:embed="rId3"/>
          <a:stretch/>
        </p:blipFill>
        <p:spPr>
          <a:xfrm>
            <a:off x="1847880" y="2041560"/>
            <a:ext cx="5864040" cy="4968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ffffff"/>
                </a:solidFill>
                <a:latin typeface="Corbel"/>
              </a:rPr>
              <a:t>Las computadoras son esenciales para enfrentar el reto de la competencia global, donde los negocios deben ser eficientes y sensibles a las necesidades y producir bienes y servicios de alta calidad a un costo siempre mas bajo.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2"/>
          <a:stretch/>
        </p:blipFill>
        <p:spPr>
          <a:xfrm>
            <a:off x="-6480" y="-79200"/>
            <a:ext cx="9333000" cy="25113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2571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área Administra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toma de decisi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educ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Naveg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Aeronáutic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Cienc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transporte urban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industr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vigilanc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campo de la medicin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9" name="Picture 2" descr="C:\Users\Lidium\AppData\Local\Microsoft\Windows\Temporary Internet Files\Content.IE5\G91N2QRC\MPj04312440000[1].jpg"/>
          <p:cNvPicPr/>
          <p:nvPr/>
        </p:nvPicPr>
        <p:blipFill>
          <a:blip r:embed="rId3"/>
          <a:stretch/>
        </p:blipFill>
        <p:spPr>
          <a:xfrm>
            <a:off x="4143240" y="3000240"/>
            <a:ext cx="5000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2"/>
          <a:stretch/>
        </p:blipFill>
        <p:spPr>
          <a:xfrm>
            <a:off x="182520" y="66600"/>
            <a:ext cx="5602320" cy="993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INCREMENTO DE LA PRODUCTIVIDAD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MEJORAR LA TOMA DE DECISIONES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MEJORAR LA CALIDAD DEL TRABAJO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24000" y="393372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CASIONAR PROBLEMAS DE ADAPTACION O RESISTENCIA AL CAMBIO. DESPLAZAMIENTOS TR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SEGURIDAD Y ACCESO, MAL U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EPENDENCIA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E INDIVIDUALIS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84360" y="2852640"/>
            <a:ext cx="698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c800"/>
                </a:solidFill>
                <a:latin typeface="Corbel"/>
              </a:rPr>
              <a:t>DESVENTAJAS, podría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1 Título"/>
          <p:cNvSpPr/>
          <p:nvPr/>
        </p:nvSpPr>
        <p:spPr>
          <a:xfrm>
            <a:off x="3500280" y="285840"/>
            <a:ext cx="56437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ffc800"/>
                </a:solidFill>
                <a:latin typeface="Corbel"/>
              </a:rPr>
              <a:t>Desafíos y Oportunidad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Subtítulo"/>
          <p:cNvSpPr/>
          <p:nvPr/>
        </p:nvSpPr>
        <p:spPr>
          <a:xfrm>
            <a:off x="571680" y="3429000"/>
            <a:ext cx="464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0000"/>
                </a:solidFill>
                <a:latin typeface="Corbel"/>
              </a:rPr>
              <a:t>Cambio cultura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orporativo2"/>
          <p:cNvPicPr/>
          <p:nvPr/>
        </p:nvPicPr>
        <p:blipFill>
          <a:blip r:embed="rId1"/>
          <a:stretch/>
        </p:blipFill>
        <p:spPr>
          <a:xfrm>
            <a:off x="428760" y="214200"/>
            <a:ext cx="2805120" cy="2571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oll"/>
          <p:cNvPicPr/>
          <p:nvPr/>
        </p:nvPicPr>
        <p:blipFill>
          <a:blip r:embed="rId2"/>
          <a:stretch/>
        </p:blipFill>
        <p:spPr>
          <a:xfrm>
            <a:off x="5715000" y="3214800"/>
            <a:ext cx="2760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1 Título"/>
          <p:cNvSpPr/>
          <p:nvPr/>
        </p:nvSpPr>
        <p:spPr>
          <a:xfrm>
            <a:off x="3886200" y="3786120"/>
            <a:ext cx="49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c800"/>
                </a:solidFill>
                <a:latin typeface="Corbel"/>
              </a:rPr>
              <a:t>Liderazgo fuerte</a:t>
            </a:r>
            <a:br>
              <a:rPr sz="5000"/>
            </a:br>
            <a:r>
              <a:rPr b="1" lang="es-PE" sz="5000" spc="-1" strike="noStrike">
                <a:solidFill>
                  <a:srgbClr val="ffc800"/>
                </a:solidFill>
                <a:latin typeface="Corbel"/>
              </a:rPr>
              <a:t>y sosteni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plan"/>
          <p:cNvPicPr/>
          <p:nvPr/>
        </p:nvPicPr>
        <p:blipFill>
          <a:blip r:embed="rId1"/>
          <a:stretch/>
        </p:blipFill>
        <p:spPr>
          <a:xfrm>
            <a:off x="5715000" y="357120"/>
            <a:ext cx="299880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j0233018"/>
          <p:cNvPicPr/>
          <p:nvPr/>
        </p:nvPicPr>
        <p:blipFill>
          <a:blip r:embed="rId2"/>
          <a:stretch/>
        </p:blipFill>
        <p:spPr>
          <a:xfrm>
            <a:off x="928800" y="2928960"/>
            <a:ext cx="2678040" cy="3440160"/>
          </a:xfrm>
          <a:prstGeom prst="rect">
            <a:avLst/>
          </a:prstGeom>
          <a:ln w="0">
            <a:noFill/>
          </a:ln>
        </p:spPr>
      </p:pic>
      <p:sp>
        <p:nvSpPr>
          <p:cNvPr id="361" name="1 Título"/>
          <p:cNvSpPr/>
          <p:nvPr/>
        </p:nvSpPr>
        <p:spPr>
          <a:xfrm>
            <a:off x="609480" y="426960"/>
            <a:ext cx="52578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000000"/>
                </a:solidFill>
                <a:latin typeface="Corbel"/>
              </a:rPr>
              <a:t>Incentivar la particip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1 Título" descr=""/>
          <p:cNvPicPr/>
          <p:nvPr/>
        </p:nvPicPr>
        <p:blipFill>
          <a:blip r:embed="rId2"/>
          <a:stretch/>
        </p:blipFill>
        <p:spPr>
          <a:xfrm>
            <a:off x="3571920" y="493560"/>
            <a:ext cx="4651200" cy="1238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429000" y="3071880"/>
            <a:ext cx="5286240" cy="35719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NICAMA, Anabeth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RANGO,  Migu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ROCUTIPA, Juan David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CHACON, Ruth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CRUZ, Frank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MINAYA, Vladimir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4" name="Picture 6" descr="todos"/>
          <p:cNvPicPr/>
          <p:nvPr/>
        </p:nvPicPr>
        <p:blipFill>
          <a:blip r:embed="rId3"/>
          <a:stretch/>
        </p:blipFill>
        <p:spPr>
          <a:xfrm>
            <a:off x="428760" y="1214280"/>
            <a:ext cx="278604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19280" y="311040"/>
            <a:ext cx="7900920" cy="6796080"/>
          </a:xfrm>
          <a:prstGeom prst="rect">
            <a:avLst/>
          </a:prstGeom>
          <a:ln w="0">
            <a:noFill/>
          </a:ln>
        </p:spPr>
      </p:pic>
      <p:sp>
        <p:nvSpPr>
          <p:cNvPr id="314" name="1 Rectángulo"/>
          <p:cNvSpPr/>
          <p:nvPr/>
        </p:nvSpPr>
        <p:spPr>
          <a:xfrm>
            <a:off x="500040" y="699840"/>
            <a:ext cx="8143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rbel"/>
              </a:rPr>
              <a:t>Conceptualmente, se puede entender como aquella disciplina encargada del estudio de métodos, procesos, técnicas, desarrollos y su utilización en ordenadores (computadores), con el fin de almacenar, procesar y transmitir información y datos en formato dig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72440" y="4212720"/>
            <a:ext cx="56912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2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572760" y="557172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Program Files\Microsoft Office\MEDIA\CAGCAT10\j0234657.wmf"/>
          <p:cNvPicPr/>
          <p:nvPr/>
        </p:nvPicPr>
        <p:blipFill>
          <a:blip r:embed="rId2"/>
          <a:stretch/>
        </p:blipFill>
        <p:spPr>
          <a:xfrm>
            <a:off x="347760" y="1736640"/>
            <a:ext cx="9534600" cy="7315200"/>
          </a:xfrm>
          <a:prstGeom prst="rect">
            <a:avLst/>
          </a:prstGeom>
          <a:ln w="0">
            <a:noFill/>
          </a:ln>
        </p:spPr>
      </p:pic>
      <p:pic>
        <p:nvPicPr>
          <p:cNvPr id="318" name="1 Título" descr=""/>
          <p:cNvPicPr/>
          <p:nvPr/>
        </p:nvPicPr>
        <p:blipFill>
          <a:blip r:embed="rId3"/>
          <a:stretch/>
        </p:blipFill>
        <p:spPr>
          <a:xfrm>
            <a:off x="-6480" y="-6480"/>
            <a:ext cx="9315720" cy="2408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143280" y="3357720"/>
            <a:ext cx="9286920" cy="300024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ectura, escritura, copia, traducción, transmisión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Ordenación, clasificación, comparación, archivo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Cálculo, análisis, síntesis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1584360" y="804960"/>
            <a:ext cx="5280120" cy="5029200"/>
          </a:xfrm>
          <a:prstGeom prst="rect">
            <a:avLst/>
          </a:prstGeom>
          <a:ln w="0">
            <a:noFill/>
          </a:ln>
        </p:spPr>
      </p:pic>
      <p:pic>
        <p:nvPicPr>
          <p:cNvPr id="321" name="1 Título" descr=""/>
          <p:cNvPicPr/>
          <p:nvPr/>
        </p:nvPicPr>
        <p:blipFill>
          <a:blip r:embed="rId3"/>
          <a:stretch/>
        </p:blipFill>
        <p:spPr>
          <a:xfrm>
            <a:off x="-171360" y="-23760"/>
            <a:ext cx="9480600" cy="3565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3785760"/>
            <a:ext cx="9286920" cy="30718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Un comerciante trabaja con productos, precios, cliente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Un arquitecto manipula fórmulas, plano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Un estudiante trabaja con textos, problemas, ejercicio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2"/>
          <a:stretch/>
        </p:blipFill>
        <p:spPr>
          <a:xfrm>
            <a:off x="-139680" y="208080"/>
            <a:ext cx="9416880" cy="2193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2999880"/>
            <a:ext cx="9144000" cy="364356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orbel"/>
              </a:rPr>
              <a:t>Siempre contempla tres fase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LOS ORDENADO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LA UNIDAD CENTR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LOS PERIFÉRICOS E INTERFICIES DE COMUNIC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5" name="Picture 1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5357880" y="3429000"/>
            <a:ext cx="3470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2"/>
          <a:stretch/>
        </p:blipFill>
        <p:spPr>
          <a:xfrm>
            <a:off x="-165240" y="-219240"/>
            <a:ext cx="9468000" cy="27972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8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Los ordenadores están integrados por un conjunto de máquinas y dispositivos que trabajan de manera sincronizada para procesar automáticamente la información. El conjunto de elementos físicos que integran un ordenador se denomina HARDWA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Además requieren unos programas que indiquen el tipo de tratamiento que han de realizar a la información. Los programas que usen los ordenadores se denominan SOFTWA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2"/>
          <a:stretch/>
        </p:blipFill>
        <p:spPr>
          <a:xfrm>
            <a:off x="-231840" y="-96840"/>
            <a:ext cx="9601200" cy="26812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571480"/>
            <a:ext cx="9144000" cy="450036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Son programables. Ejecutan las instrucciones que reciben a través de un program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Versatilidad. Podemos realizar diversos trabajos: escribir cartas, dibujar planos, controlar otras máquinas, explicar una lección, jugar a ajedrez..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Interactividad. Mantienen diálogos con los sus usuarios y actúan en función de sus ordenes y accione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Capacidad d e almacenar. Almacenan grandes cantidades de información en unos discos muy pequeño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Rapidez. Hacen los trabajos con más rapidez que las persona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2"/>
          <a:stretch/>
        </p:blipFill>
        <p:spPr>
          <a:xfrm>
            <a:off x="-201600" y="-219240"/>
            <a:ext cx="9540720" cy="2700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Su potencia viene determinada por los siguientes factores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a capacidad de memoria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a rapidez en procesar datos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os periféricos que puede controlar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server"/>
          <p:cNvSpPr/>
          <p:nvPr/>
        </p:nvSpPr>
        <p:spPr>
          <a:xfrm>
            <a:off x="7000920" y="36432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Título" descr=""/>
          <p:cNvPicPr/>
          <p:nvPr/>
        </p:nvPicPr>
        <p:blipFill>
          <a:blip r:embed="rId2"/>
          <a:stretch/>
        </p:blipFill>
        <p:spPr>
          <a:xfrm>
            <a:off x="341280" y="237960"/>
            <a:ext cx="8448840" cy="17002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2857680"/>
            <a:ext cx="9144000" cy="40003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Memoria inter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Memoria ROM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 Memoria RAM.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 Memoria de configuració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Unidad central de proceso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Controlador de periférico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Los usb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tower"/>
          <p:cNvSpPr/>
          <p:nvPr/>
        </p:nvSpPr>
        <p:spPr>
          <a:xfrm>
            <a:off x="6715080" y="3429000"/>
            <a:ext cx="1714680" cy="2714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52:55Z</dcterms:created>
  <dc:creator>Lidium</dc:creator>
  <dc:description/>
  <dc:language>en-US</dc:language>
  <cp:lastModifiedBy>ISTPH</cp:lastModifiedBy>
  <dcterms:modified xsi:type="dcterms:W3CDTF">2002-05-13T15:12:08Z</dcterms:modified>
  <cp:revision>34</cp:revision>
  <dc:subject/>
  <dc:title>LA INFORMATICA</dc:title>
</cp:coreProperties>
</file>